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wmf" ContentType="image/x-wmf"/>
  <Override PartName="/ppt/media/image14.wmf" ContentType="image/x-wmf"/>
  <Override PartName="/ppt/media/image9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6.wmf" ContentType="image/x-wmf"/>
  <Override PartName="/ppt/media/image7.png" ContentType="image/png"/>
  <Override PartName="/ppt/media/image11.wmf" ContentType="image/x-wmf"/>
  <Override PartName="/ppt/media/image8.wmf" ContentType="image/x-wmf"/>
  <Override PartName="/ppt/media/image5.png" ContentType="image/png"/>
  <Override PartName="/ppt/media/image13.wmf" ContentType="image/x-wmf"/>
  <Override PartName="/ppt/media/image10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43BF-CC91-43AE-9F47-7B754812A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9EDB-07EA-44A1-974E-AEDE9572A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A521-AABC-4568-B437-8467402EE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8223-F5F7-464A-BCCE-7E2EFE437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EE771-F830-462C-93E5-7825EBCE3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52E5B-7AE8-4782-B442-C8434DF4A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9FC35-4A7C-43D5-9A20-C00642344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45A4C-0519-4C94-B988-6AB4BFF1F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2F513-917D-49AA-B340-9BDA3F922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870B2-15F8-46F4-BA2B-8565B5F1A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E98C1-E4BF-4F6E-9C17-0E6515E19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33F8-EB1E-4520-95E1-DF2EE454F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34C8C-C70B-4846-9465-7D6A16F5E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02DED-0BFE-4A74-A466-E0715FE96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BA550-4A9D-444D-9C07-B000FBD8D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8A7AC-B848-4422-BA54-D3A89CE86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578AF-E646-454A-BE93-48A5303D3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8218-5453-490D-8CBD-33223EBAE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9DEB-A708-4D7C-A477-49AF026A1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392B-8395-458B-99F2-5816E105F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D271-6541-4D84-A1D8-0AF4E4371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682E-85FE-4C3B-AA2C-15907705A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FBCB-B503-4F10-835A-136A38FC1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BC50-F3C8-457D-8A04-1F53F91E3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86374-00F3-48B1-A5D9-E18E32B332D4}" type="slidenum">
              <a:rPr b="0" lang="fr-F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28307-47E7-42A1-8A7B-81F3B1A26F23}" type="slidenum">
              <a:rPr b="0" lang="fr-FR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image" Target="../media/image11.wmf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12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TEST d’activités mentales n°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Indiquez vos NOM, Prénom et Classe sur la fiche répons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Indiquer la lettre du sujet traité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Répondez brièvement sur la fiche en respectant rigoureusement la numérotation des question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advTm="45000"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916000" y="-360"/>
            <a:ext cx="327636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Question 9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324000" y="3860640"/>
            <a:ext cx="3809880" cy="20908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5003640" y="3933720"/>
            <a:ext cx="3810240" cy="19335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4500720" y="2781360"/>
            <a:ext cx="0" cy="345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578240" y="6162840"/>
            <a:ext cx="148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dd70d"/>
                </a:solidFill>
                <a:latin typeface="Times New Roman"/>
              </a:rPr>
              <a:t>Suje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796360" y="6162840"/>
            <a:ext cx="14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Times New Roman"/>
              </a:rPr>
              <a:t>Suje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68360" y="2133720"/>
            <a:ext cx="3816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257040" indent="-2570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Donner l’ensemble de définition de 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5141880" y="4151160"/>
          <a:ext cx="3822840" cy="1987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41880" y="4151160"/>
                    <a:ext cx="3822840" cy="198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"/>
          <p:cNvSpPr/>
          <p:nvPr/>
        </p:nvSpPr>
        <p:spPr>
          <a:xfrm>
            <a:off x="4716360" y="2133720"/>
            <a:ext cx="3816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marL="240120" indent="-2401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Donner le maximum et le minimum de 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5000"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916000" y="-360"/>
            <a:ext cx="327636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Question 10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324000" y="3860640"/>
            <a:ext cx="3809880" cy="209088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5003640" y="3933720"/>
            <a:ext cx="3810240" cy="193356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4500720" y="2781360"/>
            <a:ext cx="0" cy="345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578240" y="6162840"/>
            <a:ext cx="148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dd70d"/>
                </a:solidFill>
                <a:latin typeface="Times New Roman"/>
              </a:rPr>
              <a:t>Suje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796360" y="6162840"/>
            <a:ext cx="14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Times New Roman"/>
              </a:rPr>
              <a:t>Suje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859280" y="2276640"/>
            <a:ext cx="3816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257040" indent="-2570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Donner l’ensemble de définition de 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5141880" y="4151160"/>
          <a:ext cx="3822840" cy="1987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41880" y="4151160"/>
                    <a:ext cx="3822840" cy="198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"/>
          <p:cNvSpPr/>
          <p:nvPr/>
        </p:nvSpPr>
        <p:spPr>
          <a:xfrm>
            <a:off x="468360" y="2349360"/>
            <a:ext cx="3816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marL="240120" indent="-2401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Donner le maximum et le minimum de 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5000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771640" y="-360"/>
            <a:ext cx="378144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Question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8360" y="2708280"/>
            <a:ext cx="374472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Donner l'image de -1 par la fonction f définie p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042920" y="4508640"/>
            <a:ext cx="2710080" cy="9633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4500720" y="2781360"/>
            <a:ext cx="0" cy="345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578240" y="6162840"/>
            <a:ext cx="148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dd70d"/>
                </a:solidFill>
                <a:latin typeface="Times New Roman"/>
              </a:rPr>
              <a:t>Suje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96360" y="6162840"/>
            <a:ext cx="14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Times New Roman"/>
              </a:rPr>
              <a:t>Suje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716360" y="2708280"/>
            <a:ext cx="44276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Donner l’(les) antécédant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De 0 par la fonction f définie p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5580000" y="4724280"/>
            <a:ext cx="2548080" cy="619200"/>
          </a:xfrm>
          <a:prstGeom prst="rect">
            <a:avLst/>
          </a:prstGeom>
          <a:ln w="0">
            <a:noFill/>
          </a:ln>
        </p:spPr>
      </p:pic>
    </p:spTree>
  </p:cSld>
  <p:transition advTm="45000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700360" y="-360"/>
            <a:ext cx="334944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Question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716000" y="2636640"/>
            <a:ext cx="3745080" cy="12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Donner l'image de -1 par la fonction f définie p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"/>
          <p:cNvSpPr/>
          <p:nvPr/>
        </p:nvSpPr>
        <p:spPr>
          <a:xfrm>
            <a:off x="4500720" y="2781360"/>
            <a:ext cx="0" cy="345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578240" y="6162840"/>
            <a:ext cx="148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dd70d"/>
                </a:solidFill>
                <a:latin typeface="Times New Roman"/>
              </a:rPr>
              <a:t>Suje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796360" y="6162840"/>
            <a:ext cx="14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Times New Roman"/>
              </a:rPr>
              <a:t>Suje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2708280"/>
            <a:ext cx="44276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Donner l’(les) antécédant(s) de 0 par la fonction f définie p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4360" y="4221000"/>
            <a:ext cx="2547720" cy="6192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5292720" y="4221000"/>
            <a:ext cx="2717640" cy="965520"/>
          </a:xfrm>
          <a:prstGeom prst="rect">
            <a:avLst/>
          </a:prstGeom>
          <a:ln w="0">
            <a:noFill/>
          </a:ln>
        </p:spPr>
      </p:pic>
    </p:spTree>
  </p:cSld>
  <p:transition advTm="45000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842920" y="0"/>
            <a:ext cx="349236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Question 3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95280" y="3716280"/>
            <a:ext cx="3610080" cy="19810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5940360" y="2781360"/>
            <a:ext cx="1432080" cy="6192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4932360" y="3645000"/>
            <a:ext cx="3809880" cy="19335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4500720" y="2781360"/>
            <a:ext cx="0" cy="345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78240" y="6162840"/>
            <a:ext cx="148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dd70d"/>
                </a:solidFill>
                <a:latin typeface="Times New Roman"/>
              </a:rPr>
              <a:t>Suje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796360" y="6162840"/>
            <a:ext cx="14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Times New Roman"/>
              </a:rPr>
              <a:t>Suje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79280" y="2205000"/>
            <a:ext cx="3816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Lire graphiqu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716360" y="2133720"/>
            <a:ext cx="3959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Résoudre graphiqu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1042920" y="2852640"/>
            <a:ext cx="695520" cy="6192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>
            <a:off x="1979640" y="2852640"/>
            <a:ext cx="695160" cy="619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6"/>
          <a:stretch/>
        </p:blipFill>
        <p:spPr>
          <a:xfrm>
            <a:off x="2843280" y="2852640"/>
            <a:ext cx="939600" cy="620640"/>
          </a:xfrm>
          <a:prstGeom prst="rect">
            <a:avLst/>
          </a:prstGeom>
          <a:ln w="0">
            <a:noFill/>
          </a:ln>
        </p:spPr>
      </p:pic>
    </p:spTree>
  </p:cSld>
  <p:transition advTm="45000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842920" y="0"/>
            <a:ext cx="349236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Question 4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68360" y="4005360"/>
            <a:ext cx="3610080" cy="19810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1547640" y="2852640"/>
            <a:ext cx="1432080" cy="6192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5867280" y="2852640"/>
            <a:ext cx="1432080" cy="6192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4500720" y="2781360"/>
            <a:ext cx="0" cy="345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578240" y="6162840"/>
            <a:ext cx="148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dd70d"/>
                </a:solidFill>
                <a:latin typeface="Times New Roman"/>
              </a:rPr>
              <a:t>Suje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796360" y="6162840"/>
            <a:ext cx="14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Times New Roman"/>
              </a:rPr>
              <a:t>Suje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9280" y="2205000"/>
            <a:ext cx="3816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Résoudre graphiqu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716360" y="2205000"/>
            <a:ext cx="3959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Résoudre graphiqu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4859280" y="4149720"/>
            <a:ext cx="3809880" cy="1933560"/>
          </a:xfrm>
          <a:prstGeom prst="rect">
            <a:avLst/>
          </a:prstGeom>
          <a:ln w="0">
            <a:noFill/>
          </a:ln>
        </p:spPr>
      </p:pic>
    </p:spTree>
  </p:cSld>
  <p:transition advTm="45000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842920" y="69840"/>
            <a:ext cx="349236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Question 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68360" y="4005360"/>
            <a:ext cx="3610080" cy="19810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859280" y="4149720"/>
            <a:ext cx="3809880" cy="193356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500720" y="2781360"/>
            <a:ext cx="0" cy="345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578240" y="6162840"/>
            <a:ext cx="148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dd70d"/>
                </a:solidFill>
                <a:latin typeface="Times New Roman"/>
              </a:rPr>
              <a:t>Suje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796360" y="6162840"/>
            <a:ext cx="14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Times New Roman"/>
              </a:rPr>
              <a:t>Suje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79280" y="2205000"/>
            <a:ext cx="3816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Résoudre graphiqu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716360" y="2205000"/>
            <a:ext cx="3959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Lire graphiqu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1908000" y="2997360"/>
            <a:ext cx="1432080" cy="61884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>
            <a:off x="5288040" y="2952720"/>
            <a:ext cx="695160" cy="6192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5"/>
          <a:stretch/>
        </p:blipFill>
        <p:spPr>
          <a:xfrm>
            <a:off x="6224760" y="2952720"/>
            <a:ext cx="695160" cy="6192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7088040" y="2952720"/>
            <a:ext cx="939960" cy="620640"/>
          </a:xfrm>
          <a:prstGeom prst="rect">
            <a:avLst/>
          </a:prstGeom>
          <a:ln w="0">
            <a:noFill/>
          </a:ln>
        </p:spPr>
      </p:pic>
    </p:spTree>
  </p:cSld>
  <p:transition advTm="45000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916000" y="-360"/>
            <a:ext cx="327636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Question 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324000" y="3860640"/>
            <a:ext cx="3809880" cy="20908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5003640" y="3933720"/>
            <a:ext cx="3810240" cy="19335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00720" y="2781360"/>
            <a:ext cx="0" cy="345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578240" y="6162840"/>
            <a:ext cx="148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dd70d"/>
                </a:solidFill>
                <a:latin typeface="Times New Roman"/>
              </a:rPr>
              <a:t>Suje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96360" y="6162840"/>
            <a:ext cx="14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Times New Roman"/>
              </a:rPr>
              <a:t>Suje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79280" y="2278080"/>
            <a:ext cx="41767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Donner par lecture graphique le sens de variation de f sur l’intervalle [0;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788000" y="2276640"/>
            <a:ext cx="3816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 marL="233280" indent="-2332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Donner graphiquement le nombre de solutions de l’éq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6156360" y="3213000"/>
            <a:ext cx="1431720" cy="619200"/>
          </a:xfrm>
          <a:prstGeom prst="rect">
            <a:avLst/>
          </a:prstGeom>
          <a:ln w="0">
            <a:noFill/>
          </a:ln>
        </p:spPr>
      </p:pic>
    </p:spTree>
  </p:cSld>
  <p:transition advTm="45000"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916000" y="-360"/>
            <a:ext cx="327636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Question 7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324000" y="3860640"/>
            <a:ext cx="3809880" cy="20908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5003640" y="3933720"/>
            <a:ext cx="3810240" cy="193356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4500720" y="2781360"/>
            <a:ext cx="0" cy="345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578240" y="6162840"/>
            <a:ext cx="148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dd70d"/>
                </a:solidFill>
                <a:latin typeface="Times New Roman"/>
              </a:rPr>
              <a:t>Suje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796360" y="6162840"/>
            <a:ext cx="14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Times New Roman"/>
              </a:rPr>
              <a:t>Suje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716360" y="2060640"/>
            <a:ext cx="41767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Donner par lecture graphique le sens de variation de f sur l’intervalle [0;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68360" y="2133720"/>
            <a:ext cx="3816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 marL="233280" indent="-2332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Donner graphiquement le nombre de solutions de l’éq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1547640" y="3068640"/>
            <a:ext cx="1432080" cy="619200"/>
          </a:xfrm>
          <a:prstGeom prst="rect">
            <a:avLst/>
          </a:prstGeom>
          <a:ln w="0">
            <a:noFill/>
          </a:ln>
        </p:spPr>
      </p:pic>
    </p:spTree>
  </p:cSld>
  <p:transition advTm="45000"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916000" y="-360"/>
            <a:ext cx="327636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Question 8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324000" y="3860640"/>
            <a:ext cx="3809880" cy="20908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5003640" y="3933720"/>
            <a:ext cx="3810240" cy="193356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4500720" y="2781360"/>
            <a:ext cx="0" cy="345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578240" y="6162840"/>
            <a:ext cx="148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dd70d"/>
                </a:solidFill>
                <a:latin typeface="Times New Roman"/>
              </a:rPr>
              <a:t>Suje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796360" y="6162840"/>
            <a:ext cx="14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Times New Roman"/>
              </a:rPr>
              <a:t>Suje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68360" y="2133720"/>
            <a:ext cx="3816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 marL="233280" indent="-2332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Comparer graphiquement les valeurs de f(-3,5) et f(-3,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5141880" y="4151160"/>
          <a:ext cx="3822840" cy="1987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41880" y="4151160"/>
                    <a:ext cx="3822840" cy="198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" name=""/>
          <p:cNvSpPr/>
          <p:nvPr/>
        </p:nvSpPr>
        <p:spPr>
          <a:xfrm>
            <a:off x="4716360" y="2133720"/>
            <a:ext cx="3816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 marL="233280" indent="-2332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Comparer graphiquement les valeurs de f(-2,5) et f(-2,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5000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5T13:12:41Z</dcterms:created>
  <dc:creator>hgc</dc:creator>
  <dc:description/>
  <dc:language>en-US</dc:language>
  <cp:lastModifiedBy>CLEMENT ODILE</cp:lastModifiedBy>
  <dcterms:modified xsi:type="dcterms:W3CDTF">2008-08-17T00:54:57Z</dcterms:modified>
  <cp:revision>15</cp:revision>
  <dc:subject/>
  <dc:title>TEST n°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SE DAP">
    <vt:lpwstr>[ContentDir]\Student\MS\Templates\Groups and Movements\Groups and Movements.xml</vt:lpwstr>
  </property>
  <property fmtid="{D5CDD505-2E9C-101B-9397-08002B2CF9AE}" pid="3" name="SE DAP Check Values">
    <vt:lpwstr>0</vt:lpwstr>
  </property>
  <property fmtid="{D5CDD505-2E9C-101B-9397-08002B2CF9AE}" pid="4" name="SE DAP Default">
    <vt:lpwstr>NODEFAULTDAP</vt:lpwstr>
  </property>
  <property fmtid="{D5CDD505-2E9C-101B-9397-08002B2CF9AE}" pid="5" name="SE DAP Window Handle">
    <vt:lpwstr>1639994</vt:lpwstr>
  </property>
  <property fmtid="{D5CDD505-2E9C-101B-9397-08002B2CF9AE}" pid="6" name="SE Mode">
    <vt:lpwstr>student</vt:lpwstr>
  </property>
  <property fmtid="{D5CDD505-2E9C-101B-9397-08002B2CF9AE}" pid="7" name="Version">
    <vt:r8>5</vt:r8>
  </property>
</Properties>
</file>