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5BE-D94D-4F4E-8731-B15F57C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F49-D8B9-4D93-96C1-6395511A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7DC-F45D-4DA1-B2C1-2892012E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369-B8D8-44EF-9410-08478288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2B2-E830-44BC-A5BF-72B7C6AC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6705-DB79-49E4-82AA-24F9167E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2319-25AA-40F8-8FEC-E47BB4F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A40-BDC6-4714-A5FF-F9B8C21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D70-56D2-4591-8C65-2DA2020C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EC42-FF27-4DF4-8A9E-CFE3B6B6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2DC-894A-45EB-A30A-CF29769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D99-D7D4-4307-80B6-467DAD8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1FB0-EDC2-41F3-936D-C05A2E4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A73F-1523-4FFA-9714-828319C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2629-35F5-489A-AAAD-CF79FCF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8FB-0892-48B0-B837-2758D18E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DA20-9EAD-4EDC-BB0F-6298B7B1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CA5-0FB0-49C6-BC0F-53529D43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CBB-8CE9-4FE6-97AD-5207310A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69B-9197-431F-8D26-D577BE2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895-55F8-479D-8F5D-428B9A2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739-E664-4D4E-9CE1-9F9C5DD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A91-3EC9-41B4-A198-7A6F53A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73D-B178-4669-BFE5-331F5EAC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FB8-0409-401F-8123-1D194146ACFE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E52B-9672-4A28-84CB-C0A3369E85C2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4720" y="364500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64500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s de 1 par la fonction f définie par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27640" y="3213000"/>
          <a:ext cx="38844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213000"/>
                    <a:ext cx="388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ress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 – 1)(x + 1) + (x + 2)(x – 1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-elle une somme ou un produit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alors le nombre de termes ou de fac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 l’express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x² – (x + 1)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dans l'équat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+2)² – 1 =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fonction f définie par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(x-1)² - x²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st-elle affine ? 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i oui l’écrire sous forme réduite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mx +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’expression de la fonction affine telle qu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0) = 3  et f( 6) = -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357336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57336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5T21:04:41Z</dcterms:modified>
  <cp:revision>10</cp:revision>
  <dc:subject/>
  <dc:title>Donner l'image de -1 par la fonction f définie par </dc:title>
</cp:coreProperties>
</file>