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1032-0B25-4236-9C1C-55DB1372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8101-2CDE-4B21-AC2F-66565174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A2D8-197B-41AC-A6A5-982B315D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95C5-BFC8-4C3F-AC7F-A90B8C0A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BC81-DACB-477B-85DC-40FD4B58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61EE-CAC6-469E-B210-867C08BF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AF9D-0035-48D9-BF8C-BBFDB9A6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821A-9B8A-4A86-8F45-1CB56250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FD4B-D662-4FFB-824E-550756BF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266E-3C73-44E4-AB74-B2CCF109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616F-2664-44D2-ACCC-A74A2835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707D-150F-4B38-ADC0-D63BF1D1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BEDA-0813-4B00-8C25-3275E67E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3DC5-7692-4A06-99C1-9D7CE63C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69F0-407D-4076-B628-33E467CA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4381-6442-434A-93A8-092BD4D1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3CFC-6C0F-496C-A04A-05C5033D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3F9D-A75C-4E15-8EE8-506EBC88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3334-C645-42CF-8808-48CCC2A0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707A-A615-4033-A459-54740C42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0CC8-C89C-417B-914B-BF2E6E15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BD6D-A476-4D7A-8997-5B9DE098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83DA-19A9-4732-B0C2-30B85883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641D-A422-4B25-8647-ED505EFD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BE02-B0FF-4A4B-8878-D93DFD4081EB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A19F-E471-4666-A7AA-7FD63A5D0373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EST d’activités mentales n°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diquez vos NOM, Prénom et Classe sur la fiche répon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pondez brièvement sur la fiche en respectant rigoureusement la numérotation des ques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ponse possible: « ..est un quadrilatère sans nom particulier 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320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278136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diagonales perpendiculaires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3280" y="2852640"/>
            <a:ext cx="4211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diagonales perpendiculaires et qui se coupent en leurs milieux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320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314172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côtés opposés parallèles et des diagonales de mêmes longueur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16360" y="306864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côtés consécutifs perpendiculaires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87640" y="502920"/>
            <a:ext cx="30765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2852640"/>
            <a:ext cx="4211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quadrilatère qui admet des côtés opposés parallèles est un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16360" y="278136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quadrilatère qui admet des diagonales de mêmes longueurs est un…..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87640" y="502920"/>
            <a:ext cx="30765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2781000"/>
            <a:ext cx="42116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côtés opposés parallèles et de mêmes longueurs est un…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4643280" y="278136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diagonales perpendiculaires et de mêmes longueurs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320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263700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diagonales perpendiculaires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63700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diagonales perpendiculaires et de mêmes longueurs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320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335772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diagonales qui se coupent en leurs milieux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43280" y="335772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côtés opposés parallèles et des diagonales de mêmes longueur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320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335772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diagonales perpendiculaires et qui se coupent en leurs milieux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335772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côtés opposés parallèles et de mêmes longueur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320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335772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côtés opposés de mêmes longueurs et des diagonales de mêmes longueurs,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2920" y="3357360"/>
            <a:ext cx="42116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quadrilatère qui admet des côtés opposés parallèles est un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320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99736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côtés opposés parallèles et de mêmes longueur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06864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 quadrilatère qui admet des côtés consécutifs perpendiculaires est u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320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2924280"/>
            <a:ext cx="421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quadrilatère qui admet des diagonales de mêmes longueurs est un…..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858920" y="2565000"/>
            <a:ext cx="37450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 quadrilatère qui admet des côtés opposés de mêmes longueurs et des diagonales de mêmes longueurs, est un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3:12:41Z</dcterms:created>
  <dc:creator>hgc</dc:creator>
  <dc:description/>
  <dc:language>en-US</dc:language>
  <cp:lastModifiedBy>CLEMENT ODILE</cp:lastModifiedBy>
  <dcterms:modified xsi:type="dcterms:W3CDTF">2008-08-17T00:57:33Z</dcterms:modified>
  <cp:revision>14</cp:revision>
  <dc:subject/>
  <dc:title>TEST n°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E DAP">
    <vt:lpwstr>[ContentDir]\Student\MS\Templates\Groups and Movements\Groups and Movements.xml</vt:lpwstr>
  </property>
  <property fmtid="{D5CDD505-2E9C-101B-9397-08002B2CF9AE}" pid="3" name="SE DAP Check Values">
    <vt:lpwstr>0</vt:lpwstr>
  </property>
  <property fmtid="{D5CDD505-2E9C-101B-9397-08002B2CF9AE}" pid="4" name="SE DAP Default">
    <vt:lpwstr>NODEFAULTDAP</vt:lpwstr>
  </property>
  <property fmtid="{D5CDD505-2E9C-101B-9397-08002B2CF9AE}" pid="5" name="SE DAP Window Handle">
    <vt:lpwstr>329242</vt:lpwstr>
  </property>
  <property fmtid="{D5CDD505-2E9C-101B-9397-08002B2CF9AE}" pid="6" name="SE Mode">
    <vt:lpwstr>student</vt:lpwstr>
  </property>
  <property fmtid="{D5CDD505-2E9C-101B-9397-08002B2CF9AE}" pid="7" name="Version">
    <vt:r8>5</vt:r8>
  </property>
</Properties>
</file>