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9F5-B65E-4AE8-9DE5-DBF19D61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347-478A-43B1-85B2-E1ADE731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BC6-1373-4122-8C61-D0860313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04D-F4B0-4F81-A53E-64E5736C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5536-08B9-4F09-916A-E8DFC370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CFFA-519C-42B3-80C4-FB7C9F45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C48E-3F3F-4111-91E5-C9B9C3B9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2111-4FB1-45B2-8557-B1CB241C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EFD0-1978-469A-8507-4C2A2E87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F57C-0996-464A-BB7C-1B43C4D5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0CD2-DC3E-432B-AF42-0D98138D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D11-89A0-4C71-B17D-94B7A6F6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24DF-226C-4DC8-A4CE-615D1F56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FB80-14B3-4300-AE9D-95A9455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32FB-B837-419B-B8F0-A718FD39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6CAC-31F5-4DD8-8A60-2CA3968C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F6D8-E88C-4A61-B6E6-5ECC81A0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565-AFE8-4F62-AFAE-A34F2D30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625-41AD-4265-AB40-27A7590C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606-8658-4317-BC45-97394B5D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068-7FB9-437F-84CB-B64035FD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3ED-263A-4839-92DD-021C21A0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6EF-81B4-440A-B469-4696D9DE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7C3-81FE-4FF0-A291-FFE8EBA2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4B36-B57A-4D48-A948-D883F2865D07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5A93-D0D0-43DC-A26B-A76ED5608ACD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4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54080" y="3716280"/>
          <a:ext cx="62182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4080" y="3716280"/>
                    <a:ext cx="6218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54080" y="3716280"/>
          <a:ext cx="62182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4080" y="3716280"/>
                    <a:ext cx="6218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7400" y="1484280"/>
          <a:ext cx="361296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7400" y="1484280"/>
                    <a:ext cx="3612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4429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630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96072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2484360" y="2205000"/>
          <a:ext cx="914400" cy="72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205000"/>
                    <a:ext cx="9144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788000" y="2205000"/>
          <a:ext cx="86832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205000"/>
                    <a:ext cx="8683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630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960720" cy="28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484360" y="2276640"/>
          <a:ext cx="91440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2276640"/>
                    <a:ext cx="91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2276640"/>
          <a:ext cx="91296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276640"/>
                    <a:ext cx="9129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771640" y="2276640"/>
          <a:ext cx="9144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276640"/>
                    <a:ext cx="91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48360" y="2276640"/>
          <a:ext cx="91260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276640"/>
                    <a:ext cx="9126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195640" y="3213000"/>
            <a:ext cx="54720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360" y="1484280"/>
          <a:ext cx="351972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35197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54723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0" y="137124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62280" y="1484280"/>
          <a:ext cx="49816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484280"/>
                    <a:ext cx="4981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54723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39640" y="112500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imer en fonction des vecteurs      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140360" cy="38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5003640" y="1628640"/>
          <a:ext cx="411480" cy="7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628640"/>
                    <a:ext cx="411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918040" y="1655640"/>
          <a:ext cx="457200" cy="85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18040" y="1655640"/>
                    <a:ext cx="4572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342120" y="2924280"/>
          <a:ext cx="2103480" cy="85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42120" y="2924280"/>
                    <a:ext cx="21034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236000" y="3789360"/>
            <a:ext cx="10792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i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89720" y="5013360"/>
          <a:ext cx="2011320" cy="85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89720" y="5013360"/>
                    <a:ext cx="20113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39640" y="112500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rimer en fonction des vecteurs      e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140360" cy="38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5003640" y="1628640"/>
          <a:ext cx="411480" cy="7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1628640"/>
                    <a:ext cx="411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443640" y="1700280"/>
          <a:ext cx="457200" cy="85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1700280"/>
                    <a:ext cx="4572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342120" y="2924280"/>
          <a:ext cx="2103480" cy="85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42120" y="2924280"/>
                    <a:ext cx="21034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236000" y="3789360"/>
            <a:ext cx="10792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i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489720" y="5013360"/>
          <a:ext cx="2011320" cy="85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89720" y="5013360"/>
                    <a:ext cx="20113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39640" y="1628280"/>
            <a:ext cx="63421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CD est un parallélogramme de centre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348000" y="3716280"/>
          <a:ext cx="342900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3716280"/>
                    <a:ext cx="3429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5:11Z</dcterms:modified>
  <cp:revision>33</cp:revision>
  <dc:subject/>
  <dc:title>Donner l'image de -1 par la fonction f définie par </dc:title>
</cp:coreProperties>
</file>