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1860-B7CD-4D2D-AEDE-DEF81EFA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E95-3CE3-4EAD-90AF-A696821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0CE-CEBF-4659-BFEC-6AD2C6C8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E78-9120-49C5-8060-C7CEBAA0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9FB4-B316-4799-840D-CF6CC79B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346-2CCA-4725-9C43-C7B130FF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30D6-DB69-4075-A2B9-9FF3053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A0CC-D49B-420E-BF78-AB8CEDDC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2CF7-AC6C-4310-AE54-51DED759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E50A-EB80-4B0C-B2F1-71E12538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86EF-01B1-4A8C-A77E-8B93D22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29A-AF7B-4D35-A1DB-A6124B4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47D-1EAF-4CA7-914C-F3200B4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74E3-B75D-49BB-86F6-7FA922E3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8570-A38D-45BA-9D3F-E54DFB40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32FC-31DA-4CE8-8399-663AB687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A405-6358-4FF0-A8A5-AADCF337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A15-EC50-47CB-A1B1-D0FED997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249-71F2-430D-8915-C94F3650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784-C4F4-468C-9BC4-977DE47B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F48-55C6-4430-B032-18717AF9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49A-DD77-48A2-A6C1-3A7A2C9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3BF-B745-4155-BD16-21615307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C04-11C5-4FD9-A8BA-85437BC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A22-EDB8-476F-BAE0-8D8F935F4B27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D776-2292-46E2-B0BC-DA9C0330BDE2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6348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744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5928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 coefficient directeur de la droite (AB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0" y="213372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a hauteur à l’origine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2997360"/>
            <a:ext cx="3886200" cy="305748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716360" y="1916280"/>
            <a:ext cx="37450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1916280"/>
            <a:ext cx="3744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56000" y="1916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01920" y="1851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32360" y="299736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35120" y="206064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8620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3886200" cy="3057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07840" y="1989000"/>
            <a:ext cx="39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onner l’équation de la droite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6:36Z</dcterms:modified>
  <cp:revision>18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