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46FF-5560-41FC-AC8C-C8816F775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1FB7-2B8A-4AEE-9623-49A539199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30E3-30E9-4EA7-A160-D07C75A87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552F-EEDF-46A0-9B32-78BDBF28B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DB3F8-D41A-424A-B036-AC492008A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21553-19E3-47F8-93F6-2D6C365AD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93595-8BA5-44D6-938B-E29FB2EBC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3AB34-547B-42EE-B4BC-02E6B11D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A3B36-926D-40D5-994C-5F660C53F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DCC60-A161-4D45-8CE7-4313159A3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1956E-D28F-42F3-8A37-1B57A06D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DF4C-27C1-4BEE-9D41-5F4428168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37520-1E99-49FF-BCD4-42AA5397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B22EB-7611-4B69-B2EC-E06B699A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763C5-4808-40CC-9579-57C79A89F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D2853-2C52-4321-9100-78835CA7F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272F7-1944-466E-8481-1F808EA0F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D5BD-C641-4533-A80A-252574AB9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564F-D8FB-4294-92CE-8E1B17E33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FD4F-0DFE-4487-AFE4-256B5060E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12DB-663A-468D-B595-25FE620F7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C366-5AA3-4115-A0E8-C9670165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83BF-261B-433E-BD77-DD4F20FD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8467-D228-48F0-8C90-07C2F0D7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52267-99F6-4D08-BFCC-7BA6B2EBEF2D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92A2A-953B-4C55-A471-9B72FE12E226}" type="slidenum">
              <a:rPr b="0" lang="fr-F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EST d’activités mentales n°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Indiquez vos NOM, Prénom et Classe sur la fiche répon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Indiquer la lettre du sujet trait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Répondez brièvement sur la fiche en respectant rigoureusement la numérotation des ques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45000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916000" y="-360"/>
            <a:ext cx="3276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9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24000" y="3860640"/>
            <a:ext cx="3809880" cy="20908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003640" y="3933720"/>
            <a:ext cx="3810240" cy="19335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2133720"/>
            <a:ext cx="381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Donner l’ensemble des valeurs prises par la fonction 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5141880" y="4151160"/>
          <a:ext cx="3822840" cy="198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1880" y="4151160"/>
                    <a:ext cx="382284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4716360" y="2133720"/>
            <a:ext cx="381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Donner le maximum et le minimum de f sur l’intervalle [-4;0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916000" y="-360"/>
            <a:ext cx="3276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10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24000" y="3860640"/>
            <a:ext cx="3809880" cy="20908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003640" y="3933720"/>
            <a:ext cx="3810240" cy="19335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59280" y="2276640"/>
            <a:ext cx="381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Donner l’ensemble des valeurs prises par la fonction 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5141880" y="4151160"/>
          <a:ext cx="3822840" cy="198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1880" y="4151160"/>
                    <a:ext cx="382284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468360" y="2349360"/>
            <a:ext cx="3816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Donner le maximum et le minimum de f sur l’intervalle [0;4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71640" y="-360"/>
            <a:ext cx="378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3744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onner l'image de 2 par la fonction f définie p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042920" y="4508640"/>
            <a:ext cx="2710080" cy="963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716360" y="2708280"/>
            <a:ext cx="4427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onner l’(les) antécédant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e 0 par la fonction f définie p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580000" y="4724280"/>
            <a:ext cx="2548080" cy="619200"/>
          </a:xfrm>
          <a:prstGeom prst="rect">
            <a:avLst/>
          </a:prstGeom>
          <a:ln w="0">
            <a:noFill/>
          </a:ln>
        </p:spPr>
      </p:pic>
    </p:spTree>
  </p:cSld>
  <p:transition advTm="45000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00360" y="-360"/>
            <a:ext cx="334944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716000" y="2636640"/>
            <a:ext cx="374508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onner les valeurs qui n’ont pas d’image par la fonction f définie p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2708280"/>
            <a:ext cx="4427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onner l’image de 0 par la fonction f définie p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4360" y="4221000"/>
            <a:ext cx="2547720" cy="619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292720" y="4221000"/>
            <a:ext cx="2717640" cy="965520"/>
          </a:xfrm>
          <a:prstGeom prst="rect">
            <a:avLst/>
          </a:prstGeom>
          <a:ln w="0">
            <a:noFill/>
          </a:ln>
        </p:spPr>
      </p:pic>
    </p:spTree>
  </p:cSld>
  <p:transition advTm="45000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42920" y="0"/>
            <a:ext cx="349236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95280" y="3716280"/>
            <a:ext cx="3610080" cy="1981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932360" y="3645000"/>
            <a:ext cx="3809880" cy="19335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9280" y="2205000"/>
            <a:ext cx="3816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Lire graphiquement les images de -4 ; 1; et 3 par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16360" y="2133720"/>
            <a:ext cx="3959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Lire graphiquement les antécédents de 0 par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42920" y="0"/>
            <a:ext cx="349236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68360" y="4005360"/>
            <a:ext cx="3610080" cy="19810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2205000"/>
            <a:ext cx="3816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Lire graphiquement les antécédents de 0 par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16360" y="2205000"/>
            <a:ext cx="3959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Résoudre graphiqu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859280" y="4149720"/>
            <a:ext cx="3809880" cy="19335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6012000" y="2708280"/>
            <a:ext cx="1431720" cy="619200"/>
          </a:xfrm>
          <a:prstGeom prst="rect">
            <a:avLst/>
          </a:prstGeom>
          <a:ln w="0">
            <a:noFill/>
          </a:ln>
        </p:spPr>
      </p:pic>
    </p:spTree>
  </p:cSld>
  <p:transition advTm="45000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42920" y="69840"/>
            <a:ext cx="349236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68360" y="4005360"/>
            <a:ext cx="3610080" cy="1981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859280" y="4149720"/>
            <a:ext cx="3809880" cy="19335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2205000"/>
            <a:ext cx="3816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Résoudre graphiqu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16360" y="2205000"/>
            <a:ext cx="3959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Lire graphiquement les images de -4 ; -1; et 5 par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1476360" y="2637000"/>
            <a:ext cx="1432080" cy="618840"/>
          </a:xfrm>
          <a:prstGeom prst="rect">
            <a:avLst/>
          </a:prstGeom>
          <a:ln w="0">
            <a:noFill/>
          </a:ln>
        </p:spPr>
      </p:pic>
    </p:spTree>
  </p:cSld>
  <p:transition advTm="45000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916000" y="-360"/>
            <a:ext cx="3276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24000" y="3860640"/>
            <a:ext cx="3809880" cy="2090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003640" y="3933720"/>
            <a:ext cx="3810240" cy="19335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9280" y="2278080"/>
            <a:ext cx="4176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Donner par lecture graphique le sens de variation de f sur l’intervalle [-4;3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88000" y="2276640"/>
            <a:ext cx="381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Donner graphiquement le nombre de solutions de l’équation f(x)=1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16000" y="-360"/>
            <a:ext cx="3276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24000" y="3860640"/>
            <a:ext cx="3809880" cy="20908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003640" y="3933720"/>
            <a:ext cx="3810240" cy="19335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16360" y="2060640"/>
            <a:ext cx="4176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Donner par lecture graphique le sens de variation de f sur l’intervalle [2;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2133720"/>
            <a:ext cx="381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Donner graphiquement le nombre de solutions de l’équation f(x)=-1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916000" y="-360"/>
            <a:ext cx="3276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8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24000" y="3860640"/>
            <a:ext cx="3809880" cy="20908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003640" y="3933720"/>
            <a:ext cx="3810240" cy="19335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2133720"/>
            <a:ext cx="381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Comparer par lecture graphique les valeurs de f(1,5) et f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5141880" y="4151160"/>
          <a:ext cx="3822840" cy="198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1880" y="4151160"/>
                    <a:ext cx="382284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4716360" y="2133720"/>
            <a:ext cx="381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Comparer par lecture graphique les valeurs de f(2) et f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5T13:12:41Z</dcterms:created>
  <dc:creator>hgc</dc:creator>
  <dc:description/>
  <dc:language>en-US</dc:language>
  <cp:lastModifiedBy>CLEMENT ODILE</cp:lastModifiedBy>
  <dcterms:modified xsi:type="dcterms:W3CDTF">2008-08-17T00:55:54Z</dcterms:modified>
  <cp:revision>17</cp:revision>
  <dc:subject/>
  <dc:title>TEST n°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E DAP">
    <vt:lpwstr>[ContentDir]\Student\MS\Templates\Groups and Movements\Groups and Movements.xml</vt:lpwstr>
  </property>
  <property fmtid="{D5CDD505-2E9C-101B-9397-08002B2CF9AE}" pid="3" name="SE DAP Check Values">
    <vt:lpwstr>0</vt:lpwstr>
  </property>
  <property fmtid="{D5CDD505-2E9C-101B-9397-08002B2CF9AE}" pid="4" name="SE DAP Default">
    <vt:lpwstr>NODEFAULTDAP</vt:lpwstr>
  </property>
  <property fmtid="{D5CDD505-2E9C-101B-9397-08002B2CF9AE}" pid="5" name="SE DAP Window Handle">
    <vt:lpwstr>1639994</vt:lpwstr>
  </property>
  <property fmtid="{D5CDD505-2E9C-101B-9397-08002B2CF9AE}" pid="6" name="SE Mode">
    <vt:lpwstr>student</vt:lpwstr>
  </property>
  <property fmtid="{D5CDD505-2E9C-101B-9397-08002B2CF9AE}" pid="7" name="Version">
    <vt:r8>5</vt:r8>
  </property>
</Properties>
</file>