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D761-8622-4894-B130-240E73496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E853-4166-452D-B168-E916013C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22B6-E6A9-43BB-BD5D-9F65ADB85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D141-8EF8-49A3-8AD6-0AFA810BB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B5AC-FF15-4778-9483-69850F7EF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184B-5A69-4B0F-929F-6BA6C876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55F1-793D-4673-8D5C-1A7BA46D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5AFD-69D0-4AA3-B570-F5D53683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32C0-10C9-46F1-8C2D-EF9F24A9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2021-4A8F-44F1-8FC7-F0CC7DCE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B0CB-1C1A-4209-8F2A-2B2BF98C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39A9-7BEB-4C65-A0B3-5B273107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D5AD-F718-4905-A3E7-3B9F23A6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FF83-D31B-494F-A3FA-B01E1882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27DC-4E2A-40F8-9F0B-DEAA785D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8512-6DCD-440E-BC35-E44BA19E6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19EB-492D-4683-9240-334C44A93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E946F-D13A-4ACD-BCF3-1FFBF141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228B3-2073-4600-8381-62D0E1AD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25BF2-591F-4216-B423-96DF4899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FD4E8-C2AD-4234-9859-7FF65CFD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B2FC5-C404-4640-8D1F-1FAE0C2F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D486-CAFA-445A-8426-F281C735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A6A0D-D625-4D87-B78F-871A01FF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0B9F5-7BBF-4284-8A64-7DCC23CB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7D4A9-10A9-4F77-AECD-E9DDBC3E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80D70-F50D-4158-A612-10BFB2F4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5F55C-642E-4289-B7D0-115BDE15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9B28C-F37B-43E0-97DA-040AE9B50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CE434-479E-4655-B6C0-E12C23DCF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CD43-B597-4D22-AF28-0550F994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4BAA-61E5-4939-8DEB-1139BE10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4524-579A-4C7D-9B67-FCEFADBC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D22D-9CEE-49F0-89A8-C8ED7B81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D11F-1EBE-4680-A658-B40A7388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6095-C6C3-46AF-8678-D20C4B5A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64DF-D7A1-4799-98CB-7605FA059AA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61840" y="-177840"/>
            <a:ext cx="2427120" cy="2246760"/>
            <a:chOff x="7161840" y="-177840"/>
            <a:chExt cx="2427120" cy="2246760"/>
          </a:xfrm>
        </p:grpSpPr>
        <p:grpSp>
          <p:nvGrpSpPr>
            <p:cNvPr id="39" name=""/>
            <p:cNvGrpSpPr/>
            <p:nvPr/>
          </p:nvGrpSpPr>
          <p:grpSpPr>
            <a:xfrm>
              <a:off x="7161840" y="-177840"/>
              <a:ext cx="2427120" cy="2246760"/>
              <a:chOff x="7161840" y="-177840"/>
              <a:chExt cx="2427120" cy="224676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0480" y="1632600"/>
                <a:ext cx="9828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61840" y="-177840"/>
                <a:ext cx="2427120" cy="2246760"/>
                <a:chOff x="7161840" y="-177840"/>
                <a:chExt cx="2427120" cy="224676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73920" y="21600"/>
                  <a:ext cx="24264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04600" y="435240"/>
                  <a:ext cx="42696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03280" y="197280"/>
                  <a:ext cx="8013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73840" y="-120960"/>
                  <a:ext cx="12031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399880" y="1332000"/>
                  <a:ext cx="26784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29680" y="118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03800" y="241920"/>
                  <a:ext cx="2869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46200" y="133920"/>
                  <a:ext cx="2836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21280" y="42480"/>
              <a:ext cx="66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04640"/>
            <a:ext cx="8675640" cy="645336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6000" y="134100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7D6F-E8A5-4B3C-8D73-49CB1220ED9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68360" y="476280"/>
            <a:ext cx="2549520" cy="1101240"/>
            <a:chOff x="468360" y="476280"/>
            <a:chExt cx="2549520" cy="1101240"/>
          </a:xfrm>
        </p:grpSpPr>
        <p:sp>
          <p:nvSpPr>
            <p:cNvPr id="93" name=""/>
            <p:cNvSpPr/>
            <p:nvPr/>
          </p:nvSpPr>
          <p:spPr>
            <a:xfrm>
              <a:off x="525960" y="504720"/>
              <a:ext cx="2403720" cy="100008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4080" y="587160"/>
              <a:ext cx="2397600" cy="990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43120" y="668880"/>
              <a:ext cx="1589760" cy="9036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468360" y="476280"/>
              <a:ext cx="2549520" cy="1063080"/>
              <a:chOff x="468360" y="476280"/>
              <a:chExt cx="2549520" cy="1063080"/>
            </a:xfrm>
          </p:grpSpPr>
          <p:sp>
            <p:nvSpPr>
              <p:cNvPr id="97" name=""/>
              <p:cNvSpPr/>
              <p:nvPr/>
            </p:nvSpPr>
            <p:spPr>
              <a:xfrm>
                <a:off x="2479320" y="1249200"/>
                <a:ext cx="226440" cy="2102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68360" y="476280"/>
                <a:ext cx="2549520" cy="106308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83280" y="486000"/>
                <a:ext cx="1801440" cy="603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74000" y="577440"/>
                <a:ext cx="242280" cy="40320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240920" y="857880"/>
                <a:ext cx="738000" cy="3578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67360" y="4458240"/>
            <a:ext cx="979920" cy="1159560"/>
            <a:chOff x="7767360" y="445824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62680" y="480024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37480" y="477900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05600" y="476280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67360" y="4458240"/>
              <a:ext cx="979920" cy="1159560"/>
              <a:chOff x="7767360" y="445824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886160" y="520344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27760" y="479088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05680" y="489744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484120" y="470088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23400" y="490140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0000" y="515772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1557360"/>
            <a:ext cx="888840" cy="38088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3DA7-46AC-4DC6-9973-3D73D10BA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32000" y="1700280"/>
            <a:ext cx="6400800" cy="1008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Activité mentale</a:t>
            </a:r>
            <a:endParaRPr b="0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00000" y="3068640"/>
            <a:ext cx="7272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quer vos nom et prénom sur votre feu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y a 10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us disposez de 40 secondes par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6870600" cy="95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11280" y="3284640"/>
            <a:ext cx="3771720" cy="21272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500720" y="1557360"/>
            <a:ext cx="0" cy="468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826920" y="2421000"/>
          <a:ext cx="3210120" cy="55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2421000"/>
                    <a:ext cx="321012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4716360" y="3500280"/>
            <a:ext cx="3810240" cy="1933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4859280" y="2133720"/>
            <a:ext cx="374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l est l’ensemble de définition de la fonction f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l est l’ensemble de définition de la fonction f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ésoudre l’équati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4500720" y="1557360"/>
            <a:ext cx="0" cy="468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39640" y="3284640"/>
            <a:ext cx="3810240" cy="193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5" name=""/>
          <p:cNvGraphicFramePr/>
          <p:nvPr/>
        </p:nvGraphicFramePr>
        <p:xfrm>
          <a:off x="5435640" y="2997360"/>
          <a:ext cx="1892160" cy="133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35640" y="2997360"/>
                    <a:ext cx="189216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ux plans de l’espace peuvent êt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it …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it…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it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er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2) pou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4500720" y="1557360"/>
            <a:ext cx="0" cy="468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5003640" y="2781360"/>
          <a:ext cx="2416320" cy="12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2781360"/>
                    <a:ext cx="241632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ux droites de l’espace qui ne sont pas dans le même plan sont dites …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4500720" y="1557360"/>
            <a:ext cx="0" cy="468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55640" y="2924280"/>
            <a:ext cx="3467160" cy="24667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84360" y="1341360"/>
            <a:ext cx="3527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elle relation peut-on écri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tre les vecteur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855720" y="1967040"/>
          <a:ext cx="1004760" cy="76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5720" y="1967040"/>
                    <a:ext cx="100476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2604960" y="2011320"/>
          <a:ext cx="9144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04960" y="2011320"/>
                    <a:ext cx="9144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37717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culer les antécédents éventuels de O pour la fonction f définie par 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ux plans de l’espace peuvent êt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it …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it…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it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4500720" y="1557360"/>
            <a:ext cx="0" cy="468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95280" y="4005360"/>
          <a:ext cx="3807000" cy="56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005360"/>
                    <a:ext cx="380700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ux droites de l’espace qui ne sont pas dans le même plan sont dites …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4500720" y="1557360"/>
            <a:ext cx="0" cy="468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5003640" y="1989000"/>
          <a:ext cx="3511800" cy="6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1989000"/>
                    <a:ext cx="3511800" cy="6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4643280" y="2852640"/>
            <a:ext cx="3889440" cy="219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687060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72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re graphiquement les images de -2 ; 2 et 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4500720" y="1557360"/>
            <a:ext cx="0" cy="468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716360" y="3716280"/>
          <a:ext cx="3416400" cy="5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3716280"/>
                    <a:ext cx="341640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4643280" y="191628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er l’antécédent de O pour la fonction f définie par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468360" y="3357720"/>
            <a:ext cx="3809880" cy="19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6870960" cy="84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re graphiquement les antécédents de 1 par la fonction f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4500720" y="1557360"/>
            <a:ext cx="0" cy="468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716360" y="3357720"/>
            <a:ext cx="3810240" cy="193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3" name=""/>
          <p:cNvGraphicFramePr/>
          <p:nvPr/>
        </p:nvGraphicFramePr>
        <p:xfrm>
          <a:off x="1403280" y="3500280"/>
          <a:ext cx="2048040" cy="144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3500280"/>
                    <a:ext cx="2048040" cy="14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475200" y="2349360"/>
            <a:ext cx="350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ésoudre l’é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er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2) pou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3280" y="1557000"/>
            <a:ext cx="3772080" cy="16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lle relation peut-on écri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tre les vecteurs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"/>
          <p:cNvSpPr/>
          <p:nvPr/>
        </p:nvSpPr>
        <p:spPr>
          <a:xfrm>
            <a:off x="4500720" y="1557360"/>
            <a:ext cx="0" cy="468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716360" y="3429000"/>
            <a:ext cx="3467160" cy="246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4957920" y="2543040"/>
          <a:ext cx="1006200" cy="766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7920" y="2543040"/>
                    <a:ext cx="100620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6804000" y="2565360"/>
          <a:ext cx="1062000" cy="839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04000" y="2565360"/>
                    <a:ext cx="106200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1042920" y="2708280"/>
          <a:ext cx="2416320" cy="1209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42920" y="2708280"/>
                    <a:ext cx="241632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re graphiquement les antécédents de 1 par la fonction 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re graphiquement les images de -2 ; 2 et 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4500720" y="1557360"/>
            <a:ext cx="0" cy="468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643280" y="3284640"/>
            <a:ext cx="3810240" cy="19335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68360" y="3357720"/>
            <a:ext cx="3809880" cy="1933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23:46:44Z</dcterms:created>
  <dc:creator>Mignot Nathalie</dc:creator>
  <dc:description/>
  <dc:language>en-US</dc:language>
  <cp:lastModifiedBy>CLEMENT ODILE</cp:lastModifiedBy>
  <dcterms:modified xsi:type="dcterms:W3CDTF">2008-08-17T19:56:52Z</dcterms:modified>
  <cp:revision>7</cp:revision>
  <dc:subject/>
  <dc:title>Activité mentale</dc:title>
</cp:coreProperties>
</file>