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13B2-E358-4C3E-94F8-33EF0F4BE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A6DE-9E6B-4455-88BB-A93393934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A82A-577A-4CB8-A60A-6B1A5E244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934-EC93-46CC-AEC7-9F9CD355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B653-A4EF-4EF6-A9F6-D76C535F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749B-77C5-45BA-942F-90CCFE72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B0C5-7CFD-4D93-B9CE-707CB7FD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2F825-83D1-49CA-B80A-A336B816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040A-ACD4-4CE6-A465-B5DDE3FC9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87E5-A6BE-493C-B7DC-B9F173FF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2B11-8EC9-4BAF-89D2-75DBC0293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5131-5DDA-4466-ACD0-30872914E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0F1F2-A6E4-4CE7-A258-4D582DB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47310-AAD7-4577-8906-2BE3892B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DB76A-DAC7-4CF3-88EA-EC7ACB36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72EE-C77C-4A95-8471-ADF0C61B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A9DE-E1C4-4C75-8285-B01E922E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798D-99C7-49DC-A74E-8F64BF84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D6-6209-479B-B7AB-4374D8314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ADC-86CB-4721-86B2-A0E971EE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C07-33CC-41E7-B97D-913EF3B72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4D0D-FAF6-4A6C-A82E-6C92E15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95B-EBA7-4EC4-8C96-E0DEDB1D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2E38-010C-49F5-82AA-F249B0C5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1908-0047-4C54-B392-346C1255AF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A934-447F-4CF0-9568-A8FD0BDA534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1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03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: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1916280"/>
            <a:ext cx="0" cy="40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fr-FR" sz="25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2</a:t>
            </a:r>
            <a:r>
              <a:rPr b="0" lang="fr-FR" sz="4000" spc="-1" strike="noStrike">
                <a:solidFill>
                  <a:srgbClr val="333399"/>
                </a:solidFill>
                <a:latin typeface="Tahoma"/>
              </a:rPr>
              <a:t> </a:t>
            </a:r>
            <a:br>
              <a:rPr sz="25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un encadrement de A-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88000" y="1844640"/>
            <a:ext cx="0" cy="424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Question 3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est un réel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u réel  -5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&gt;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59280" y="1989000"/>
            <a:ext cx="0" cy="410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-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198900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907920"/>
            <a:ext cx="633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4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5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844640"/>
            <a:ext cx="0" cy="432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3562200" cy="36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Résoudre dans R l‘inéquati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+5 &lt;  5x +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890000" y="623880"/>
            <a:ext cx="597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6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00720" y="198900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457880" y="2946240"/>
                <a:ext cx="228600" cy="9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/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971640" y="328464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7</a:t>
            </a:r>
            <a:br>
              <a:rPr sz="4000"/>
            </a:b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3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Donner un encadrement de 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900" spc="-1" strike="noStrike">
                <a:solidFill>
                  <a:srgbClr val="000000"/>
                </a:solidFill>
                <a:latin typeface="Comic Sans MS"/>
              </a:rPr>
              <a:t>-3x + 2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1844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8000" y="2133720"/>
            <a:ext cx="3562200" cy="36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 et B sont  deux réels vérifi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&lt; A &lt;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B&lt;-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un encadrement 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+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nner sous forme d’intervalle l’ensemble des réels x vérifiant 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5 &lt; x &lt; 1/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50360" y="83988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844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28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Le réel x appartient à l’intervalle 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[ 5 ; 7 ]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mic Sans MS"/>
              </a:rPr>
              <a:t>Donner un encadrement du réel : -3x+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46200" y="2017800"/>
            <a:ext cx="380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ésoudre dans R l‘inéquatio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03640" y="1844640"/>
            <a:ext cx="0" cy="39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50360" y="912960"/>
            <a:ext cx="597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omic Sans MS"/>
              </a:rPr>
              <a:t>Automaths 3      Question 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580000" y="342900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08:38:38Z</dcterms:created>
  <dc:creator>Admin</dc:creator>
  <dc:description/>
  <dc:language>en-US</dc:language>
  <cp:lastModifiedBy>CLEMENT ODILE</cp:lastModifiedBy>
  <dcterms:modified xsi:type="dcterms:W3CDTF">2008-05-19T23:48:18Z</dcterms:modified>
  <cp:revision>17</cp:revision>
  <dc:subject/>
  <dc:title>Donner l'image de -1 par la fonction f définie par </dc:title>
</cp:coreProperties>
</file>