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BCB0-A061-4319-8EA9-831BE2FBA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F790-3E78-4EFE-A95A-A8F53FD4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E122-C920-42D8-BF5C-5109EC454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AF35-A0F1-4E80-9F81-E75F885E8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766BB-F4BD-43FE-A02D-120A39B01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9EB5A-D87F-4686-A2DA-9BD8FE5EE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57AB-3A39-4D99-ACAA-6EB948C6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C2EC-FEF4-4C2B-A847-742799D7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2E42E-20C3-4C38-8521-10B23FE6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ABF2B-874D-4FE2-9245-5C468D93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4161-725F-4133-B6E1-BF1FD35A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18BF-DDC1-48EC-B075-A48CD682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4A9E-AD6F-4BBE-B019-69F4B270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0C35-C211-44F2-8657-FC6CB1B4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A9A3C-ECEE-4A64-AF97-970E91BE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A17C-4B6F-4807-9F3B-32770A9F5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0E9A-0C14-4A7D-B7EC-99044D4BA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4B6E-3993-4944-9553-8E76BB7E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E41B-34D5-4011-B610-577AFC6B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72D5-C4CA-4F36-96D1-9AC40056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ACDE-1E92-4FF7-AD67-3E71CE359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9F6B-476A-42C1-B5D8-044C3179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ADF8-5347-45F8-8762-034AB062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8964-271A-4288-88DF-837CA56F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BB02-4A99-4F96-A86B-4C33D06BE312}" type="slidenum">
              <a:rPr b="0" lang="fr-F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EF26E-EA05-4CBA-9544-2C204FA3957A}" type="slidenum">
              <a:rPr b="0" lang="fr-FR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6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4600"/>
            </a:br>
            <a:r>
              <a:rPr b="0" lang="fr-FR" sz="4600" spc="-1" strike="noStrike">
                <a:solidFill>
                  <a:srgbClr val="006633"/>
                </a:solidFill>
                <a:latin typeface="Garamond"/>
              </a:rPr>
              <a:t>Seconde 8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71280" y="2924280"/>
            <a:ext cx="75610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ésolutions d’ équ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us disposez de  45 secondes par question. Il y a  9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arème : 2 points gratuits, deux points par réponse exacte, 0,5 point enlevé par réponse fausse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3800"/>
            </a:b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Question 9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(x + 4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+2)(x-2)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3800"/>
            </a:b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Question 1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oudre dans R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 + 7(x-5)= - 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en l’équation 3x+5= 3(x-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t-elle de solutions réel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0720" y="2205000"/>
            <a:ext cx="0" cy="3743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3800"/>
            </a:b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Question 2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en l’équation  X² =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a étant un réel donné et x l’inconnu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et-elle de solutions réel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en l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+6 = 3(x+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t-elle de solutions réelles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3280" y="1844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3800"/>
            </a:b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Question 3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en l’équation 3x+5= 3(x-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t-elle de solutions réel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oudre dans R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 + 7(x-5)= - 1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184464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3800"/>
            </a:b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Question 4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en l’éq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+6 = 3(x+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-t-elle de solutions réel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en l’équation     X² =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a étant un réel donné et x l’inconnu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et-elle de solutions réel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177336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3800"/>
            </a:b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Question 5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+5 =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+1)(x-3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56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3800"/>
            </a:b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Question 6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² + 12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(x + 4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56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3800"/>
            </a:b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Question 7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+1)(x-3)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x+5 = 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56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Automaths 2</a:t>
            </a:r>
            <a:br>
              <a:rPr sz="3800"/>
            </a:br>
            <a:r>
              <a:rPr b="0" lang="fr-FR" sz="3800" spc="-1" strike="noStrike">
                <a:solidFill>
                  <a:srgbClr val="006633"/>
                </a:solidFill>
                <a:latin typeface="Garamond"/>
              </a:rPr>
              <a:t>Question 8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+2)(x-2)=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ner les solutions dans R de l’équatio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² + 12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56000" y="1916280"/>
            <a:ext cx="7920" cy="43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cover dir="d"/>
    <p:sndAc>
      <p:stSnd>
        <p:snd r:embed="rId1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53:26Z</dcterms:created>
  <dc:creator>CLEMENT ODILE</dc:creator>
  <dc:description/>
  <dc:language>en-US</dc:language>
  <cp:lastModifiedBy>CLEMENT ODILE</cp:lastModifiedBy>
  <dcterms:modified xsi:type="dcterms:W3CDTF">2008-05-19T22:34:08Z</dcterms:modified>
  <cp:revision>6</cp:revision>
  <dc:subject/>
  <dc:title>CR2</dc:title>
</cp:coreProperties>
</file>