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696-C1AF-4BE3-950C-ED9A441F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E0E-4A26-46F0-9270-CD5B8FB6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ECA-66BE-42F0-96C2-3B6E36C36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BC3-5B8D-43C8-A50B-6578E2A44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2683-378D-46BB-8043-B60D8EDD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0CD7A-0CCF-4585-9A76-4A378FBC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12B9-57E3-4B26-8394-706CB837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7ACC-C035-45FF-B046-D2361EAB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A4D1E-2946-4BFA-BAEB-0CD36A33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734A-3782-4E98-9C09-C1C67B71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DC6-1E7B-4EF1-B274-48E5E870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0335-B2ED-442A-81C1-4FE855728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318B-210E-4BBF-9E10-859464DC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1BF7-1E4F-4861-A93D-C294D3CE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6B34-3E0A-49DB-8A79-CB143791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C94CA-F7D0-4AF7-B233-F74071FCA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5F04-BFFD-4FE8-8624-1A8B4358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ADA7-7100-4F2B-A1F5-1DB23338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A8E3-80B6-4236-81D1-09EAFC63D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FB88-1E93-4F23-BAD9-1ABEC2B38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86F8-8D80-4B37-A949-CFE1B077F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29DE-33D7-4B28-A215-372AC65D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244-13A0-4479-AA36-507F6A21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0594-E589-488C-95ED-126DB6B3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CBCE-3C43-4F2A-950C-F16A0FFF71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490D-788E-436A-A75D-0BED313809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333399"/>
                </a:solidFill>
                <a:latin typeface="Tahoma"/>
              </a:rPr>
              <a:t>Automaths N°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La calculatrice est interdi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disposez d’une minute par qu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Marquez droite ou gauche suivant votre place à la tab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Il y a 9 questions ( 2 points gratuits, 2 points par réponse juste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Vous préciserez le numéro de la question devant chaque ré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8800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79280" y="479736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737240" y="3357720"/>
                <a:ext cx="44067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évelopp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0072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84360" y="4869000"/>
                <a:ext cx="32893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l’exp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2764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900000" y="4724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572000" y="400536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435640" y="371628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50920" y="3357720"/>
                <a:ext cx="435600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le(s) antécédents éventuels du réel 0  par f lorsque f est définie par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076720" y="4653000"/>
                <a:ext cx="32893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0920" y="4076640"/>
                <a:ext cx="4356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ésoudre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0" y="2060640"/>
            <a:ext cx="438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164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140360" y="270828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95280" y="306864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se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5928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9280" y="3716280"/>
                <a:ext cx="44071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²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5292720" y="2924280"/>
                <a:ext cx="29462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oit la fonction f définie par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est-elle affine ?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omic Sans MS"/>
              </a:rPr>
              <a:t>Si oui, la donner sous la forme : mx+p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328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2781360"/>
                <a:ext cx="463536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521240" y="4221000"/>
                <a:ext cx="4622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826920" y="3068640"/>
                <a:ext cx="29466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5292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5545080" y="3782880"/>
                <a:ext cx="30099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²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5364000" y="2421000"/>
            <a:ext cx="33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ésoudr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6-14T00:02:36Z</dcterms:modified>
  <cp:revision>20</cp:revision>
  <dc:subject/>
  <dc:title>Donner l'image de -1 par la fonction f définie par </dc:title>
</cp:coreProperties>
</file>