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472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785-7ECC-4534-AF8F-38080D82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0BE4-3479-4687-B97E-A124EB4F9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3FE6-E2CF-471C-87D8-3577910C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7B51-A3B7-45F3-A00B-D64DF85F6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5B02-CD51-4A45-BF63-8DFA9674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1D52-1BE0-4B83-B9FD-B6095A62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064E-9461-4F3D-BEE0-24300AFE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EC5E-029D-49E4-A2AD-2003111D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C958-5890-4895-8600-EE35CFD4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71C6-B65E-41BF-BD4C-138179B2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D0955-DA94-4EE2-BDB1-F851DE570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D2D4-FC02-48FE-BF9B-FC0D8C0D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328A9-6852-4CAB-82A2-BA5F03AB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4C56-4AF0-4D5F-88AF-8F24347F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2245-F4FE-4247-AEF6-AF61DC61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BF5C-2AAC-4855-873E-E2F147DEB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3259-6CD8-40FD-AC32-50EB7D35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588-D1D3-4719-AF03-F38C3347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9664-23F2-4F11-893D-C04C8532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989C-3B09-44F8-A298-6E81C2DF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A603-35A3-4D47-8F29-25D88618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7AE8-2638-44B6-B0E9-4C62087B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083-25B7-48FB-ADB8-A6C33A4A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2005-256D-4D5C-986B-8864BDF3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7D9D-92FC-4B60-B492-5D4C0A92AAB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58E2-F530-424B-B7BF-214E938E3378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 (question 1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el est la nature du nombr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40440" y="20178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onner l’écriture scientifique d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143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10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elle est la nature du nombre 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/3 - 4/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el est la nature du nombr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²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2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 ce qu’un rationnel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ter parmi tous les ensembles de nombre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eux qui contiennent 1/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3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onner l’écriture scientifique de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143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quels ensembles de nombres appartient 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084720" y="4437000"/>
            <a:ext cx="1979640" cy="927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4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onner l’écriture scientifique  de 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0,00052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 nombre décimal est-il toujours un rationnel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5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ter parmi tous les ensembles de nombre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eux qui contiennent 1/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 rationnel est-il toujours un nombre décimal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470480" y="3206880"/>
                <a:ext cx="2030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6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32000" y="20606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’est ce qu’un rationnel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2060640"/>
            <a:ext cx="367380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 rationnel est-il toujours un décimal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01280" y="4151160"/>
            <a:ext cx="2971800" cy="1981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7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 quels ensembles de nombres appartient 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Quelle est la nature du nombre  :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/3 - 4/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476360" y="4437000"/>
            <a:ext cx="1979640" cy="92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8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82600" y="2805120"/>
            <a:ext cx="3810240" cy="25401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2060640"/>
            <a:ext cx="43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ter parmi tous les ensembles de nomb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eux qui contienn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/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onner l’écriture scientifique  de 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0,00052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66"/>
                </a:solidFill>
                <a:latin typeface="Tahoma"/>
              </a:rPr>
              <a:t>Automaths 1(question 9)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Un nombre décimal est– il toujours un rationnel 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iter parmi tous les ensembles de nomb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eux qui contienn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3/7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4932360" y="2205000"/>
            <a:ext cx="0" cy="388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1T23:50:51Z</dcterms:created>
  <dc:creator>CLEMENT ODILE</dc:creator>
  <dc:description/>
  <dc:language>en-US</dc:language>
  <cp:lastModifiedBy>CLEMENT ODILE</cp:lastModifiedBy>
  <dcterms:modified xsi:type="dcterms:W3CDTF">2008-08-05T00:43:37Z</dcterms:modified>
  <cp:revision>17</cp:revision>
  <dc:subject/>
  <dc:title>Calcul mental 1</dc:title>
</cp:coreProperties>
</file>