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A5A-422A-445C-8E98-955979161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1551-990F-4A71-A50F-3A62D987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A074-2008-4AE5-ADDB-1A9D49B7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58B-7A76-4560-80E2-8FFDA0FD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7977-9B6A-4F72-8015-344EB1D7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177E-B4EC-4646-B063-616399EA3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E04F-F479-4FFE-9E3D-8EF84964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2AFF-885F-4C02-9B46-16F2838C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42920" y="259920"/>
            <a:ext cx="777240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3359-0327-4227-B7D8-E3BF9900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59E-4BB0-422D-AA63-EC9C0970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9919-BBC9-432F-9B52-13D021C4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1BA-872D-4F9D-9131-757BFA52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E3C0-1DBD-482B-93BF-149C101011ED}" type="slidenum">
              <a:rPr b="0" lang="fr-FR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620640"/>
            <a:ext cx="9009000" cy="1052640"/>
            <a:chOff x="0" y="62064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728640"/>
              <a:ext cx="711360" cy="474840"/>
              <a:chOff x="290520" y="72864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72864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72864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1150920"/>
              <a:ext cx="737640" cy="474840"/>
              <a:chOff x="414360" y="115092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115092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115092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107784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62064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144288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700280"/>
            <a:ext cx="0" cy="46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M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éparez une feuille de répons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ttez votre nom et en dessous DROITE ou GAUCHE suivant votre position à la ta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 y a  10 questions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us aurez   30    secondes par questio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37840" y="1971720"/>
            <a:ext cx="3827880" cy="1556280"/>
            <a:chOff x="537840" y="1971720"/>
            <a:chExt cx="3827880" cy="1556280"/>
          </a:xfrm>
        </p:grpSpPr>
        <p:sp>
          <p:nvSpPr>
            <p:cNvPr id="199" name=""/>
            <p:cNvSpPr/>
            <p:nvPr/>
          </p:nvSpPr>
          <p:spPr>
            <a:xfrm>
              <a:off x="537840" y="1971720"/>
              <a:ext cx="3827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On donn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 ( 5 ; -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alculer     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1128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48436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91636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87640" y="31417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84360" y="213372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27280" y="3068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916880" y="1919160"/>
            <a:ext cx="40881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(2;3) 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(5 ;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ors : 5AB ( ….;…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732720" y="522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878000" y="2060640"/>
            <a:ext cx="3827880" cy="1556280"/>
            <a:chOff x="4878000" y="2060640"/>
            <a:chExt cx="3827880" cy="1556280"/>
          </a:xfrm>
        </p:grpSpPr>
        <p:sp>
          <p:nvSpPr>
            <p:cNvPr id="212" name=""/>
            <p:cNvSpPr/>
            <p:nvPr/>
          </p:nvSpPr>
          <p:spPr>
            <a:xfrm>
              <a:off x="4878000" y="2060640"/>
              <a:ext cx="3827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On donne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 ( 5 ; -2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alculer     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5144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82452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5652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27800" y="32306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824520" y="2222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67440" y="31575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50920" y="1989000"/>
            <a:ext cx="4241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On donn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(2;3) e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(5 ; 6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ors : 5AB ( ….;…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050920" y="5300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6012000" y="476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5880" y="1827360"/>
            <a:ext cx="4237560" cy="4237560"/>
            <a:chOff x="335880" y="1827360"/>
            <a:chExt cx="4237560" cy="4237560"/>
          </a:xfrm>
        </p:grpSpPr>
        <p:sp>
          <p:nvSpPr>
            <p:cNvPr id="105" name=""/>
            <p:cNvSpPr/>
            <p:nvPr/>
          </p:nvSpPr>
          <p:spPr>
            <a:xfrm>
              <a:off x="447840" y="1827360"/>
              <a:ext cx="41256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 a pour coordonné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x ; y 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ans le repèr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6" name=""/>
                <p:cNvSpPr txBox="1"/>
                <p:nvPr/>
              </p:nvSpPr>
              <p:spPr>
                <a:xfrm>
                  <a:off x="826920" y="3573360"/>
                  <a:ext cx="18162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O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7" name=""/>
            <p:cNvSpPr/>
            <p:nvPr/>
          </p:nvSpPr>
          <p:spPr>
            <a:xfrm>
              <a:off x="335880" y="4508640"/>
              <a:ext cx="3646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ela signifie que 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.= ……………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5272920" y="1700280"/>
            <a:ext cx="2885760" cy="4480920"/>
            <a:chOff x="5272920" y="1700280"/>
            <a:chExt cx="2885760" cy="4480920"/>
          </a:xfrm>
        </p:grpSpPr>
        <p:sp>
          <p:nvSpPr>
            <p:cNvPr id="109" name=""/>
            <p:cNvSpPr/>
            <p:nvPr/>
          </p:nvSpPr>
          <p:spPr>
            <a:xfrm>
              <a:off x="5272920" y="1700280"/>
              <a:ext cx="28857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A(1 ; 3) e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( 5 ; 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B  (……;…….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383080" y="459756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468360" y="1844640"/>
            <a:ext cx="3619440" cy="3506040"/>
            <a:chOff x="468360" y="1844640"/>
            <a:chExt cx="3619440" cy="3506040"/>
          </a:xfrm>
        </p:grpSpPr>
        <p:sp>
          <p:nvSpPr>
            <p:cNvPr id="117" name=""/>
            <p:cNvSpPr/>
            <p:nvPr/>
          </p:nvSpPr>
          <p:spPr>
            <a:xfrm>
              <a:off x="468360" y="184464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x, y 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x’, y’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+v ( ….., 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539640" y="1916280"/>
              <a:ext cx="1008000" cy="2952720"/>
              <a:chOff x="539640" y="1916280"/>
              <a:chExt cx="1008000" cy="2952720"/>
            </a:xfrm>
          </p:grpSpPr>
          <p:sp>
            <p:nvSpPr>
              <p:cNvPr id="119" name=""/>
              <p:cNvSpPr/>
              <p:nvPr/>
            </p:nvSpPr>
            <p:spPr>
              <a:xfrm>
                <a:off x="1403280" y="1916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611280" y="2924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39640" y="48690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16000" y="4869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"/>
          <p:cNvGrpSpPr/>
          <p:nvPr/>
        </p:nvGrpSpPr>
        <p:grpSpPr>
          <a:xfrm>
            <a:off x="5076720" y="1916280"/>
            <a:ext cx="3619440" cy="3506040"/>
            <a:chOff x="5076720" y="1916280"/>
            <a:chExt cx="3619440" cy="3506040"/>
          </a:xfrm>
        </p:grpSpPr>
        <p:sp>
          <p:nvSpPr>
            <p:cNvPr id="124" name=""/>
            <p:cNvSpPr/>
            <p:nvPr/>
          </p:nvSpPr>
          <p:spPr>
            <a:xfrm>
              <a:off x="5076720" y="191628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3, 5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-1 , 2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- v ( …..;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5148000" y="1987920"/>
              <a:ext cx="1008000" cy="2952720"/>
              <a:chOff x="5148000" y="1987920"/>
              <a:chExt cx="1008000" cy="2952720"/>
            </a:xfrm>
          </p:grpSpPr>
          <p:sp>
            <p:nvSpPr>
              <p:cNvPr id="126" name=""/>
              <p:cNvSpPr/>
              <p:nvPr/>
            </p:nvSpPr>
            <p:spPr>
              <a:xfrm>
                <a:off x="6011640" y="19879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219640" y="299592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148000" y="494064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24360" y="494064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3000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003640" y="2060640"/>
            <a:ext cx="3619440" cy="3506040"/>
            <a:chOff x="5003640" y="2060640"/>
            <a:chExt cx="3619440" cy="3506040"/>
          </a:xfrm>
        </p:grpSpPr>
        <p:sp>
          <p:nvSpPr>
            <p:cNvPr id="136" name=""/>
            <p:cNvSpPr/>
            <p:nvPr/>
          </p:nvSpPr>
          <p:spPr>
            <a:xfrm>
              <a:off x="5003640" y="206064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x, y 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x’, y’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+v ( ….. , 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5074920" y="2132280"/>
              <a:ext cx="1008000" cy="2952720"/>
              <a:chOff x="5074920" y="2132280"/>
              <a:chExt cx="1008000" cy="2952720"/>
            </a:xfrm>
          </p:grpSpPr>
          <p:sp>
            <p:nvSpPr>
              <p:cNvPr id="138" name=""/>
              <p:cNvSpPr/>
              <p:nvPr/>
            </p:nvSpPr>
            <p:spPr>
              <a:xfrm>
                <a:off x="5938560" y="2132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46560" y="3140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74920" y="50850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651280" y="5085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"/>
          <p:cNvSpPr/>
          <p:nvPr/>
        </p:nvSpPr>
        <p:spPr>
          <a:xfrm>
            <a:off x="735120" y="17557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24000" y="1844640"/>
            <a:ext cx="3619440" cy="3506040"/>
            <a:chOff x="324000" y="1844640"/>
            <a:chExt cx="3619440" cy="3506040"/>
          </a:xfrm>
        </p:grpSpPr>
        <p:sp>
          <p:nvSpPr>
            <p:cNvPr id="144" name=""/>
            <p:cNvSpPr/>
            <p:nvPr/>
          </p:nvSpPr>
          <p:spPr>
            <a:xfrm>
              <a:off x="324000" y="1844640"/>
              <a:ext cx="361944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u( 3, 5) e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v (-1 , 2 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u- v ( …..;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95280" y="1916280"/>
              <a:ext cx="1008000" cy="2952720"/>
              <a:chOff x="395280" y="1916280"/>
              <a:chExt cx="1008000" cy="2952720"/>
            </a:xfrm>
          </p:grpSpPr>
          <p:sp>
            <p:nvSpPr>
              <p:cNvPr id="146" name=""/>
              <p:cNvSpPr/>
              <p:nvPr/>
            </p:nvSpPr>
            <p:spPr>
              <a:xfrm>
                <a:off x="1258920" y="1916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6920" y="2924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5280" y="4869000"/>
                <a:ext cx="14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71640" y="4869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30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656960" y="1916280"/>
            <a:ext cx="4237560" cy="4237560"/>
            <a:chOff x="4656960" y="1916280"/>
            <a:chExt cx="4237560" cy="4237560"/>
          </a:xfrm>
        </p:grpSpPr>
        <p:sp>
          <p:nvSpPr>
            <p:cNvPr id="156" name=""/>
            <p:cNvSpPr/>
            <p:nvPr/>
          </p:nvSpPr>
          <p:spPr>
            <a:xfrm>
              <a:off x="4768920" y="1916280"/>
              <a:ext cx="4125600" cy="20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 a pour coordonné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(x ; y )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dans le repèr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7" name=""/>
                <p:cNvSpPr txBox="1"/>
                <p:nvPr/>
              </p:nvSpPr>
              <p:spPr>
                <a:xfrm>
                  <a:off x="5148000" y="3662280"/>
                  <a:ext cx="181620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O</m:t>
                      </m:r>
                      <m:r>
                        <m:t xml:space="preserve">,</m:t>
                      </m:r>
                      <m:r>
                        <m:t xml:space="preserve">i</m:t>
                      </m:r>
                      <m:r>
                        <m:t xml:space="preserve">,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j</m:t>
                          </m:r>
                        </m:e>
                      </m:acc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58" name=""/>
            <p:cNvSpPr/>
            <p:nvPr/>
          </p:nvSpPr>
          <p:spPr>
            <a:xfrm>
              <a:off x="4656960" y="4597560"/>
              <a:ext cx="3646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Cela signifie que :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…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.= ………………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01120" y="1971720"/>
            <a:ext cx="2885760" cy="4480920"/>
            <a:chOff x="501120" y="1971720"/>
            <a:chExt cx="2885760" cy="4480920"/>
          </a:xfrm>
        </p:grpSpPr>
        <p:sp>
          <p:nvSpPr>
            <p:cNvPr id="160" name=""/>
            <p:cNvSpPr/>
            <p:nvPr/>
          </p:nvSpPr>
          <p:spPr>
            <a:xfrm>
              <a:off x="501120" y="1971720"/>
              <a:ext cx="28857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Soit A(1 ; 3) et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B( 5 ; 4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lors 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AB  (……;……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1280" y="486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9120" y="1900080"/>
            <a:ext cx="3908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milieu de [AB]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ur coordonné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……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61520" y="1557360"/>
            <a:ext cx="3745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 signifie que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ecteur u ait p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ordonnées 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els (x ; y ) d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repère  (O,i ,j)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800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51640" y="55897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812000" y="558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1900080"/>
            <a:ext cx="390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 = ………………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1916280"/>
            <a:ext cx="4051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r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e d’un v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d on conn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 coordonné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59280" y="1989000"/>
            <a:ext cx="390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 = ………………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6200" y="1827360"/>
            <a:ext cx="4051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ent calculer 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rme d’un vec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and on conn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 coordonné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4000" y="-4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940360" y="404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28880" indent="-1028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mic Sans MS"/>
              </a:rPr>
              <a:t>Question</a:t>
            </a:r>
            <a:r>
              <a:rPr b="0" lang="en-US" sz="3200" spc="-1" strike="noStrike">
                <a:solidFill>
                  <a:srgbClr val="333399"/>
                </a:solidFill>
                <a:latin typeface="Comic Sans MS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2360" y="1773360"/>
            <a:ext cx="3908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it A(5;6 )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(3;2 ) , a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 milieu de [AB]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ur coordonnée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…………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3800" y="1557360"/>
            <a:ext cx="37454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Que signifie que 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vecteur u ait pou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coordonnées 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réels (x ; y ) da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repère  (O,i ,j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124000" y="2565360"/>
            <a:ext cx="1440000" cy="3025800"/>
            <a:chOff x="2124000" y="2565360"/>
            <a:chExt cx="1440000" cy="3025800"/>
          </a:xfrm>
        </p:grpSpPr>
        <p:sp>
          <p:nvSpPr>
            <p:cNvPr id="190" name=""/>
            <p:cNvSpPr/>
            <p:nvPr/>
          </p:nvSpPr>
          <p:spPr>
            <a:xfrm>
              <a:off x="2124000" y="2565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87640" y="55911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48000" y="55911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30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8-06T08:35:47Z</dcterms:modified>
  <cp:revision>27</cp:revision>
  <dc:subject/>
  <dc:title>Donner l'image de -1 par la fonction f définie par </dc:title>
</cp:coreProperties>
</file>