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F15F-6F81-45C8-B1B4-3EAF6483A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99C7-8481-48CD-AAA2-2D88331C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B9E5-3386-4515-90E4-D71B8B272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403D-EBC5-431F-A355-80033B65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E41E-D164-4DF5-9F49-54C646EF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0478-1EB9-4613-A201-D29ED70B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95568-CA0C-4E85-8F19-FACD943C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817A-20BF-47A5-96E9-3762D5A3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106AC-EE82-44A2-8275-3E27C79B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FA6D-68FB-406F-B835-DE4837B4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61AF3-D029-4EF6-B708-FE83B1AC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A4C-EB03-47C5-AB57-8733E3F1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2FA77-A6D2-40DF-A4ED-A66C2A37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ACB0-4122-4DD0-9BCC-F08513F9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A38F-02F7-41CD-AD48-55BB2343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ACD3-7ABE-47B5-8CF4-59FC2884C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2281-00ED-4C09-BAC6-5BAD447A9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2BD4-C21D-4646-A5F7-7B24D5972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6196-EB15-46A7-8EFF-7B54A14C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E055-A4CA-459E-96F8-0D38B9F5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13E3-3776-4ECB-A3CB-0DF1C1C4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B97B-5A87-4D7B-9CF3-49EDA88F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8976-2FB3-4834-AA7E-0E1A5293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F39-28CC-4746-A941-9F4B0DFD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74C3-91EA-405B-B503-085FEC3BDF9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4531-BE03-499D-97E8-6D346EE0A2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1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(s) antécédents éventuels du réel 1 par f lorsque f est définie par 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900000" y="3068640"/>
          <a:ext cx="3456000" cy="14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068640"/>
                    <a:ext cx="345600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076720" y="3357720"/>
          <a:ext cx="3884760" cy="72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3357720"/>
                    <a:ext cx="38847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fr-FR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2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5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(s) antécédents éventuels du réel 1 par f lorsque f est définie par :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évelopper l’expres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184464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94200" y="285264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 – 1)(x + 1) + (x + 2)(x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4000" y="3284640"/>
          <a:ext cx="388440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84640"/>
                    <a:ext cx="38844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3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évelopper l’expres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3068640"/>
            <a:ext cx="42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 – 1)(x + 1) + (x + 2)(x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859280" y="1989000"/>
            <a:ext cx="0" cy="41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219640" y="2924280"/>
          <a:ext cx="3456000" cy="14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9640" y="2924280"/>
                    <a:ext cx="345600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Résoudre dans R l'équat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3320" y="285264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 – 1)(x + 1) + (x + 2)(x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16360" y="1989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92720" y="27082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+2)² – 1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90324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5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0000" y="2924280"/>
            <a:ext cx="25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9x² – (x + 1)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184464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278136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(x) = (x-1)² - x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33240" y="2303640"/>
            <a:ext cx="3562200" cy="36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Résoudre dans R l'équat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328464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+2)² – 1 =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90000" y="623880"/>
            <a:ext cx="59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6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1989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82960" y="256536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(x – 1)(x + 1) + (x + 2)(x –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7</a:t>
            </a:r>
            <a:br>
              <a:rPr sz="40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'image de -1 par la fonction f définie par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Factoriser  l’expression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55640" y="321300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(x) = (x-1)² - x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1844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92720" y="249228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9x² – (x + 1)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5622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 (les) antécédent(s) de 3 par la fonction f définie par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50360" y="83988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826920" y="3500280"/>
                <a:ext cx="190512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4284720" y="184464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4356000" y="4076640"/>
          <a:ext cx="4579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4076640"/>
                    <a:ext cx="4579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 (les) antécédent(s) de 0 par la fonction f définie pa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Donner le (les) antécédent(s) de 3 par la fonction f définie par</a:t>
            </a: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3500280"/>
          <a:ext cx="4579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500280"/>
                    <a:ext cx="4579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500364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50360" y="91296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4      Question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580000" y="3068640"/>
                <a:ext cx="190512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5-19T23:26:19Z</dcterms:modified>
  <cp:revision>16</cp:revision>
  <dc:subject/>
  <dc:title>Donner l'image de -1 par la fonction f définie par </dc:title>
</cp:coreProperties>
</file>