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9E5-36C0-436F-B777-F21EC721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64B-F9DC-497B-BA1B-8F2EFFC1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EA1C-7D23-4231-828C-F67C6ECE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380-AE3B-4A3D-B59C-6AEE1D9A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D131-AE05-4813-91CD-E87D65C5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00CE-721E-4D74-B226-4C1C109D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CDB6-424F-47F1-85FD-DEF93935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0341-877F-4FD6-857E-83525922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8D76-43DE-452F-9D2B-3932C2A5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A970-255D-48C5-A3A8-57662858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4A47-D250-45A8-81BE-32053170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445-920C-496B-B187-22BB80EB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E990-2D1A-4CC3-BE45-F800C10D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91D7-CB7A-4C1A-88A9-4913B810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ABAB-059B-486F-8070-CD5F2FE5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7A6C-E476-4DA5-AD01-D7CC3B64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FD66-FD0D-4E67-B7EA-45223FCE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4E0A-F0AD-4491-AFC3-55D6B762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94C-0146-4E4B-948C-5CA1350F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2964-FBC1-4B91-A958-9225B5B4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1EC-08E2-4DF6-B467-A2803FC1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9C1-48D6-4D0A-ADF9-98783689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C35-3C15-47F0-9BD7-D20CEDD8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DB89-572F-428A-91FB-B58BE3DE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CCAA-6110-4843-B42A-82B3C594F811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8ED1-460E-4EEE-A5D7-C105C64705EA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us aurez 2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16360" y="1916280"/>
                <a:ext cx="3035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59280" y="3357720"/>
                <a:ext cx="1015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advTm="2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z le tableau de signes de la dé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896000" cy="307656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52920" y="3633840"/>
                <a:ext cx="11178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654440" y="3919680"/>
                <a:ext cx="91440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u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49600" y="3989520"/>
                <a:ext cx="3124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60960" y="3944880"/>
                <a:ext cx="1701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413240" y="3716280"/>
                <a:ext cx="1397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’ 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’ 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 le coefficient directeur de la tangente au point d’abscis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40360" y="1341360"/>
                <a:ext cx="3035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17T19:47:37Z</dcterms:modified>
  <cp:revision>21</cp:revision>
  <dc:subject/>
  <dc:title>Donner l'image de -1 par la fonction f définie par </dc:title>
</cp:coreProperties>
</file>