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DDC-08C7-4F38-A92D-9645FCA2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437-AFDC-4AAC-9073-5AC7AE67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F7E-BA31-461D-A3F6-0ED37120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595-2EBA-4AE4-91A6-603A65AA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A407-48BB-4906-92FB-2992C1E8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882B-ACEE-4AD0-B657-D379AF6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694F-8E97-43EA-BCE8-92A12AD4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6194-F907-4D34-9704-28F7EA3F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B2F4-54EA-49D7-8A15-3A45E8D1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3506-7192-4AC8-A4CA-B397D80E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C167-E19D-4381-A931-A22AF8E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66C-5106-4AD3-B4B3-E1195468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80C-7957-41CD-9402-982CD367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AE4-EA68-4055-9F03-C746335F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FA4-2DF0-485F-9C4B-B0D96CB0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D518-3B33-4A5A-963F-A3B9B695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C77D-C737-4529-BA63-378248EA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DD3-69A9-45CD-B07C-6AEF74BF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EBF-46E7-40E6-B249-4CA59D9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941-3AD1-496B-A40E-73FDEA67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943-0CA4-4C92-B8D0-D172CF57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457-7BA5-4A57-BC69-4C5BC75E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689-2841-4603-88CA-3D94670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033-4F57-4AD4-822E-CDEFDE4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6AFA-B84C-48ED-A175-BB7175879A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610-E0C8-4964-ACE8-9F79ECCAE9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1557360"/>
            <a:ext cx="50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16360" y="2585880"/>
          <a:ext cx="1882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585880"/>
                    <a:ext cx="1882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87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1557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43280" y="2421000"/>
          <a:ext cx="2660760" cy="15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21000"/>
                    <a:ext cx="266076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227664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ét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2268360" y="3213000"/>
          <a:ext cx="36291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13000"/>
                    <a:ext cx="3629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773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cas d’équiprobabilité, comment calculer la probabilité d’un événement 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03280" y="1557360"/>
          <a:ext cx="61819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1819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619280" y="2997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3571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x² 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484280"/>
            <a:ext cx="61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considère la droite (d) d’équation :  x + 2y = 16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équ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(x) =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184464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a formule de l’équation d’une tangente à la courbe d’une fonction f au point d’abscisse  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1413000"/>
            <a:ext cx="590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re la formule permettant de calculer   t    pour   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+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04:26:59Z</dcterms:created>
  <dc:creator>Mignot Nathalie</dc:creator>
  <dc:description/>
  <dc:language>en-US</dc:language>
  <cp:lastModifiedBy>Mignot Nathalie</cp:lastModifiedBy>
  <dcterms:modified xsi:type="dcterms:W3CDTF">2008-08-24T04:58:14Z</dcterms:modified>
  <cp:revision>5</cp:revision>
  <dc:subject/>
  <dc:title>Activité mentale</dc:title>
</cp:coreProperties>
</file>