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138C-A162-4E87-8E6A-B3D80D489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8502-454D-4015-8C30-6A424259E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4B89-6A3E-4575-8516-DFFD2D383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32324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127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1333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32324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127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7B36-07BF-4C84-8418-30B152913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9088B-5976-4AFF-A0C1-86F101EEC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D403D-6B2B-4C9F-B719-5158DC083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6C767-AC2E-4FC1-A06D-0FA7EF2C0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6768A-A4A9-4174-839C-C5714C1CC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609DE-5DC4-4B64-AA45-E8C53FACD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2133360" y="1371600"/>
            <a:ext cx="647676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0B8D0-D326-4568-BF7B-0995C792A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1EFBD-E242-40CF-9DDC-A7A9A8AE6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06DE-3261-40C6-AB7A-CA385BE91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206F7-0339-4F54-B960-00FBDF7D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AB9B7-AD9C-47F1-B4D0-56546D12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79E50-0B67-4163-A703-004DF3471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81038-44E6-48BC-9149-56999D140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32324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127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1333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32324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127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C8FE9-DA95-48CD-B52B-90D6C59F2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6BCE-7EE3-42C1-AB6F-5DDD30BB6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C0E0-EEAF-4BE0-915D-00B585573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7C62-84F2-4313-A7A4-524E6AE2F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133360" y="1371600"/>
            <a:ext cx="647676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5BF9-B96B-43B8-8444-1A34559A3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1C33-1C2C-44F0-A569-BC3ADABB4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EA69-9BC5-48CE-8726-A0FD05CF5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616E-77ED-42A0-B6CB-9D1A2743E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B6A48-7E83-4DD2-A26F-C724F4612D50}" type="slidenum">
              <a:rPr b="0" lang="fr-FR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D721B-58A1-4E2E-9D20-4C024A9988D1}" type="slidenum">
              <a:rPr b="0" lang="fr-FR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ontrôl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éparez une feuille de répons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ttez votre no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érotez dix lignes de 1 à 1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us aurez 40 secondes par ques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ans une série statistique double comment obtient –on le point moyen du nuag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9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advTm="50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ans une série statistique double  , la droite obtenue avec les formules de la calculatrice est la droite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 10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advTm="50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mule de dérivée :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96" name=""/>
          <p:cNvGraphicFramePr/>
          <p:nvPr/>
        </p:nvGraphicFramePr>
        <p:xfrm>
          <a:off x="4527720" y="3887640"/>
          <a:ext cx="1168200" cy="6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7720" y="3887640"/>
                    <a:ext cx="116820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6012000" y="476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1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advTm="50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ez la dérivée de :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103" name=""/>
          <p:cNvGraphicFramePr/>
          <p:nvPr/>
        </p:nvGraphicFramePr>
        <p:xfrm>
          <a:off x="3695760" y="3989520"/>
          <a:ext cx="2832120" cy="49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95760" y="3989520"/>
                    <a:ext cx="2832120" cy="49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2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advTm="50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ez la dérivée de :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110" name=""/>
          <p:cNvGraphicFramePr/>
          <p:nvPr/>
        </p:nvGraphicFramePr>
        <p:xfrm>
          <a:off x="4324320" y="3944880"/>
          <a:ext cx="157500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4320" y="3944880"/>
                    <a:ext cx="157500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3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advTm="50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124000" y="980640"/>
            <a:ext cx="64771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(1) =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……</a:t>
            </a:r>
            <a:br>
              <a:rPr sz="48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’ (1) =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4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140360" y="2781360"/>
            <a:ext cx="3924000" cy="3848040"/>
          </a:xfrm>
          <a:prstGeom prst="rect">
            <a:avLst/>
          </a:prstGeom>
          <a:ln w="0">
            <a:noFill/>
          </a:ln>
        </p:spPr>
      </p:pic>
    </p:spTree>
  </p:cSld>
  <p:transition advTm="50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it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ez  le coefficient directeur de la tangente au point d’absciss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123" name=""/>
          <p:cNvGraphicFramePr/>
          <p:nvPr/>
        </p:nvGraphicFramePr>
        <p:xfrm>
          <a:off x="4229280" y="1341360"/>
          <a:ext cx="285732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29280" y="1341360"/>
                    <a:ext cx="285732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5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advTm="50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it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 quelle valeur de x,  la tangente est-elle « horizontale 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130" name=""/>
          <p:cNvGraphicFramePr/>
          <p:nvPr/>
        </p:nvGraphicFramePr>
        <p:xfrm>
          <a:off x="4229280" y="1341360"/>
          <a:ext cx="285732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29280" y="1341360"/>
                    <a:ext cx="285732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6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advTm="50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ans une série statistique double, l’ensemble des points que l’on place dans un repère s’appelle ….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7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advTm="50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ans une série statistique doubl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, essayer de placer une droite passant le plus près possible des points du nuage revient à réaliser un ajustement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8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advTm="50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08:38:38Z</dcterms:created>
  <dc:creator>Admin</dc:creator>
  <dc:description/>
  <dc:language>en-US</dc:language>
  <cp:lastModifiedBy>CLEMENT ODILE</cp:lastModifiedBy>
  <dcterms:modified xsi:type="dcterms:W3CDTF">2008-08-17T19:48:14Z</dcterms:modified>
  <cp:revision>25</cp:revision>
  <dc:subject/>
  <dc:title>Donner l'image de -1 par la fonction f définie par </dc:title>
</cp:coreProperties>
</file>