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9F3-D75D-4476-8EBA-A23344E6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D76-43F4-4CC9-8B89-B162A972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10E-04CF-4085-8CDD-79725D38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799-678C-42B6-93FC-63FD157D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A6D3-A554-4C91-93EA-29470C21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494-6939-4576-9498-F7B1EF1C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CA3D-1FEC-41D0-8578-865E8D8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4E30-99A1-462D-8952-A0744ACD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2205-7988-4017-872F-132AF81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4C4-17D2-40E8-89F2-B943ED0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D2BC-8A50-4BF4-80F3-04803F0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E6D-0E14-40D3-88AC-88ECD4D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FEF9-9FE1-46A3-AB64-A67B2B1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3F9E-EFFF-4336-82E6-7C93BD7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022-4944-4EA9-A156-031FC98E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77E-C64E-46E6-BC8E-8130CD5D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442-D9F4-4348-B688-18265F06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800-F2D2-4E09-90BE-4E7BAD1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059-6C7F-4B58-95AA-BB0BA1B8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898-7889-4C27-B286-603E6936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FCB-08C8-4130-A258-60E79AF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481-6A3B-4BB8-A0CA-07BEBD5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6FF-984D-48F1-B6DE-7E3BCCE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339-8C60-4A85-B544-FFC81B4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DB1F-28AC-4802-8B0C-06CEAC4101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F66-998D-4BE1-9792-BCAC799424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30 à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141300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= x² + 2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’équation de la tangente à la courbe de f au point d’abscisse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55736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  f ’(x) = -x²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ens de variation de la fonction f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58920" y="1920960"/>
            <a:ext cx="6121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1920960"/>
            <a:ext cx="5310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413000"/>
            <a:ext cx="554508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341360"/>
            <a:ext cx="648180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0 0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1,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341360"/>
            <a:ext cx="59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capital de 5000 F est placé à intérêt composé à un taux de 3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e capital obtenu au bout de 10 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7002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4x² + 2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557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ln(2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62864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iné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(3x-5)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09:42Z</dcterms:created>
  <dc:creator>Mignot Nathalie</dc:creator>
  <dc:description/>
  <dc:language>en-US</dc:language>
  <cp:lastModifiedBy>Mignot Nathalie</cp:lastModifiedBy>
  <dcterms:modified xsi:type="dcterms:W3CDTF">2008-09-08T22:21:26Z</dcterms:modified>
  <cp:revision>2</cp:revision>
  <dc:subject/>
  <dc:title>Activité mentale</dc:title>
</cp:coreProperties>
</file>