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6B23-F39A-44BD-87AD-FDDBC672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001-298E-4CC0-9BCC-AF1EE8FE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9F8-8586-4053-8E8B-8B01B051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95A-A48A-488A-98A0-8CD293F6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A8B7-0E19-4D85-971F-F6BFDC50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1CD2-8847-41B5-9F56-3FC238EF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532C-038F-434B-9A51-256DC0B8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4A15-21C0-4654-B0CC-C316334F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EB7D-60D4-447E-A796-C7941161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A41B-512E-4085-B289-2D61F1FE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0A12-D194-43B6-A7FF-66388D4B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8B8-BF7F-4A71-AE77-9CA4D9C0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6941-0C4D-4CCC-8076-6BFB268F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3059-EEB5-4A93-8203-A558DC77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8F00-9BF0-4C1F-A9A1-2AFA86F2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85D7-8FE9-4B22-BD32-2A3FFC23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14AB-E778-4448-8E82-8C3204D8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5D5-B88E-4136-B0FB-691865FD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16E-5757-4918-8EAF-07C98064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1E0-D8C0-48DB-827F-B2ADF4C9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63A-53D5-4198-A8EC-32210385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CF3-4C7E-44D1-B6DB-14B6C8DD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698-4A65-409A-B9D6-7537CF0B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708-60B6-4412-B309-AA65E52D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4BDF-0BE7-4094-9915-1A46D34BB39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3CC7-401E-48AB-8CD3-AE1CBF71E1D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2060640"/>
            <a:ext cx="6400800" cy="936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10920" y="3141360"/>
            <a:ext cx="784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us disposez de 45 secondes par qu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considère la droite (d) d’équation :5x + 3y = 150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éterminer les coordonnées des points d’intersection de la droite (d) et des ax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 considère la droite (d) d’équation :  -2x + 3y = 90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éterminer les coordonnées des points d’intersection de la droite (d) et des ax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ln) ‘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1 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e 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ésoudre l’équa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(x) =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ésoudre l’équa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(x) = -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crir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8 + 3ln2 – ln4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fonction de l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(x) = 3x² + 2ln(x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er  f ’ (x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(x) = ln(5x+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er f ‘ (x)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(x) = ln(x²+ 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er f ‘ (x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4:33:42Z</dcterms:created>
  <dc:creator>Mignot Nathalie</dc:creator>
  <dc:description/>
  <dc:language>en-US</dc:language>
  <cp:lastModifiedBy>Mignot Nathalie</cp:lastModifiedBy>
  <dcterms:modified xsi:type="dcterms:W3CDTF">2008-08-01T05:06:19Z</dcterms:modified>
  <cp:revision>3</cp:revision>
  <dc:subject/>
  <dc:title>Activité mentale</dc:title>
</cp:coreProperties>
</file>