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EFB-D393-4C93-9778-1AEB593D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886-AD61-4B40-91ED-3D64254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2E6-BBC0-440A-8181-F2D074BC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513-AA32-4AAE-B8FB-790A5C07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A21B-21EE-470D-9363-7996C867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5999-7700-469B-B280-92271F17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4061-7C05-40B0-B9FF-128A935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1E31-77DD-4E1A-8AD6-EBE0652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ED7F-CCFC-40B9-8FFF-7AADB23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6AA-C524-4DF0-9E0E-E1A37B6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4E6-0EEE-446F-A59A-17BC0EE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314-FD0E-48C7-A10B-CB7B44D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5850-8C1A-4D4C-A39E-596554C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514-D72F-4293-81AA-9C5FF56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03D-5CDD-4A7F-9C79-17C8211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2E8-B6CC-442D-9094-B0CAB5E7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155-CDA5-4D3F-A5F5-8859520A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1F1-35C8-4230-8CF7-B8F3C2A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E20-8D12-4611-B401-EC3EDC7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889-D92E-4F62-85FD-5952B922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1E7-0C7D-4465-A321-AA9FD2E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4C6-B0CA-492F-87E1-7FD3A46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7DF-6C9C-440B-B334-3DC68803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342-CCAD-4C65-93F9-D6748C6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9CC-D69B-42CA-877D-5F03A17D10B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0A9B-3781-41A2-A9B8-2CEE6F27D36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ous aurez 3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Mignot Nathalie</cp:lastModifiedBy>
  <dcterms:modified xsi:type="dcterms:W3CDTF">2008-08-01T04:28:02Z</dcterms:modified>
  <cp:revision>22</cp:revision>
  <dc:subject/>
  <dc:title>Donner l'image de -1 par la fonction f définie par </dc:title>
</cp:coreProperties>
</file>