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BCF4-F682-448E-8CB9-C738E39E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F89C-DCC5-4561-A8DC-D1557000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ED6D-433A-44EF-B117-994968F20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7414-296A-4548-87DC-0E60EBDE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1E32-3B96-4E04-96DA-EBEB9DAB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C402-6F42-4A2A-979F-DF20B6D0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055C-C740-40FE-A05A-AD4FCD9A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BEA0-9D78-4A4D-A471-1544A71D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3A5F-459D-41F3-A3B6-1612FB92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8E19-1547-4BAB-90AD-95DDC633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06B4-5844-464F-928C-B0ED54DB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9216-DDCB-4D45-8EB7-C3976AAF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51E7-157D-4C4D-A3A7-553B5981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4E2E-602B-4623-B1A7-9F3033E6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B310-E63C-4808-87BE-E3D7C51F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6641-90DC-4A31-B2AE-8F39DAD0C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6D58-114F-441A-A0B0-82560FCD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88B5-C15F-4412-8339-FAE03DE0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9C22-0487-48B2-8C11-E90E6CD5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9A50-30ED-46EA-ADD4-0544385D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1CAC-3F18-43C8-9D3B-D83157B5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8F80-90D0-4D0B-8BBE-7738BE71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1D4D-0712-4EAC-AD38-E5C4F2E7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660E-8D59-449B-9D71-1FF9F994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075A-BE9A-4AA9-97DF-D0C5DF49CB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2BCF-F2C5-4032-BAA4-8BAB859982B5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15f7b"/>
                </a:solidFill>
                <a:latin typeface="Tahoma"/>
              </a:rPr>
              <a:t>IE3  term .S</a:t>
            </a:r>
            <a:br>
              <a:rPr sz="4000"/>
            </a:b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26560" y="1773360"/>
            <a:ext cx="7634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r 10 poi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ous disposez de  45 secondes  par ques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l y a  9 ques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rème : 1 point gratuit, 1 point par réponse exacte, pas de point enlevé par réponse fauss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levez le numéro de la question et donner la répon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 ’(x) lorsque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(x) =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crire la formule donnant la dérivée de la fonction v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5148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340000" y="3429000"/>
                <a:ext cx="8636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4818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suppose  que f est dérivable en a. Compléter :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suppose  que f est dérivable en a.   Alors, pour h voisin de zéro, on peut écrire 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 (a+h)   ≈ ………………..……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2276640"/>
            <a:ext cx="0" cy="37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39640" y="4365720"/>
                <a:ext cx="344196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2017800"/>
            <a:ext cx="438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crire la formule donnant la dérivée de la fonction v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 ’(x) lorsqu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(x)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500364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588000" y="3500280"/>
                <a:ext cx="99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2017800"/>
            <a:ext cx="474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suppose  que f est dérivable en a.   Alors, pour h voisin de zéro, on peut écrire 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 (a+h)   ≈ ………………..……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76640" y="1989000"/>
            <a:ext cx="416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suppose  que f est dérivable en a.   Donner l’équation de la tangente  à la courbe représentative de f au point d’abscisse 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71636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000" y="2017800"/>
            <a:ext cx="431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suppose  que f est dérivable en a.   Alor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 ’(a) a une signification graphique par rapport au graphe de f 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 ’(a) est ……………………………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0328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suppose  que f est dérivable en a. Compléter :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4932360" y="177336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364000" y="3716280"/>
                <a:ext cx="344196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 ’(x) lorsqu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(x) =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 ’(x) lorsque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(x) =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932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484360" y="3500280"/>
                <a:ext cx="99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588000" y="3500280"/>
                <a:ext cx="8636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crire la formule permettant de calculer la dérivée de  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 ’(x) lorsque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(x)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659640" y="3500280"/>
                <a:ext cx="11174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627280" y="3429000"/>
                <a:ext cx="3175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 ’(x) lorsque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(x)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crire la formule permettant de calculer la dérivée de  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411280" y="3500280"/>
                <a:ext cx="11178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732720" y="3429000"/>
                <a:ext cx="3175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suppose  que f est dérivable en a.   Donner l’équation de la tangente  à la courbe représentative de f au point d’abscisse 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suppose  que f est dérivable en a.   Alor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’(a) a une signification graphique par rapport au graphe de f 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’(a) est ………………………………………………………………….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493236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53:26Z</dcterms:created>
  <dc:creator>CLEMENT ODILE</dc:creator>
  <dc:description/>
  <dc:language>en-US</dc:language>
  <cp:lastModifiedBy>CLEMENT ODILE</cp:lastModifiedBy>
  <dcterms:modified xsi:type="dcterms:W3CDTF">2008-07-08T04:02:46Z</dcterms:modified>
  <cp:revision>17</cp:revision>
  <dc:subject/>
  <dc:title>CR2</dc:title>
</cp:coreProperties>
</file>