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E3E-5EDC-4B9D-8071-51A4939E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1CA-424A-4A56-82B4-742D7EFD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2BC-81AB-460E-BC0D-5120DEEF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D19-2037-4015-9508-DFDC8F28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0215-F014-4275-A7AC-FEEB1117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0361-EC33-4DF1-A858-6A1CA202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32F7-B856-464E-97CC-8CF2399D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9919-BC77-4C59-8C8C-F1EFC10F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9F19-10AC-46E2-B46F-4BB0F4B2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31A9-5DD4-4C2D-B9C8-C6E8DD16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C826-1E5E-4FFF-94D3-AA7242E3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017-956D-42FD-ADA8-C1920569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90DE-140C-4A57-B1AF-A5D51CE8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2B03-1814-45A5-B25A-9E200025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B2F1-FCDC-4943-9FC5-EE354893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FC40-61B2-45A3-B2FC-72588BBB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5078-C527-48F9-BD26-4FD75F88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3AE-6B55-4084-AE56-249EB730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C8D-B0C8-4870-B73A-581F53C6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D0A-1211-49B3-B455-E11DD480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E80-4A3C-4F39-AAAA-779D9AFB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6DD-5F07-4A45-9458-68E7BCB7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090-D2A5-41F8-9D7E-788FCD50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C7F-2BB4-4657-B6F0-380D218B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439E-4624-414D-96E7-FB5D85DDD8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86B9-07EA-4BA8-853D-4EBDB23A2798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bilités 1. Automath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82706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quez sur votre feuille votre nom e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ivant votre place à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us disposerez de 50 secondes par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y a neuf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rème : 2 points gratuits et deux points par questions exactes. Il n’est pas tenu compte de la rédaction, seule la réponse m’importe mais des calculs intermédiaires sont parfois nécess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9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 urne contient 8 boules rouges et deux boules ve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tire au hasard une boule de l’urne puis une autre sans avoir remis la premiè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: « la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è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oule tirée est verte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: « la deuxième boule tirée est rouge »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éterminer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  P(A   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084720" y="5805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164360" y="5373720"/>
                <a:ext cx="762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340000" y="5300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3059280" y="4437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39640" y="321264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386064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08000" y="263700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314172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050920" y="3933360"/>
            <a:ext cx="936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429264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53880" y="3645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10960" y="2421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82240" y="306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8224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1840" y="400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0920" y="2492280"/>
            <a:ext cx="6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16400" y="2852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31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5160" y="522936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éterminer P(A      B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0360" y="530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 (question 1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A) = 0,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B)=0,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A   B) =0,7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: P(A  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robabilité de A sachant que l’événement B est réalisé vaut 0,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P(B) = 0,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 P(A) = 0,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P(A  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400536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987640" y="4581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544500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(question 2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deux événements A et B indépendants et p(A  B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éterminer P(B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B) = 0,6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s événements A et B sont-ils indépendants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476360" y="393372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300720" y="4076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(question 3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381636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éter l’arbre sachant qu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(A ) = 0,4                = 0,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0,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2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227664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19280" y="3645000"/>
            <a:ext cx="861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422100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71640" y="321300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3716280"/>
            <a:ext cx="1152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843280" y="443700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479736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484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5084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0240" y="2924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45813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342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3860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22100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268360" y="2421000"/>
                <a:ext cx="762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26920" y="2997360"/>
                <a:ext cx="76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572000" y="2205000"/>
            <a:ext cx="432108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nner la formule des probabilités totales permettant de calculer p(B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19640" y="3860280"/>
            <a:ext cx="8622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450864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515772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372360" y="472428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516720" y="328428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6720" y="378936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3500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486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62240" y="299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40720" y="3860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0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46240" y="551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12000" y="38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4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 urne contient 8 boules rouges et deux boules ve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tire au hasard une boule de l’urne puis une autre sans avoir remis la premiè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: « la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è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oule tirée est verte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: « la deuxième boule tirée est rouge »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éterminer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  P(A   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227664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059280" y="5373720"/>
                <a:ext cx="761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476360" y="573408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801120" y="2781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1168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5120" y="400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06560" y="24210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49480" y="42926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651640" y="306828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71628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093080" y="2565000"/>
            <a:ext cx="1150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2924280"/>
            <a:ext cx="11509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380360" y="3789000"/>
            <a:ext cx="934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08720" y="414972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P(A   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524720" y="5300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7885080" y="50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1680" y="299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836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2960" y="3573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11680" y="4292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836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7120" y="39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930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5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quels conditions les événements A et B sont-ils indépendant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deux défin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=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 B) =0,7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lculer : P(A   B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300720" y="429264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101080" y="494172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6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quelles conditions les événements A et B sont-ils indépendant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donnera deux défin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2060640"/>
            <a:ext cx="3673800" cy="49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probabilité de A sachant que l’événement B est réalisé vaut : 0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P(B) = 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 P(A) =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P(A 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601280" y="415116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43280" y="4797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7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B) = 0,6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s événements A et B sont-ils indépendants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59280" y="198900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 deux événements A et B indépend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 p(A   B) = 0,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A)= 0,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éterminer P(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372360" y="3357720"/>
                <a:ext cx="3175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92360" y="4076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8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88000" y="2349360"/>
            <a:ext cx="435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éter l’arbre sachant 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A ) = 0,4                = 0,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,7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82600" y="2805120"/>
            <a:ext cx="3810240" cy="2540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0072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093080" y="2852640"/>
                <a:ext cx="761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003640" y="3573360"/>
                <a:ext cx="7621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 flipV="1">
            <a:off x="5219640" y="458136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422100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588000" y="4149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443700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659640" y="5157720"/>
            <a:ext cx="936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59640" y="5589720"/>
            <a:ext cx="936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24760" y="5229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67640" y="3860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24760" y="4149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62240" y="4941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62240" y="558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3532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12000" y="45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74072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06064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nner la formule des prob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es permettant de calculer 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55640" y="3645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19640" y="508464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0760" y="3357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2040" y="4365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3068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87640" y="357336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3640" y="4076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465300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050920" y="3357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195640" y="4365720"/>
            <a:ext cx="1008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465300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3645000"/>
            <a:ext cx="936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3:50:51Z</dcterms:created>
  <dc:creator>CLEMENT ODILE</dc:creator>
  <dc:description/>
  <dc:language>en-US</dc:language>
  <cp:lastModifiedBy>CLEMENT ODILE</cp:lastModifiedBy>
  <dcterms:modified xsi:type="dcterms:W3CDTF">2008-07-08T04:03:37Z</dcterms:modified>
  <cp:revision>28</cp:revision>
  <dc:subject/>
  <dc:title>Calcul mental 1</dc:title>
</cp:coreProperties>
</file>