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001-09C0-466F-B267-CD829255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DD5-2F01-4AC9-A4D5-F8635480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B67-6CF4-499C-8F71-8021965C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5AD-01C7-48BD-915C-8C468BF6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6D37-E391-4879-96D5-6993D23C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AEE8-E433-4835-A7FE-8644BBF7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0BB7-C963-474D-8D22-90484C38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DFF2-CA29-4050-AE27-AA2F3BC7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A9C3-C26A-4DD1-809B-34256A8F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0B4E-5761-4858-90DF-75978350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2F82-EED9-4970-B3E0-E114A0AE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614-1EED-46E2-8DAA-4E49DDDE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0EBA-E8E2-4359-B269-4223F152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107B-E686-4DE7-9AB4-A9280D4E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51F0-7E0A-4FFC-A7DA-75CCD612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9ADC-44AB-4911-A4B2-35032356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0A12-8E10-4B1D-B485-94552521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5C9-2AAE-40DE-85E8-1F4A9A2F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C8F-E4C2-45E4-9400-EC3F58C0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F55-93DA-400B-83B3-481CADB5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9AD-E44E-41B9-994F-A7E0A3F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913-F65C-433B-AA8B-1DEC3C41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F9B-F180-450C-B1CF-ECFB89D6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B3B-378C-445C-9DA5-F991113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4CA0-C206-4B32-99DA-50A9B54B0C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9E35-1E58-4D9B-BDA6-4A571C6CD3D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4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403280" y="299736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51640" y="45086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24360" y="5516640"/>
                <a:ext cx="2159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, 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76720" y="4724280"/>
                <a:ext cx="3492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6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 ,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3645000"/>
                <a:ext cx="3492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35280" y="4149720"/>
                <a:ext cx="175248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012000" y="306864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32000" y="2852640"/>
                <a:ext cx="1307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435640" y="422100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81200" y="38768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55640" y="4941720"/>
                <a:ext cx="2158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796000" y="4076640"/>
                <a:ext cx="17524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4360" y="393372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88000" y="2708280"/>
                <a:ext cx="130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5:05Z</dcterms:modified>
  <cp:revision>25</cp:revision>
  <dc:subject/>
  <dc:title>CR2</dc:title>
</cp:coreProperties>
</file>