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2A9-B7BB-4CC8-8790-9D86A000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6D5-A530-433E-BB82-D6207468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E91-93F9-4ADC-A417-FE598822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828-3D22-41E4-B34A-2D3E76EF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D13C-FA9B-4DFD-A6CC-5781E8A1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F064-3643-41D4-9F60-62DFFB7B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D3B8-B0AA-42FF-9227-4F2158E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5658-C679-4396-8E4C-9FCA1F8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7FE3-763D-496C-8C3A-96F2650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9199-EA66-46C5-917E-EB9083F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0250-2891-4611-BFE7-FE73B00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6C9-3954-41D0-BB44-5CF5980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6D95-C37B-4453-A642-E2B5D28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3368-7239-45D9-9886-ABD1004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0057-6061-401E-945E-EA50CBA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3229-87EA-4214-A5DA-9778A06D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EAD3-0073-44DC-AE83-F53F92CE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F56-1598-4CEA-980A-1F3CC357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F33-2DB6-43DC-AF65-26CA7B6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45C-6758-4DFA-BAF1-7ACC2D7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857-1793-4DE3-9C33-D786245A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AAC-E58B-4EB2-A7A0-D362852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909-0A8E-49FE-8E56-D1BE61C1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E15-6DFC-4DD3-9811-215CF0D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6672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89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1592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98A5-E259-484C-9A8B-D58760AF03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04640"/>
            <a:ext cx="9009000" cy="1052640"/>
            <a:chOff x="135000" y="404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12640"/>
              <a:ext cx="711360" cy="474840"/>
              <a:chOff x="425520" y="512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12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1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934920"/>
              <a:ext cx="737640" cy="474840"/>
              <a:chOff x="549360" y="934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934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93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86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04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2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C5D-8735-45C9-A436-3030926EB90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6 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l y a  10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On notera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Rockwell Extra Bold"/>
              </a:rPr>
              <a:t> 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A ,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B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B , …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2852640"/>
                <a:ext cx="2400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7640" y="1916280"/>
            <a:ext cx="3881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781360"/>
                <a:ext cx="2400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AM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2133720"/>
            <a:ext cx="356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s points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14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1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4365720"/>
                <a:ext cx="16765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4365720"/>
                <a:ext cx="16761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6-30T07:36:08Z</dcterms:modified>
  <cp:revision>39</cp:revision>
  <dc:subject/>
  <dc:title>CR2</dc:title>
</cp:coreProperties>
</file>