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61F-2DD3-45B5-8213-320742A2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2C1-C12A-451A-808E-B7F82E8D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72D-F725-4453-9B68-BC8A9BB8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537-0DB8-4DE2-8457-82DACA03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E6F-41EA-41D0-98F6-DE39BFBC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D95-DDCC-4FCD-B9F4-52342B09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8F3-3D6A-4F99-9E14-0DBEB160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554-CB01-4083-A223-1ED4557F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663-9E28-4566-8F32-F42800F9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83A-DD9D-4645-AA03-5047213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C3A-9897-4709-AC9D-40055B89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7DC-59A3-4A27-8BCB-09C7A065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F872-CE91-4112-8ACA-962760F1B33E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8 primitives et intégr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6200" y="214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962240" y="1660680"/>
            <a:ext cx="3929760" cy="3797280"/>
            <a:chOff x="4962240" y="1660680"/>
            <a:chExt cx="3929760" cy="37972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076720" y="342900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962240" y="166068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95280" y="2276640"/>
            <a:ext cx="4176720" cy="3506040"/>
            <a:chOff x="395280" y="2276640"/>
            <a:chExt cx="4176720" cy="3506040"/>
          </a:xfrm>
        </p:grpSpPr>
        <p:sp>
          <p:nvSpPr>
            <p:cNvPr id="197" name=""/>
            <p:cNvSpPr/>
            <p:nvPr/>
          </p:nvSpPr>
          <p:spPr>
            <a:xfrm>
              <a:off x="395280" y="227664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702080" y="4583160"/>
                  <a:ext cx="2793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ransition advTm="45000">
    <p:zoom dir="ou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16360" y="2205000"/>
            <a:ext cx="4176720" cy="3506040"/>
            <a:chOff x="4716360" y="2205000"/>
            <a:chExt cx="4176720" cy="3506040"/>
          </a:xfrm>
        </p:grpSpPr>
        <p:sp>
          <p:nvSpPr>
            <p:cNvPr id="203" name=""/>
            <p:cNvSpPr/>
            <p:nvPr/>
          </p:nvSpPr>
          <p:spPr>
            <a:xfrm>
              <a:off x="4716360" y="220500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6023160" y="4511880"/>
                  <a:ext cx="2793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5" name=""/>
          <p:cNvGrpSpPr/>
          <p:nvPr/>
        </p:nvGrpSpPr>
        <p:grpSpPr>
          <a:xfrm>
            <a:off x="374400" y="1989000"/>
            <a:ext cx="3929760" cy="3797280"/>
            <a:chOff x="374400" y="1989000"/>
            <a:chExt cx="3929760" cy="37972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488880" y="375732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74400" y="198900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45000">
    <p:zoom dir="ou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47920" y="1827360"/>
            <a:ext cx="3038040" cy="2854080"/>
            <a:chOff x="547920" y="1827360"/>
            <a:chExt cx="3038040" cy="2854080"/>
          </a:xfrm>
        </p:grpSpPr>
        <p:sp>
          <p:nvSpPr>
            <p:cNvPr id="105" name=""/>
            <p:cNvSpPr/>
            <p:nvPr/>
          </p:nvSpPr>
          <p:spPr>
            <a:xfrm>
              <a:off x="547920" y="182736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685800" y="40338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4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4604400" y="2060640"/>
            <a:ext cx="4356360" cy="3287520"/>
            <a:chOff x="4604400" y="2060640"/>
            <a:chExt cx="4356360" cy="3287520"/>
          </a:xfrm>
        </p:grpSpPr>
        <p:sp>
          <p:nvSpPr>
            <p:cNvPr id="109" name=""/>
            <p:cNvSpPr/>
            <p:nvPr/>
          </p:nvSpPr>
          <p:spPr>
            <a:xfrm>
              <a:off x="4604400" y="206064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4808520" y="416700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38640" y="1916280"/>
            <a:ext cx="3477600" cy="3171600"/>
            <a:chOff x="5138640" y="1916280"/>
            <a:chExt cx="3477600" cy="3171600"/>
          </a:xfrm>
        </p:grpSpPr>
        <p:sp>
          <p:nvSpPr>
            <p:cNvPr id="117" name=""/>
            <p:cNvSpPr/>
            <p:nvPr/>
          </p:nvSpPr>
          <p:spPr>
            <a:xfrm>
              <a:off x="5390640" y="191628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 su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 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5138640" y="380520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202320" y="227664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60520" y="1844640"/>
            <a:ext cx="3477600" cy="3171600"/>
            <a:chOff x="560520" y="1844640"/>
            <a:chExt cx="3477600" cy="3171600"/>
          </a:xfrm>
        </p:grpSpPr>
        <p:sp>
          <p:nvSpPr>
            <p:cNvPr id="126" name=""/>
            <p:cNvSpPr/>
            <p:nvPr/>
          </p:nvSpPr>
          <p:spPr>
            <a:xfrm>
              <a:off x="812520" y="184464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s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60520" y="373356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"/>
          <p:cNvSpPr/>
          <p:nvPr/>
        </p:nvSpPr>
        <p:spPr>
          <a:xfrm>
            <a:off x="4450320" y="242100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04080" y="1989000"/>
            <a:ext cx="3038040" cy="2854080"/>
            <a:chOff x="5104080" y="1989000"/>
            <a:chExt cx="3038040" cy="2854080"/>
          </a:xfrm>
        </p:grpSpPr>
        <p:sp>
          <p:nvSpPr>
            <p:cNvPr id="135" name=""/>
            <p:cNvSpPr/>
            <p:nvPr/>
          </p:nvSpPr>
          <p:spPr>
            <a:xfrm>
              <a:off x="5104080" y="198900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5241960" y="419544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48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480240" y="1827360"/>
            <a:ext cx="4356360" cy="3287520"/>
            <a:chOff x="480240" y="1827360"/>
            <a:chExt cx="4356360" cy="3287520"/>
          </a:xfrm>
        </p:grpSpPr>
        <p:sp>
          <p:nvSpPr>
            <p:cNvPr id="139" name=""/>
            <p:cNvSpPr/>
            <p:nvPr/>
          </p:nvSpPr>
          <p:spPr>
            <a:xfrm>
              <a:off x="480240" y="182736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684360" y="393372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46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1795320" y="317340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" name=""/>
          <p:cNvGrpSpPr/>
          <p:nvPr/>
        </p:nvGrpSpPr>
        <p:grpSpPr>
          <a:xfrm>
            <a:off x="4716360" y="2060640"/>
            <a:ext cx="4176720" cy="3268080"/>
            <a:chOff x="4716360" y="2060640"/>
            <a:chExt cx="4176720" cy="3268080"/>
          </a:xfrm>
        </p:grpSpPr>
        <p:sp>
          <p:nvSpPr>
            <p:cNvPr id="150" name=""/>
            <p:cNvSpPr/>
            <p:nvPr/>
          </p:nvSpPr>
          <p:spPr>
            <a:xfrm>
              <a:off x="4716360" y="206064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292720" y="4128120"/>
                  <a:ext cx="1739880" cy="120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57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081160" y="2798640"/>
                  <a:ext cx="69840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4875120" y="2205000"/>
            <a:ext cx="3786480" cy="3949920"/>
            <a:chOff x="4875120" y="2205000"/>
            <a:chExt cx="3786480" cy="3949920"/>
          </a:xfrm>
        </p:grpSpPr>
        <p:sp>
          <p:nvSpPr>
            <p:cNvPr id="161" name=""/>
            <p:cNvSpPr/>
            <p:nvPr/>
          </p:nvSpPr>
          <p:spPr>
            <a:xfrm>
              <a:off x="487512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740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27696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30760" y="2133720"/>
            <a:ext cx="3786480" cy="3949920"/>
            <a:chOff x="4730760" y="2133720"/>
            <a:chExt cx="3786480" cy="3949920"/>
          </a:xfrm>
        </p:grpSpPr>
        <p:sp>
          <p:nvSpPr>
            <p:cNvPr id="169" name=""/>
            <p:cNvSpPr/>
            <p:nvPr/>
          </p:nvSpPr>
          <p:spPr>
            <a:xfrm>
              <a:off x="4730760" y="213372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92320" y="452736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6329160" y="2727360"/>
                  <a:ext cx="69804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73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88424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75120" y="1916280"/>
            <a:ext cx="3786480" cy="3949920"/>
            <a:chOff x="4875120" y="1916280"/>
            <a:chExt cx="3786480" cy="3949920"/>
          </a:xfrm>
        </p:grpSpPr>
        <p:sp>
          <p:nvSpPr>
            <p:cNvPr id="181" name=""/>
            <p:cNvSpPr/>
            <p:nvPr/>
          </p:nvSpPr>
          <p:spPr>
            <a:xfrm>
              <a:off x="4875120" y="191628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37400" y="430992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188040" y="288468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179280" y="2043000"/>
            <a:ext cx="4176720" cy="3214800"/>
            <a:chOff x="179280" y="2043000"/>
            <a:chExt cx="4176720" cy="3214800"/>
          </a:xfrm>
        </p:grpSpPr>
        <p:sp>
          <p:nvSpPr>
            <p:cNvPr id="185" name=""/>
            <p:cNvSpPr/>
            <p:nvPr/>
          </p:nvSpPr>
          <p:spPr>
            <a:xfrm>
              <a:off x="179280" y="204300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55640" y="4076640"/>
                  <a:ext cx="173988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20T02:03:52Z</dcterms:modified>
  <cp:revision>33</cp:revision>
  <dc:subject/>
  <dc:title>Donner l'image de -1 par la fonction f définie par </dc:title>
</cp:coreProperties>
</file>