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445-ED73-49FE-AA16-9A7E6A79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B94-0ACE-4929-A2AF-CD53D395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88D-774F-4C86-A629-43ED16BC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A93-6BEA-4BC1-9877-084A90E9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88E0-2062-4E0E-8D64-FC56B7FB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E615-2A37-43E2-8498-727FFDE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A978-45B1-4E7E-9717-8BCB38B6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2387-A196-458F-80E9-220B708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C18B-BAB2-4F5C-BAE5-7711DF7F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CC7B-9F97-4CF5-86A7-E2BE7A87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DA3B-3112-408E-98E0-312972F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DF4-265C-448D-BADA-32BF8DA3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D866-CC81-42CD-A527-C336113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303D-968E-46CA-8006-A06BD995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5507-0B70-4396-BC73-C5A63E8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D318-81B9-4C19-AA4C-4B1E983D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59DC-8C4F-4701-A483-48B9CD2E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397-AE49-474B-9D25-16C20FA8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21F-2013-43C6-8D50-22CDF8C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DC9-FD70-4422-8583-667CE9D2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AD2-064F-4066-85A4-B2534A3A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C12-A2CD-40F3-97D7-D56DE9E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B3B-9E4C-4E0C-8224-B2602E5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5A7-D98A-42EF-BD8D-19A6CF6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284B-8C21-4FC8-B2F2-276DEE6ADD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36640"/>
            <a:ext cx="9009000" cy="1052640"/>
            <a:chOff x="0" y="836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44640"/>
              <a:ext cx="711360" cy="474840"/>
              <a:chOff x="290520" y="944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44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44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66920"/>
              <a:ext cx="737640" cy="474840"/>
              <a:chOff x="414360" y="1366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66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66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93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36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58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F078-6EA7-4061-9C8C-69B31CF23BB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5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10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89000"/>
            <a:ext cx="410508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378936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80000" y="321300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6000" y="278136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66760" y="285264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64000" y="285264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43120" y="283356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7:43Z</dcterms:modified>
  <cp:revision>38</cp:revision>
  <dc:subject/>
  <dc:title>CR2</dc:title>
</cp:coreProperties>
</file>