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F37-A983-4E63-9C80-CC91B7FD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09D-9D10-4E0D-B94A-843D4299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6E6-1B4B-41E5-89AD-0CA1C5C4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8AF-134F-41B0-8F5C-9A4D7B29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01B6-DAF9-4BCB-ACB9-FE2BCFCC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130A-7ED3-4B45-B147-E424EA9A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9FBE-1D17-417F-A896-B3CF6ADE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26A2-1410-4202-AE55-203014AF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A48C-D4CC-4765-B794-33357288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B1B4-2E29-4C23-A5A8-398DE5D1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6D7B-7FFE-4DC7-A2FD-29A33C42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F19-AFF2-41E7-9643-4C384F7C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CFE5-380D-4CD9-A72A-A574D2E0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B41A-E6BC-46A9-9307-FC7057A3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BA1F-0BA5-418C-B993-78396F9C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7B95-8ACE-4225-B9CA-681B6EA7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651A-F8C0-4B2A-9353-6FA52182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179-4477-4B5C-A7CA-A183AC66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C21-1089-4488-9256-D1E6C299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CFE-2709-41E4-8158-0C8D3311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0EC-1D6C-45E7-B64F-6AAAA6EF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A34-BE24-4717-BB6D-21928C5C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039-2DCC-401F-BC44-C136036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85A-FD0D-4B78-A175-06DE1EBF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4159-9903-46E9-A123-503D4F1EB2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CC42-CA82-4500-BDD8-6C3DE2705D8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IE N°3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devoir est sur 10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’ est une série de 10 questions notées 1 point chacune ; vous disposez de 50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On donne la variance d’une série : V = 0,64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-il possible que la variance d’une série soit un nombre négatif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centage de la population dont les modalités sont  comprises entre l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quartile et le troisième quart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formule permettant de calculer la moyenne d’une série dont les modalités xi sont affectées des effectifs ni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ciser la différence entre une série qualitative et une série quant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67360" y="285264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formule permettant de calculer la moyenne d’une série dont les modalités xi sont affectées des effectifs ni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40766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 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- a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4076640" cy="1447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ciser la différence entre une série qualitative et une série quant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a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367380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’est-ce que le mode d’une série statistiqu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881440"/>
            <a:ext cx="399564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-il possible que la variance d’une série soit un nombre négatif ? Pourquoi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le mode d’une série statistique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onne la variance d’une séri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 = 0,6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3640" y="2017800"/>
            <a:ext cx="39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 pourcentage de la population dont les modalités sont  comprises entre l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quartile et le troisième quart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13T23:08:56Z</dcterms:modified>
  <cp:revision>33</cp:revision>
  <dc:subject/>
  <dc:title>Donner l'image de -1 par la fonction f définie par </dc:title>
</cp:coreProperties>
</file>