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078-A6F8-4BE3-A520-14DC2985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F13-9B6A-42B8-A8E2-F444FCC1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18D-0938-4090-9E7B-1A3571CF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1FA-E7FF-4503-AF5E-4F63CCF5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EA29-C2D0-40CE-A59E-22FE93CF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F9FB-87C4-45DF-998F-A8505258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A6A8-D316-482F-84FD-5C59C94D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F6D1-7E32-4B36-9BB8-597EF9E0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1F1C-63D5-44EB-B89E-947B092B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EE46-AB0B-41DD-9D39-3366D5F6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5C5F-7583-42F5-985F-CC14DA23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266-8FD7-49EF-B639-49E0D813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B701-4F9A-4B7D-8D51-77545BF6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3E66-76E0-422A-8E21-515727F9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4B4A-3ECE-4EC9-A6ED-A40A49BF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C0A3-A955-49FD-9D00-D49CDE05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5929-808D-4FAC-8986-4E0FCD8E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BB2-D46F-4B81-A140-307B22CA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469-1375-44E7-9CB3-2A1A1D3B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138-4C66-4475-AA1C-9908A72D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9AB-6AC0-4786-8420-53E5C99C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9EC-B3D0-4907-B8D3-8E1B7ED9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4F34-2EE5-4481-9DE8-58FA0282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ABD-6D67-4698-8FEC-695A80A9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F5C7-33FA-4FDC-A794-D59CBA39216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2099-550C-4E78-A455-18BC1C9141D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us aurez 2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16360" y="1916280"/>
                <a:ext cx="3035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59280" y="3357720"/>
                <a:ext cx="1015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advTm="2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z le tableau de signes de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896000" cy="307656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52920" y="3633840"/>
                <a:ext cx="1117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r la  dérivée de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84600" y="3913200"/>
                <a:ext cx="1054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49600" y="3989520"/>
                <a:ext cx="3124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60960" y="3944880"/>
                <a:ext cx="1701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413240" y="3716280"/>
                <a:ext cx="1397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’ 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40360" y="1341360"/>
                <a:ext cx="3035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7-08T04:15:21Z</dcterms:modified>
  <cp:revision>23</cp:revision>
  <dc:subject/>
  <dc:title>Donner l'image de -1 par la fonction f définie par </dc:title>
</cp:coreProperties>
</file>