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CB0-804E-4A93-989E-E542ACA3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96B-2844-4555-B7AC-D45C9752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76F-F331-4464-AA87-33C25B9E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05A-20ED-4D41-9A1C-5670F26A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C6C-8A1A-4568-89AC-98F3C729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BEB-07D8-4A0A-86A3-492A9E5A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36D-BB87-4EF7-B696-7CBEB043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674-5884-4859-B381-125FB834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DF4-40EF-4C7C-AE32-01A3801C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425-1F16-42B3-9231-E36CDAD5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5DD-9A8D-4A3D-96AB-22404B97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D26-F6EF-472E-89CD-009468FC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D4A6-28D3-4C57-8716-573F942A1C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40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3480" y="1857240"/>
            <a:ext cx="3156120" cy="2783160"/>
            <a:chOff x="663480" y="1857240"/>
            <a:chExt cx="3156120" cy="2783160"/>
          </a:xfrm>
        </p:grpSpPr>
        <p:sp>
          <p:nvSpPr>
            <p:cNvPr id="180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755640" y="335772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2" name=""/>
          <p:cNvGrpSpPr/>
          <p:nvPr/>
        </p:nvGrpSpPr>
        <p:grpSpPr>
          <a:xfrm>
            <a:off x="5580000" y="2133720"/>
            <a:ext cx="2881440" cy="2595600"/>
            <a:chOff x="5580000" y="2133720"/>
            <a:chExt cx="2881440" cy="2595600"/>
          </a:xfrm>
        </p:grpSpPr>
        <p:sp>
          <p:nvSpPr>
            <p:cNvPr id="183" name=""/>
            <p:cNvSpPr/>
            <p:nvPr/>
          </p:nvSpPr>
          <p:spPr>
            <a:xfrm>
              <a:off x="5580000" y="213372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815080" y="326880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u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1989000"/>
            <a:ext cx="2881440" cy="2595600"/>
            <a:chOff x="826920" y="1989000"/>
            <a:chExt cx="2881440" cy="2595600"/>
          </a:xfrm>
        </p:grpSpPr>
        <p:sp>
          <p:nvSpPr>
            <p:cNvPr id="189" name=""/>
            <p:cNvSpPr/>
            <p:nvPr/>
          </p:nvSpPr>
          <p:spPr>
            <a:xfrm>
              <a:off x="826920" y="198900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062000" y="312408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u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5219640" y="2060640"/>
            <a:ext cx="3156120" cy="2782440"/>
            <a:chOff x="5219640" y="2060640"/>
            <a:chExt cx="3156120" cy="2782440"/>
          </a:xfrm>
        </p:grpSpPr>
        <p:sp>
          <p:nvSpPr>
            <p:cNvPr id="192" name=""/>
            <p:cNvSpPr/>
            <p:nvPr/>
          </p:nvSpPr>
          <p:spPr>
            <a:xfrm>
              <a:off x="5219640" y="20606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311800" y="3560760"/>
                  <a:ext cx="2768760" cy="12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63480" y="1857240"/>
            <a:ext cx="3156120" cy="2783160"/>
            <a:chOff x="663480" y="1857240"/>
            <a:chExt cx="3156120" cy="2783160"/>
          </a:xfrm>
        </p:grpSpPr>
        <p:sp>
          <p:nvSpPr>
            <p:cNvPr id="105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55640" y="335772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4932360" y="2060640"/>
            <a:ext cx="3378240" cy="2433600"/>
            <a:chOff x="4932360" y="2060640"/>
            <a:chExt cx="3378240" cy="2433600"/>
          </a:xfrm>
        </p:grpSpPr>
        <p:sp>
          <p:nvSpPr>
            <p:cNvPr id="108" name=""/>
            <p:cNvSpPr/>
            <p:nvPr/>
          </p:nvSpPr>
          <p:spPr>
            <a:xfrm>
              <a:off x="5145120" y="20606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4932360" y="3910320"/>
                  <a:ext cx="337824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31640" y="1857240"/>
            <a:ext cx="3416400" cy="2471760"/>
            <a:chOff x="431640" y="1857240"/>
            <a:chExt cx="3416400" cy="2471760"/>
          </a:xfrm>
        </p:grpSpPr>
        <p:sp>
          <p:nvSpPr>
            <p:cNvPr id="116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431640" y="3668760"/>
                  <a:ext cx="3416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5003640" y="1989000"/>
            <a:ext cx="3454200" cy="2465640"/>
            <a:chOff x="5003640" y="1989000"/>
            <a:chExt cx="3454200" cy="2465640"/>
          </a:xfrm>
        </p:grpSpPr>
        <p:sp>
          <p:nvSpPr>
            <p:cNvPr id="119" name=""/>
            <p:cNvSpPr/>
            <p:nvPr/>
          </p:nvSpPr>
          <p:spPr>
            <a:xfrm>
              <a:off x="5254200" y="198900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003640" y="3807000"/>
                  <a:ext cx="3454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00560" y="200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148360" y="2060640"/>
            <a:ext cx="3416040" cy="2471760"/>
            <a:chOff x="5148360" y="2060640"/>
            <a:chExt cx="3416040" cy="2471760"/>
          </a:xfrm>
        </p:grpSpPr>
        <p:sp>
          <p:nvSpPr>
            <p:cNvPr id="128" name=""/>
            <p:cNvSpPr/>
            <p:nvPr/>
          </p:nvSpPr>
          <p:spPr>
            <a:xfrm>
              <a:off x="5379840" y="2060640"/>
              <a:ext cx="315576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148360" y="3872160"/>
                  <a:ext cx="341604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/>
          <p:cNvSpPr/>
          <p:nvPr/>
        </p:nvSpPr>
        <p:spPr>
          <a:xfrm>
            <a:off x="808200" y="236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12920" y="1857240"/>
            <a:ext cx="3454200" cy="2465640"/>
            <a:chOff x="412920" y="1857240"/>
            <a:chExt cx="3454200" cy="2465640"/>
          </a:xfrm>
        </p:grpSpPr>
        <p:sp>
          <p:nvSpPr>
            <p:cNvPr id="132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2920" y="3675240"/>
                  <a:ext cx="3454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1480" y="250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292720" y="1916280"/>
            <a:ext cx="3156120" cy="2782440"/>
            <a:chOff x="5292720" y="1916280"/>
            <a:chExt cx="3156120" cy="2782440"/>
          </a:xfrm>
        </p:grpSpPr>
        <p:sp>
          <p:nvSpPr>
            <p:cNvPr id="141" name=""/>
            <p:cNvSpPr/>
            <p:nvPr/>
          </p:nvSpPr>
          <p:spPr>
            <a:xfrm>
              <a:off x="5292720" y="191628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384880" y="3416400"/>
                  <a:ext cx="2768760" cy="12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3" name=""/>
          <p:cNvGrpSpPr/>
          <p:nvPr/>
        </p:nvGrpSpPr>
        <p:grpSpPr>
          <a:xfrm>
            <a:off x="450720" y="1857240"/>
            <a:ext cx="3378240" cy="2433600"/>
            <a:chOff x="450720" y="1857240"/>
            <a:chExt cx="3378240" cy="2433600"/>
          </a:xfrm>
        </p:grpSpPr>
        <p:sp>
          <p:nvSpPr>
            <p:cNvPr id="144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50720" y="3706920"/>
                  <a:ext cx="337824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133720"/>
            <a:ext cx="41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le est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et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calculer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la somm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ux fonc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349360"/>
            <a:ext cx="38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ment calcule-t-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dérivée de k.u lorsqu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 est une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 u une fon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2205000"/>
            <a:ext cx="33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u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)’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219640" y="2133720"/>
            <a:ext cx="2881440" cy="2595600"/>
            <a:chOff x="5219640" y="2133720"/>
            <a:chExt cx="2881440" cy="2595600"/>
          </a:xfrm>
        </p:grpSpPr>
        <p:sp>
          <p:nvSpPr>
            <p:cNvPr id="158" name=""/>
            <p:cNvSpPr/>
            <p:nvPr/>
          </p:nvSpPr>
          <p:spPr>
            <a:xfrm>
              <a:off x="5219640" y="213372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5454720" y="326880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2133720"/>
            <a:ext cx="24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u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)’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26920" y="1989000"/>
            <a:ext cx="2881440" cy="2595600"/>
            <a:chOff x="826920" y="1989000"/>
            <a:chExt cx="2881440" cy="2595600"/>
          </a:xfrm>
        </p:grpSpPr>
        <p:sp>
          <p:nvSpPr>
            <p:cNvPr id="166" name=""/>
            <p:cNvSpPr/>
            <p:nvPr/>
          </p:nvSpPr>
          <p:spPr>
            <a:xfrm>
              <a:off x="826920" y="198900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062000" y="312408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1773360"/>
            <a:ext cx="331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e est la form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et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calculer la dériv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la somm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ux fonc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8760" y="2349360"/>
            <a:ext cx="435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ment calcule-t-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dérivée de k.u lor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 est une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 u une fon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7-29T01:18:17Z</dcterms:modified>
  <cp:revision>27</cp:revision>
  <dc:subject/>
  <dc:title>Donner l'image de -1 par la fonction f définie par </dc:title>
</cp:coreProperties>
</file>