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8F0-EAE6-49CF-8823-D94C9380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C18-83A8-472E-BFB4-8E266E5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1BB-211F-4CB2-905D-EF14776E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135-F7FF-4456-AB9E-25F3952A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2859-17E4-44DE-88E6-D283AB22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ACED-B78A-4F54-A0D7-D1B0B663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E1AA-7FDC-4038-B732-80C65F0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993E-10B5-475F-B27A-108CCAB0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8060-9180-43D9-95EA-04A23262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430-711B-485C-9E35-B047ECF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930-467D-4534-AE2C-1565597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2E6-03EF-45F7-A5B4-C9E5BAD5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FF75-E3E0-4F01-ACF3-11E44D0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4798-959A-41E6-8E78-119A678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688-DF8E-4F52-B96D-68D5856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0CF3-791F-41B2-90F0-8F88329C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0100-F6EC-45ED-86AA-C776E2B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780-FBD5-4B03-9A15-F92408E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117-4BAA-4E83-997F-F814579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6A1-AFB5-448F-B152-A74E2F3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5B2-82C1-4CB1-AAE1-CAF8E41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345-B5D2-410F-ACB7-750642BF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54C-10FA-492E-8DEB-3E812F96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8A5-D0C6-4C93-A33A-A195E7C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1EF9-CE64-4928-A1E3-495929632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0D3F-9F32-40A9-9B17-92B5142B573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Devoir N°3( une heure )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devoir est en deux parties sur 10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emière partie est une série de 10 questions notées 1 point chacune ; vous dispos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ette première partie, 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deuxième partie, vous disposerez de la calculatrice et du temps re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 est …….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84720" y="2852640"/>
                <a:ext cx="224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décile et le neuvième déc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onction f est donnée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est …….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1200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3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 et Ble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16560" cy="424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17160" y="51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8120" y="35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393372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50864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7372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648160" cy="32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1964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91080" y="5877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5892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734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648160" cy="324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551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0160" y="5516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65964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35640" y="5445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5640" y="1700280"/>
            <a:ext cx="1719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361620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4221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422100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08464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76480" y="386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3880" y="486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7964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80000" y="508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0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3640" y="2924280"/>
                <a:ext cx="2247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9236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premier décile et le neuvième déc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03T06:52:16Z</dcterms:modified>
  <cp:revision>31</cp:revision>
  <dc:subject/>
  <dc:title>Donner l'image de -1 par la fonction f définie par </dc:title>
</cp:coreProperties>
</file>