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FA4-AE66-40C2-8F79-85F8B672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349-1AB1-4D8D-8932-5D4AC99C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50D-6B0D-4DE0-A199-2254DF80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C85-1BC6-4354-B7FE-9487D4A3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EFB7-A9D3-4DFB-B284-551458CC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C6B-08C5-415E-A4E8-1288C89C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0B2E-116A-4739-9BBD-D49550D7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1A5D-08B0-4E9E-85E7-728E678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B556-DAF9-434A-9828-3CFB2266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8C0A-FD07-422F-8B99-FFB61C8A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009F-C915-4EAF-A6F5-333F6ED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6B5-46B2-45E9-8369-EC2E83B8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4A5-2826-4A1F-8F93-2DD8140C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5482-0A82-4B7A-86BD-BCCC54D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90B6-9466-4D4F-A912-D2AC2EAC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1C71-15BE-4638-A8DB-B8137AFA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39F-E243-487E-BB5A-04F889E8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A89-B695-4EF6-9E92-3074826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260-F395-4952-95CE-D05FE804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B70-2579-4FDE-8DEC-7C8E83D3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148-C0A0-4288-8FB4-929147E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481-9576-48E1-92B1-50DB139E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6E4-1DB9-4FCE-8A2C-1DB8A65D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9EC-493D-48BF-AFE2-61084D2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4188-C6AF-4E6F-8D1A-85BFA9FC8FB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F51F-BF55-4676-B531-7E438F71DF54}" type="slidenum">
              <a:rPr b="0" lang="fr-F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4076"/>
                </a:solidFill>
                <a:latin typeface="Tahoma"/>
              </a:rPr>
              <a:t>CR1 : Question N° 1 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60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6360" y="1916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et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5280" y="1773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16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0:22:12Z</dcterms:created>
  <dc:creator>CLEMENT ODILE</dc:creator>
  <dc:description/>
  <dc:language>en-US</dc:language>
  <cp:lastModifiedBy>CLEMENT ODILE</cp:lastModifiedBy>
  <dcterms:modified xsi:type="dcterms:W3CDTF">2008-03-11T06:54:29Z</dcterms:modified>
  <cp:revision>19</cp:revision>
  <dc:subject/>
  <dc:title>Question N° 1 </dc:title>
</cp:coreProperties>
</file>