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75A-6D88-4DCB-9D0C-CCDB5707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CF1-0965-44D2-92C9-AFB90133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7AE-7AD1-43A2-AD22-D5EBF378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073-7ECD-45D0-B4C5-CA8AEAAF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4BED-E644-4023-8C80-2C4DC138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30F3-51BF-4E4E-A098-31515900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0C06-13D8-42BE-8DF2-F14EFEC0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0DAD-EEF9-41DD-A1F0-1B329582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8CE3-0DE1-4C84-BE2D-2BE8B1F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AF15-45E6-4581-97D4-80F5020D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61F6-574F-4E60-8EF9-6E208E7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935-634D-4ADA-8F1F-92BDD41A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3A34-E8C7-47EB-8B22-95F45EA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AB3F-D564-4C06-AE85-447B50DB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8AD9-F94C-4F5B-8F96-DE84C62F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8A74-1A5B-4301-82C5-E54CF4B0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DF26-27C1-4B5E-8533-6B136D84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5A0-DC62-4A01-9009-D5551ED2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920-055C-4D2F-924D-426E0B54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8DE-A4B1-418C-B4E9-B507602E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033-E4C7-4D2E-A75A-241F6C4D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C47-E76D-46EC-AE1A-C002541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DC2-BB0C-4AF5-A237-22A56076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82E-9FC7-4E8D-934C-BC5F3DB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C373-3FF2-4F6F-BCCF-07FC5D2E1A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72A3-9778-40DF-9024-8E8158AD70B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15f7b"/>
                </a:solidFill>
                <a:latin typeface="Tahoma"/>
              </a:rPr>
              <a:t>AM  N°4- second degré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4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32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66920" y="2017800"/>
            <a:ext cx="308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a parabole d’équation 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184464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25720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l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2360" y="2017800"/>
            <a:ext cx="402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arabole d’équ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51280" y="1844640"/>
            <a:ext cx="5292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35640" y="3213000"/>
            <a:ext cx="225756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23T22:21:57Z</dcterms:modified>
  <cp:revision>39</cp:revision>
  <dc:subject/>
  <dc:title>Donner l'image de -1 par la fonction f définie par </dc:title>
</cp:coreProperties>
</file>