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E50-42D6-4259-8C2B-20CB0ABE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84E-E26D-4481-813F-383C02FB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1DE6-7907-4937-8CE4-7909DB46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329-A5D8-44CC-84E7-9D00B86D1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6BE-81E1-4289-BACE-3152802EF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2FC-854F-4CB3-BC49-C72FEF97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AD81-9269-4E34-A50E-FC5E279D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DAF-84BA-453D-85D5-D10E8ACD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EB4-F60E-4FD9-BAB6-CF34318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21B-21D9-4BF6-B733-27B580C0A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82A-7C0B-49C7-9A6C-11E05B6D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1A9-9287-48CF-AC51-42E8EA3F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D88C-5F82-4DF8-A859-BC9BACC67E3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 la géométr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t des calculs 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"/>
          <p:cNvPicPr/>
          <p:nvPr/>
        </p:nvPicPr>
        <p:blipFill>
          <a:blip r:embed="rId1"/>
          <a:stretch/>
        </p:blipFill>
        <p:spPr>
          <a:xfrm>
            <a:off x="0" y="4857840"/>
            <a:ext cx="2751120" cy="20001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 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1"/>
          <p:cNvSpPr/>
          <p:nvPr/>
        </p:nvSpPr>
        <p:spPr>
          <a:xfrm>
            <a:off x="1571760" y="642960"/>
            <a:ext cx="62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n-US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2843280" y="3284640"/>
            <a:ext cx="3819600" cy="3419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4"/>
          <p:cNvSpPr/>
          <p:nvPr/>
        </p:nvSpPr>
        <p:spPr>
          <a:xfrm>
            <a:off x="3574800" y="564372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alibri"/>
              </a:rPr>
              <a:t>Un carré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 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Object 2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" name="ZoneTexte 4"/>
          <p:cNvSpPr/>
          <p:nvPr/>
        </p:nvSpPr>
        <p:spPr>
          <a:xfrm>
            <a:off x="11307600" y="2357280"/>
            <a:ext cx="93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90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61 -0.02126 C -0.11858 -0.0208 -0.23438 -0.02011 -0.32813 0.05616 C -0.42188 0.13243 -0.52483 0.37208 -0.56545 0.43702 E">
                                      <p:cBhvr>
                                        <p:cTn id="54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ZoneTexte 3"/>
          <p:cNvSpPr/>
          <p:nvPr/>
        </p:nvSpPr>
        <p:spPr>
          <a:xfrm>
            <a:off x="285840" y="4643280"/>
            <a:ext cx="88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2286000" y="500040"/>
            <a:ext cx="4305240" cy="361944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4"/>
          <p:cNvSpPr/>
          <p:nvPr/>
        </p:nvSpPr>
        <p:spPr>
          <a:xfrm>
            <a:off x="2728800" y="5572080"/>
            <a:ext cx="336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[AC]  ou   [BD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2000" fill="hold"/>
                                        <p:tgtEl>
                                          <p:spTgt spid="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9"/>
          <p:cNvSpPr/>
          <p:nvPr/>
        </p:nvSpPr>
        <p:spPr>
          <a:xfrm>
            <a:off x="3864600" y="557208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losan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ZoneTexte 3"/>
          <p:cNvSpPr/>
          <p:nvPr/>
        </p:nvSpPr>
        <p:spPr>
          <a:xfrm>
            <a:off x="7290000" y="29289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ZoneTexte 2"/>
          <p:cNvSpPr/>
          <p:nvPr/>
        </p:nvSpPr>
        <p:spPr>
          <a:xfrm>
            <a:off x="7364880" y="2571840"/>
            <a:ext cx="145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,5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ZoneTexte 3"/>
          <p:cNvSpPr/>
          <p:nvPr/>
        </p:nvSpPr>
        <p:spPr>
          <a:xfrm>
            <a:off x="500040" y="492912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. Le quadrilatère ABCD est un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4305240" cy="36198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9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E:\college\mes cours\sixièmes\6. Additions et soustractions\Cours\001.jpg"/>
          <p:cNvPicPr/>
          <p:nvPr/>
        </p:nvPicPr>
        <p:blipFill>
          <a:blip r:embed="rId1"/>
          <a:stretch/>
        </p:blipFill>
        <p:spPr>
          <a:xfrm>
            <a:off x="285840" y="-31680"/>
            <a:ext cx="8429400" cy="6889680"/>
          </a:xfrm>
          <a:prstGeom prst="rect">
            <a:avLst/>
          </a:prstGeom>
          <a:ln w="0">
            <a:noFill/>
          </a:ln>
        </p:spPr>
      </p:pic>
    </p:spTree>
  </p:cSld>
  <p:transition spd="med" advTm="20000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. L’angle               mesure 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………….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143080" y="1285920"/>
            <a:ext cx="430524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2500200" y="5357880"/>
                <a:ext cx="121464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B</m:t>
                        </m:r>
                      </m:e>
                    </m:acc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0" y="5143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. Nommer une diagonale de ce quadrilatère !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2143080" y="1143000"/>
            <a:ext cx="4305240" cy="36194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214200" y="4572000"/>
            <a:ext cx="864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Ce quadrilatère est un</a:t>
            </a: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……………….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2214720" y="1285920"/>
            <a:ext cx="4281480" cy="2533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ZoneTexte 5"/>
          <p:cNvSpPr/>
          <p:nvPr/>
        </p:nvSpPr>
        <p:spPr>
          <a:xfrm>
            <a:off x="1928880" y="1928880"/>
            <a:ext cx="514332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0,7 + 0,3 = </a:t>
            </a:r>
            <a:r>
              <a:rPr b="0" lang="en-US" sz="6000" spc="-1" strike="noStrike">
                <a:solidFill>
                  <a:srgbClr val="ffc000"/>
                </a:solidFill>
                <a:latin typeface="Arial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Question 6</a:t>
            </a:r>
            <a:br>
              <a:rPr sz="4400"/>
            </a:br>
            <a:br>
              <a:rPr sz="44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e double de 2,5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estion 7</a:t>
            </a:r>
            <a:br>
              <a:rPr sz="3600"/>
            </a:br>
            <a:br>
              <a:rPr sz="3600"/>
            </a:b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La moitié de 7 est </a:t>
            </a:r>
            <a:r>
              <a:rPr b="0" lang="en-US" sz="6000" spc="-1" strike="noStrike">
                <a:solidFill>
                  <a:srgbClr val="ffc000"/>
                </a:solidFill>
                <a:latin typeface="Calibri"/>
              </a:rPr>
              <a:t>….</a:t>
            </a:r>
            <a:br>
              <a:rPr sz="3600"/>
            </a:br>
            <a:endParaRPr b="0" lang="en-US" sz="6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alibri"/>
              </a:rPr>
              <a:t>12 x 100 =</a:t>
            </a:r>
            <a:r>
              <a:rPr b="0" lang="en-US" sz="7200" spc="-1" strike="noStrike">
                <a:solidFill>
                  <a:srgbClr val="ffc000"/>
                </a:solidFill>
                <a:latin typeface="Calibri"/>
              </a:rPr>
              <a:t> ……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Christian Girard</cp:lastModifiedBy>
  <dcterms:modified xsi:type="dcterms:W3CDTF">2011-07-12T21:09:03Z</dcterms:modified>
  <cp:revision>84</cp:revision>
  <dc:subject/>
  <dc:title>5 x 10 = ……</dc:title>
</cp:coreProperties>
</file>