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push.wav" ContentType="audio/x-wav"/>
  <Override PartName="/ppt/media/drumroll.wav" ContentType="audio/x-wav"/>
  <Override PartName="/ppt/media/arrow.wav" ContentType="audio/x-wav"/>
  <Override PartName="/ppt/media/image1.png" ContentType="image/png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CEB4-3898-476B-92D6-011A5C4D43F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4933-9B64-444A-B7D4-C82FBFA9887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E50B-831C-48B7-A6F1-60E0DBCAEED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B1861-71C1-42CD-BF9C-B90568071B4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01CC7-6E0A-411A-83BE-5DFD92B4F91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7E54-1491-454F-8D40-4014E67320C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AA8D-B298-4FE4-A284-F1194B00160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0BBF-BEB6-4787-9208-242E504A94D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13AD1-E2A8-4242-8B8C-9CBBFF90BCC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3D7E-D43E-4023-B4F2-96147B5F221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52BE1-3B5B-49D0-A8A4-742767A36A7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069F-22D9-4BBF-9A27-A44D4FF258E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397D-18F7-4D0C-B406-E76E005BDB7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D78E-37CE-4E03-B668-9DF950BBDC5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663B-04A7-433D-99A5-40604B8D78F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4D5C-D5EA-4ECA-9CC5-E8D0B4ECD24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0206-A99D-4561-A239-2CF436E5019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D693-F6C4-4F28-B95D-B2EF7C6E66F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1417-699C-407F-A092-D07105256E9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1975-89D8-4A17-96B4-BB9332FF69D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C753-052E-428E-8BF6-044EFBE6557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C959-BC5B-4560-B680-23D6AD76FDD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E6BF-3375-4FFC-96E8-0CC0D40A179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082A-B841-4970-A2A5-23563A8F759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0ECB-EA64-493B-8418-7F1E8CC2912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9708-8642-47BB-8BE2-32F63196B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5A8D-31B6-4747-8BCE-CDB7DF40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BB23-7437-40BB-8A5C-A8759EF6E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A350-0E35-40C3-A676-F99603039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01BE-C211-402E-AD65-66D804091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C352-BDEA-4278-BD5E-F5EE6AC8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6B89-EF56-4F62-AE2B-E9D1CD4D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3BAE-046A-41BB-B4F4-BF0D2682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BE35B-E926-4849-8957-579C4BBE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18EE-BAFB-4652-87AE-B8801CD2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5589-074E-476D-9BFF-D49119C9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D1E9-7CB8-4B4D-859D-9EC7B999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CB99-37EA-43CE-84B2-A8848E3D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E34A-2181-4FCD-ADBD-931D6B2C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1F0B-CF86-4206-AB9E-48BB6DCC1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BF90-8DB8-43A5-8742-B0AA8882B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445B-DC2C-424F-8E7C-6A29E36C2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C136-89E9-463D-BBE5-A0C0C780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8951-B5F6-45F6-AE07-85460C23D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4A31-3FA7-4F9D-8BDA-F3378763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D4E3-2649-4CF8-BF6D-5BE83E65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21F3-4C02-4FA0-85AB-3EE81771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401F-4EF0-45F6-9496-E52BD391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E7FC-A096-4F90-B4AE-AB417A87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723B-3825-4E03-802F-B930A9E84129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7569-768F-4BE9-B848-87B587BC82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760" y="-84960"/>
            <a:ext cx="2431080" cy="2251800"/>
            <a:chOff x="7169760" y="-84960"/>
            <a:chExt cx="2431080" cy="22518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760" y="-84960"/>
              <a:ext cx="2431080" cy="2251800"/>
              <a:chOff x="7169760" y="-84960"/>
              <a:chExt cx="2431080" cy="22518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760" y="-84960"/>
                <a:ext cx="2431080" cy="2251800"/>
                <a:chOff x="7169760" y="-84960"/>
                <a:chExt cx="2431080" cy="22518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040"/>
                  <a:ext cx="24408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1160" y="521640"/>
                  <a:ext cx="4294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8760" y="284400"/>
                  <a:ext cx="8056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0320" y="-25560"/>
                  <a:ext cx="120960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716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680" y="1276560"/>
                  <a:ext cx="2890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1680" y="217440"/>
                  <a:ext cx="28548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31D1-9FAC-448E-BE30-289B8715A5E6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5D1D-3720-4737-8128-B1ABD811D7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234A-C8CE-4D13-A6C7-D83EB632E0D3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2DD0-A4CB-449D-B4B7-97E7A476D292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Comic Sans MS"/>
              </a:rPr>
              <a:t>CALCUL MENTAL N°8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0000">
    <p:cover dir="d"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A147-A410-4DE8-9B72-4FB2E17DE9F0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F7EB-6308-42A1-AE7C-8A2C97605751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7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609800" y="1828800"/>
            <a:ext cx="3771720" cy="365760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3"/>
          <p:cNvSpPr/>
          <p:nvPr/>
        </p:nvSpPr>
        <p:spPr>
          <a:xfrm>
            <a:off x="304920" y="2133720"/>
            <a:ext cx="8076960" cy="825120"/>
          </a:xfrm>
          <a:prstGeom prst="rect">
            <a:avLst/>
          </a:prstGeom>
          <a:solidFill>
            <a:srgbClr val="ff66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Je soustrais 1200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à 470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2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76E7A-5DE3-4596-A305-6FB8F28E5D9B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1834-5804-4A6D-9F51-A03CCC4C7614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AutoShape 10"/>
          <p:cNvSpPr/>
          <p:nvPr/>
        </p:nvSpPr>
        <p:spPr>
          <a:xfrm>
            <a:off x="2971800" y="304920"/>
            <a:ext cx="3505320" cy="1066680"/>
          </a:xfrm>
          <a:prstGeom prst="wedgeEllipseCallout">
            <a:avLst>
              <a:gd name="adj1" fmla="val -2398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8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13"/>
          <p:cNvSpPr/>
          <p:nvPr/>
        </p:nvSpPr>
        <p:spPr>
          <a:xfrm>
            <a:off x="380880" y="2590920"/>
            <a:ext cx="8077320" cy="1556280"/>
          </a:xfrm>
          <a:prstGeom prst="rect">
            <a:avLst/>
          </a:prstGeom>
          <a:solidFill>
            <a:srgbClr val="ff66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Un quadrilatère qui a 4 angles droits est un …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1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A4FB-9AEC-4848-9F4E-9F7AC339D098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C4D36-5C54-41F2-B61B-B5CB76D9B0FB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12"/>
          <p:cNvSpPr/>
          <p:nvPr/>
        </p:nvSpPr>
        <p:spPr>
          <a:xfrm>
            <a:off x="304920" y="2286000"/>
            <a:ext cx="8610480" cy="2287440"/>
          </a:xfrm>
          <a:prstGeom prst="rect">
            <a:avLst/>
          </a:prstGeom>
          <a:solidFill>
            <a:srgbClr val="66ff33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Arial"/>
              </a:rPr>
              <a:t>Un quadrilatère qui a 4 angles droits et quatre côtés égaux est un ….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25000">
    <p:cover dir="d"/>
    <p:sndAc>
      <p:stSnd>
        <p:snd r:embed="rId1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6B85-D42D-4C0E-A242-43F9533B52C0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E324-0A77-4287-AD84-9258D88E8418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AutoShape 10"/>
          <p:cNvSpPr/>
          <p:nvPr/>
        </p:nvSpPr>
        <p:spPr>
          <a:xfrm>
            <a:off x="2971800" y="304920"/>
            <a:ext cx="3505320" cy="1066680"/>
          </a:xfrm>
          <a:prstGeom prst="wedgeEllipseCallout">
            <a:avLst>
              <a:gd name="adj1" fmla="val -2398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1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380880" y="2590920"/>
            <a:ext cx="8077320" cy="1556280"/>
          </a:xfrm>
          <a:prstGeom prst="rect">
            <a:avLst/>
          </a:prstGeom>
          <a:solidFill>
            <a:srgbClr val="00b0f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Un quadrilatère qui a 4 côtés égaux est un …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1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9"/>
          <p:cNvGrpSpPr/>
          <p:nvPr/>
        </p:nvGrpSpPr>
        <p:grpSpPr>
          <a:xfrm>
            <a:off x="2602800" y="771840"/>
            <a:ext cx="1757520" cy="1330200"/>
            <a:chOff x="2602800" y="771840"/>
            <a:chExt cx="1757520" cy="1330200"/>
          </a:xfrm>
        </p:grpSpPr>
        <p:sp>
          <p:nvSpPr>
            <p:cNvPr id="215" name="AutoShape 2"/>
            <p:cNvSpPr/>
            <p:nvPr/>
          </p:nvSpPr>
          <p:spPr>
            <a:xfrm rot="2700000">
              <a:off x="3586320" y="1298160"/>
              <a:ext cx="641160" cy="64152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AutoShape 3"/>
            <p:cNvSpPr/>
            <p:nvPr/>
          </p:nvSpPr>
          <p:spPr>
            <a:xfrm flipH="1" rot="2700000">
              <a:off x="2666520" y="1725120"/>
              <a:ext cx="314280" cy="31104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Rectangle 4"/>
            <p:cNvSpPr/>
            <p:nvPr/>
          </p:nvSpPr>
          <p:spPr>
            <a:xfrm rot="18900000">
              <a:off x="3662280" y="837720"/>
              <a:ext cx="322200" cy="3272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AutoShape 5"/>
            <p:cNvSpPr/>
            <p:nvPr/>
          </p:nvSpPr>
          <p:spPr>
            <a:xfrm rot="16200000">
              <a:off x="2801880" y="1425600"/>
              <a:ext cx="444240" cy="44424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AutoShape 6"/>
            <p:cNvSpPr/>
            <p:nvPr/>
          </p:nvSpPr>
          <p:spPr>
            <a:xfrm>
              <a:off x="3247920" y="1420920"/>
              <a:ext cx="642960" cy="64440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AutoShape 7"/>
            <p:cNvSpPr/>
            <p:nvPr/>
          </p:nvSpPr>
          <p:spPr>
            <a:xfrm rot="13500000">
              <a:off x="3744720" y="1699920"/>
              <a:ext cx="317520" cy="31464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Freeform 8"/>
            <p:cNvSpPr/>
            <p:nvPr/>
          </p:nvSpPr>
          <p:spPr>
            <a:xfrm>
              <a:off x="3902040" y="1158840"/>
              <a:ext cx="215640" cy="689040"/>
            </a:xfrm>
            <a:prstGeom prst="pi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2" name="Group 17"/>
          <p:cNvGrpSpPr/>
          <p:nvPr/>
        </p:nvGrpSpPr>
        <p:grpSpPr>
          <a:xfrm>
            <a:off x="762120" y="762120"/>
            <a:ext cx="836280" cy="2146320"/>
            <a:chOff x="762120" y="762120"/>
            <a:chExt cx="836280" cy="2146320"/>
          </a:xfrm>
        </p:grpSpPr>
        <p:sp>
          <p:nvSpPr>
            <p:cNvPr id="223" name="Rectangle 10"/>
            <p:cNvSpPr/>
            <p:nvPr/>
          </p:nvSpPr>
          <p:spPr>
            <a:xfrm>
              <a:off x="1186200" y="2254320"/>
              <a:ext cx="322200" cy="325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AutoShape 11"/>
            <p:cNvSpPr/>
            <p:nvPr/>
          </p:nvSpPr>
          <p:spPr>
            <a:xfrm rot="10800000">
              <a:off x="947880" y="762120"/>
              <a:ext cx="642960" cy="64296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AutoShape 12"/>
            <p:cNvSpPr/>
            <p:nvPr/>
          </p:nvSpPr>
          <p:spPr>
            <a:xfrm rot="10800000">
              <a:off x="1152360" y="1915920"/>
              <a:ext cx="446040" cy="44604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AutoShape 13"/>
            <p:cNvSpPr/>
            <p:nvPr/>
          </p:nvSpPr>
          <p:spPr>
            <a:xfrm rot="16200000">
              <a:off x="763920" y="1253880"/>
              <a:ext cx="641160" cy="64476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AutoShape 14"/>
            <p:cNvSpPr/>
            <p:nvPr/>
          </p:nvSpPr>
          <p:spPr>
            <a:xfrm>
              <a:off x="1094040" y="906480"/>
              <a:ext cx="317520" cy="31608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AutoShape 15"/>
            <p:cNvSpPr/>
            <p:nvPr/>
          </p:nvSpPr>
          <p:spPr>
            <a:xfrm flipH="1">
              <a:off x="1136160" y="2597400"/>
              <a:ext cx="314280" cy="31104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Freeform 16"/>
            <p:cNvSpPr/>
            <p:nvPr/>
          </p:nvSpPr>
          <p:spPr>
            <a:xfrm>
              <a:off x="833760" y="1906920"/>
              <a:ext cx="639720" cy="336240"/>
            </a:xfrm>
            <a:prstGeom prst="pi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0" name="Group 25"/>
          <p:cNvGrpSpPr/>
          <p:nvPr/>
        </p:nvGrpSpPr>
        <p:grpSpPr>
          <a:xfrm>
            <a:off x="5257800" y="517320"/>
            <a:ext cx="1453320" cy="1735920"/>
            <a:chOff x="5257800" y="517320"/>
            <a:chExt cx="1453320" cy="1735920"/>
          </a:xfrm>
        </p:grpSpPr>
        <p:sp>
          <p:nvSpPr>
            <p:cNvPr id="231" name="Rectangle 18"/>
            <p:cNvSpPr/>
            <p:nvPr/>
          </p:nvSpPr>
          <p:spPr>
            <a:xfrm>
              <a:off x="5267520" y="833400"/>
              <a:ext cx="322200" cy="3268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AutoShape 19"/>
            <p:cNvSpPr/>
            <p:nvPr/>
          </p:nvSpPr>
          <p:spPr>
            <a:xfrm rot="2700000">
              <a:off x="5937120" y="971280"/>
              <a:ext cx="641160" cy="64116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AutoShape 20"/>
            <p:cNvSpPr/>
            <p:nvPr/>
          </p:nvSpPr>
          <p:spPr>
            <a:xfrm rot="18900000">
              <a:off x="5711400" y="609120"/>
              <a:ext cx="444600" cy="44460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AutoShape 21"/>
            <p:cNvSpPr/>
            <p:nvPr/>
          </p:nvSpPr>
          <p:spPr>
            <a:xfrm rot="8100000">
              <a:off x="5403240" y="1476360"/>
              <a:ext cx="641160" cy="64440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AutoShape 22"/>
            <p:cNvSpPr/>
            <p:nvPr/>
          </p:nvSpPr>
          <p:spPr>
            <a:xfrm>
              <a:off x="5605560" y="830160"/>
              <a:ext cx="317520" cy="31428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AutoShape 23"/>
            <p:cNvSpPr/>
            <p:nvPr/>
          </p:nvSpPr>
          <p:spPr>
            <a:xfrm flipH="1" rot="10800000">
              <a:off x="5267520" y="1164960"/>
              <a:ext cx="311040" cy="31428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Freeform 24"/>
            <p:cNvSpPr/>
            <p:nvPr/>
          </p:nvSpPr>
          <p:spPr>
            <a:xfrm>
              <a:off x="5257800" y="1149480"/>
              <a:ext cx="344520" cy="639720"/>
            </a:xfrm>
            <a:prstGeom prst="pi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8" name="Group 33"/>
          <p:cNvGrpSpPr/>
          <p:nvPr/>
        </p:nvGrpSpPr>
        <p:grpSpPr>
          <a:xfrm>
            <a:off x="7086600" y="838080"/>
            <a:ext cx="1297080" cy="1611360"/>
            <a:chOff x="7086600" y="838080"/>
            <a:chExt cx="1297080" cy="1611360"/>
          </a:xfrm>
        </p:grpSpPr>
        <p:sp>
          <p:nvSpPr>
            <p:cNvPr id="239" name="AutoShape 26"/>
            <p:cNvSpPr/>
            <p:nvPr/>
          </p:nvSpPr>
          <p:spPr>
            <a:xfrm flipH="1" rot="13500000">
              <a:off x="7513200" y="1913040"/>
              <a:ext cx="444600" cy="44424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Rectangle 27"/>
            <p:cNvSpPr/>
            <p:nvPr/>
          </p:nvSpPr>
          <p:spPr>
            <a:xfrm>
              <a:off x="7732800" y="1493640"/>
              <a:ext cx="322200" cy="3272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AutoShape 28"/>
            <p:cNvSpPr/>
            <p:nvPr/>
          </p:nvSpPr>
          <p:spPr>
            <a:xfrm>
              <a:off x="7742160" y="838080"/>
              <a:ext cx="641520" cy="64152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AutoShape 29"/>
            <p:cNvSpPr/>
            <p:nvPr/>
          </p:nvSpPr>
          <p:spPr>
            <a:xfrm rot="16200000">
              <a:off x="7088040" y="845640"/>
              <a:ext cx="641160" cy="64440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AutoShape 30"/>
            <p:cNvSpPr/>
            <p:nvPr/>
          </p:nvSpPr>
          <p:spPr>
            <a:xfrm rot="10800000">
              <a:off x="7737120" y="1809720"/>
              <a:ext cx="322200" cy="31896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AutoShape 31"/>
            <p:cNvSpPr/>
            <p:nvPr/>
          </p:nvSpPr>
          <p:spPr>
            <a:xfrm flipH="1" rot="10800000">
              <a:off x="7401240" y="1493640"/>
              <a:ext cx="311400" cy="31464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Freeform 32"/>
            <p:cNvSpPr/>
            <p:nvPr/>
          </p:nvSpPr>
          <p:spPr>
            <a:xfrm>
              <a:off x="7400880" y="1490760"/>
              <a:ext cx="334800" cy="639720"/>
            </a:xfrm>
            <a:prstGeom prst="pi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6" name="Group 41"/>
          <p:cNvGrpSpPr/>
          <p:nvPr/>
        </p:nvGrpSpPr>
        <p:grpSpPr>
          <a:xfrm>
            <a:off x="762120" y="5181120"/>
            <a:ext cx="1450800" cy="1122840"/>
            <a:chOff x="762120" y="5181120"/>
            <a:chExt cx="1450800" cy="1122840"/>
          </a:xfrm>
        </p:grpSpPr>
        <p:sp>
          <p:nvSpPr>
            <p:cNvPr id="247" name="AutoShape 34"/>
            <p:cNvSpPr/>
            <p:nvPr/>
          </p:nvSpPr>
          <p:spPr>
            <a:xfrm flipH="1">
              <a:off x="991440" y="5281560"/>
              <a:ext cx="446040" cy="44604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Rectangle 35"/>
            <p:cNvSpPr/>
            <p:nvPr/>
          </p:nvSpPr>
          <p:spPr>
            <a:xfrm>
              <a:off x="992160" y="5743440"/>
              <a:ext cx="322200" cy="3268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AutoShape 36"/>
            <p:cNvSpPr/>
            <p:nvPr/>
          </p:nvSpPr>
          <p:spPr>
            <a:xfrm rot="13500000">
              <a:off x="1125360" y="5317560"/>
              <a:ext cx="641520" cy="64152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AutoShape 37"/>
            <p:cNvSpPr/>
            <p:nvPr/>
          </p:nvSpPr>
          <p:spPr>
            <a:xfrm rot="16200000">
              <a:off x="1239480" y="5651280"/>
              <a:ext cx="650880" cy="64764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AutoShape 38"/>
            <p:cNvSpPr/>
            <p:nvPr/>
          </p:nvSpPr>
          <p:spPr>
            <a:xfrm rot="10800000">
              <a:off x="1450440" y="5181120"/>
              <a:ext cx="306360" cy="30780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AutoShape 39"/>
            <p:cNvSpPr/>
            <p:nvPr/>
          </p:nvSpPr>
          <p:spPr>
            <a:xfrm flipH="1" rot="5400000">
              <a:off x="1900080" y="5644440"/>
              <a:ext cx="314280" cy="31104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Freeform 40"/>
            <p:cNvSpPr/>
            <p:nvPr/>
          </p:nvSpPr>
          <p:spPr>
            <a:xfrm>
              <a:off x="762120" y="6086160"/>
              <a:ext cx="687240" cy="217800"/>
            </a:xfrm>
            <a:prstGeom prst="pi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4" name="Group 48"/>
          <p:cNvGrpSpPr/>
          <p:nvPr/>
        </p:nvGrpSpPr>
        <p:grpSpPr>
          <a:xfrm>
            <a:off x="3124080" y="5124240"/>
            <a:ext cx="1292400" cy="1091880"/>
            <a:chOff x="3124080" y="5124240"/>
            <a:chExt cx="1292400" cy="1091880"/>
          </a:xfrm>
        </p:grpSpPr>
        <p:sp>
          <p:nvSpPr>
            <p:cNvPr id="255" name="Rectangle 42"/>
            <p:cNvSpPr/>
            <p:nvPr/>
          </p:nvSpPr>
          <p:spPr>
            <a:xfrm>
              <a:off x="4093920" y="5889240"/>
              <a:ext cx="322560" cy="32688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AutoShape 43"/>
            <p:cNvSpPr/>
            <p:nvPr/>
          </p:nvSpPr>
          <p:spPr>
            <a:xfrm rot="8100000">
              <a:off x="3297240" y="5257800"/>
              <a:ext cx="644400" cy="644400"/>
            </a:xfrm>
            <a:prstGeom prst="rtTriangl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AutoShape 44"/>
            <p:cNvSpPr/>
            <p:nvPr/>
          </p:nvSpPr>
          <p:spPr>
            <a:xfrm rot="10800000">
              <a:off x="3433680" y="5571360"/>
              <a:ext cx="644400" cy="641160"/>
            </a:xfrm>
            <a:prstGeom prst="rtTriangl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AutoShape 45"/>
            <p:cNvSpPr/>
            <p:nvPr/>
          </p:nvSpPr>
          <p:spPr>
            <a:xfrm rot="16200000">
              <a:off x="3140280" y="5892480"/>
              <a:ext cx="313920" cy="317520"/>
            </a:xfrm>
            <a:prstGeom prst="rtTriangl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AutoShape 46"/>
            <p:cNvSpPr/>
            <p:nvPr/>
          </p:nvSpPr>
          <p:spPr>
            <a:xfrm flipH="1" rot="5400000">
              <a:off x="3773520" y="5889240"/>
              <a:ext cx="320400" cy="317520"/>
            </a:xfrm>
            <a:prstGeom prst="rtTriangl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Freeform 47"/>
            <p:cNvSpPr/>
            <p:nvPr/>
          </p:nvSpPr>
          <p:spPr>
            <a:xfrm>
              <a:off x="3124080" y="5554440"/>
              <a:ext cx="639720" cy="334440"/>
            </a:xfrm>
            <a:prstGeom prst="pi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1" name="AutoShape 49"/>
          <p:cNvSpPr/>
          <p:nvPr/>
        </p:nvSpPr>
        <p:spPr>
          <a:xfrm flipH="1" rot="18900000">
            <a:off x="2895120" y="4800600"/>
            <a:ext cx="446040" cy="446040"/>
          </a:xfrm>
          <a:prstGeom prst="rtTriangle">
            <a:avLst/>
          </a:prstGeom>
          <a:solidFill>
            <a:srgbClr val="6699ff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2" name="Group 58"/>
          <p:cNvGrpSpPr/>
          <p:nvPr/>
        </p:nvGrpSpPr>
        <p:grpSpPr>
          <a:xfrm>
            <a:off x="5559120" y="5193360"/>
            <a:ext cx="1351080" cy="1477800"/>
            <a:chOff x="5559120" y="5193360"/>
            <a:chExt cx="1351080" cy="1477800"/>
          </a:xfrm>
        </p:grpSpPr>
        <p:sp>
          <p:nvSpPr>
            <p:cNvPr id="263" name="AutoShape 50"/>
            <p:cNvSpPr/>
            <p:nvPr/>
          </p:nvSpPr>
          <p:spPr>
            <a:xfrm flipH="1" rot="13500000">
              <a:off x="6108840" y="5895360"/>
              <a:ext cx="644400" cy="641520"/>
            </a:xfrm>
            <a:prstGeom prst="rtTriangle">
              <a:avLst/>
            </a:prstGeom>
            <a:solidFill>
              <a:srgbClr val="ff0000"/>
            </a:solidFill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4" name="Group 57"/>
            <p:cNvGrpSpPr/>
            <p:nvPr/>
          </p:nvGrpSpPr>
          <p:grpSpPr>
            <a:xfrm>
              <a:off x="5559120" y="5193360"/>
              <a:ext cx="1351080" cy="1008720"/>
              <a:chOff x="5559120" y="5193360"/>
              <a:chExt cx="1351080" cy="1008720"/>
            </a:xfrm>
          </p:grpSpPr>
          <p:sp>
            <p:nvSpPr>
              <p:cNvPr id="265" name="AutoShape 51"/>
              <p:cNvSpPr/>
              <p:nvPr/>
            </p:nvSpPr>
            <p:spPr>
              <a:xfrm flipH="1" rot="5400000">
                <a:off x="5565960" y="5756040"/>
                <a:ext cx="434880" cy="44136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" name="Rectangle 52"/>
              <p:cNvSpPr/>
              <p:nvPr/>
            </p:nvSpPr>
            <p:spPr>
              <a:xfrm>
                <a:off x="5670360" y="5408640"/>
                <a:ext cx="322560" cy="32688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7" name="AutoShape 53"/>
              <p:cNvSpPr/>
              <p:nvPr/>
            </p:nvSpPr>
            <p:spPr>
              <a:xfrm flipH="1" rot="2700000">
                <a:off x="5692320" y="5413320"/>
                <a:ext cx="644400" cy="64440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" name="AutoShape 54"/>
              <p:cNvSpPr/>
              <p:nvPr/>
            </p:nvSpPr>
            <p:spPr>
              <a:xfrm rot="8100000">
                <a:off x="5673240" y="5257800"/>
                <a:ext cx="314280" cy="31752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" name="AutoShape 55"/>
              <p:cNvSpPr/>
              <p:nvPr/>
            </p:nvSpPr>
            <p:spPr>
              <a:xfrm flipH="1" rot="8100000">
                <a:off x="6523920" y="5603400"/>
                <a:ext cx="320400" cy="31752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" name="Freeform 56"/>
              <p:cNvSpPr/>
              <p:nvPr/>
            </p:nvSpPr>
            <p:spPr>
              <a:xfrm>
                <a:off x="6673680" y="5514840"/>
                <a:ext cx="217800" cy="687240"/>
              </a:xfrm>
              <a:prstGeom prst="pi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71" name="Group 66"/>
          <p:cNvGrpSpPr/>
          <p:nvPr/>
        </p:nvGrpSpPr>
        <p:grpSpPr>
          <a:xfrm>
            <a:off x="7629120" y="4648320"/>
            <a:ext cx="1398960" cy="1531440"/>
            <a:chOff x="7629120" y="4648320"/>
            <a:chExt cx="1398960" cy="1531440"/>
          </a:xfrm>
        </p:grpSpPr>
        <p:sp>
          <p:nvSpPr>
            <p:cNvPr id="272" name="Rectangle 59"/>
            <p:cNvSpPr/>
            <p:nvPr/>
          </p:nvSpPr>
          <p:spPr>
            <a:xfrm rot="18900000">
              <a:off x="7929720" y="5185800"/>
              <a:ext cx="314280" cy="3207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AutoShape 60"/>
            <p:cNvSpPr/>
            <p:nvPr/>
          </p:nvSpPr>
          <p:spPr>
            <a:xfrm flipH="1" rot="2700000">
              <a:off x="8249760" y="5238720"/>
              <a:ext cx="644400" cy="64440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AutoShape 61"/>
            <p:cNvSpPr/>
            <p:nvPr/>
          </p:nvSpPr>
          <p:spPr>
            <a:xfrm flipH="1" rot="5400000">
              <a:off x="8101080" y="5530680"/>
              <a:ext cx="644400" cy="64152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AutoShape 62"/>
            <p:cNvSpPr/>
            <p:nvPr/>
          </p:nvSpPr>
          <p:spPr>
            <a:xfrm rot="16200000">
              <a:off x="7761240" y="4647600"/>
              <a:ext cx="314280" cy="31752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AutoShape 63"/>
            <p:cNvSpPr/>
            <p:nvPr/>
          </p:nvSpPr>
          <p:spPr>
            <a:xfrm rot="13500000">
              <a:off x="7696080" y="5417640"/>
              <a:ext cx="324000" cy="32400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Freeform 64"/>
            <p:cNvSpPr/>
            <p:nvPr/>
          </p:nvSpPr>
          <p:spPr>
            <a:xfrm>
              <a:off x="8086680" y="4648320"/>
              <a:ext cx="217440" cy="685800"/>
            </a:xfrm>
            <a:prstGeom prst="pi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AutoShape 65"/>
            <p:cNvSpPr/>
            <p:nvPr/>
          </p:nvSpPr>
          <p:spPr>
            <a:xfrm rot="2700000">
              <a:off x="7889400" y="5663880"/>
              <a:ext cx="426960" cy="42732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9" name="Rectangle 67"/>
          <p:cNvSpPr/>
          <p:nvPr/>
        </p:nvSpPr>
        <p:spPr>
          <a:xfrm>
            <a:off x="762120" y="2819520"/>
            <a:ext cx="815328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100" spc="-1" strike="noStrike">
                <a:solidFill>
                  <a:srgbClr val="000000"/>
                </a:solidFill>
                <a:latin typeface="Comic Sans MS"/>
              </a:rPr>
              <a:t>C’est fini!</a:t>
            </a:r>
            <a:br>
              <a:rPr sz="5100"/>
            </a:br>
            <a:br>
              <a:rPr sz="5100"/>
            </a:br>
            <a:r>
              <a:rPr b="0" lang="fr-FR" sz="5100" spc="-1" strike="noStrike">
                <a:solidFill>
                  <a:srgbClr val="000000"/>
                </a:solidFill>
                <a:latin typeface="Comic Sans MS"/>
              </a:rPr>
              <a:t>Posez les stylos.</a:t>
            </a:r>
            <a:endParaRPr b="0" lang="en-US" sz="5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1" name="arrow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0030-7917-4B4F-BB3C-6543DF4F96F5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1C3C-2EC2-48EC-AFF1-92BAB461331C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AutoShape 15"/>
          <p:cNvSpPr/>
          <p:nvPr/>
        </p:nvSpPr>
        <p:spPr>
          <a:xfrm>
            <a:off x="2971800" y="45720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20"/>
              <p:cNvSpPr txBox="1"/>
              <p:nvPr/>
            </p:nvSpPr>
            <p:spPr>
              <a:xfrm>
                <a:off x="609480" y="2209680"/>
                <a:ext cx="5486400" cy="18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15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4" name="ZoneTexte 5"/>
          <p:cNvSpPr/>
          <p:nvPr/>
        </p:nvSpPr>
        <p:spPr>
          <a:xfrm>
            <a:off x="6532200" y="2362320"/>
            <a:ext cx="157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47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1" name="camera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" dur="2000" fill="hold"/>
                                        <p:tgtEl>
                                          <p:spTgt spid="28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5F26-D3F8-49F0-A939-A5375A508931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BA80-545A-45F0-8122-64703D7F7924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11"/>
              <p:cNvSpPr txBox="1"/>
              <p:nvPr/>
            </p:nvSpPr>
            <p:spPr>
              <a:xfrm>
                <a:off x="977760" y="2333520"/>
                <a:ext cx="4889520" cy="17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16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9" name="ZoneTexte 5"/>
          <p:cNvSpPr/>
          <p:nvPr/>
        </p:nvSpPr>
        <p:spPr>
          <a:xfrm>
            <a:off x="6281640" y="2514600"/>
            <a:ext cx="157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61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1" name="camera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2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8AF9-1CB4-43EC-930A-03CB103D63F7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8B74-3DDC-41AC-A710-B1A711DCC8FD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304920" y="2209680"/>
            <a:ext cx="8610480" cy="825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J’ajoute 7000 à 4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ZoneTexte 6"/>
          <p:cNvSpPr/>
          <p:nvPr/>
        </p:nvSpPr>
        <p:spPr>
          <a:xfrm>
            <a:off x="9578520" y="2971800"/>
            <a:ext cx="157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704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1" name="camera.wav"/>
      </p:stSnd>
    </p:sndAc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41 0.00486 C -0.18524 0.19514 -0.27621 0.38565 -0.37639 0.40903 C -0.47656 0.43241 -0.58594 0.28866 -0.69514 0.14514 E">
                                      <p:cBhvr>
                                        <p:cTn id="82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3B8C-88A8-4E24-B7BC-FC815BBDAE17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88D0-5826-4664-9960-2EE43516303C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11"/>
              <p:cNvSpPr txBox="1"/>
              <p:nvPr/>
            </p:nvSpPr>
            <p:spPr>
              <a:xfrm>
                <a:off x="304920" y="2286000"/>
                <a:ext cx="5486400" cy="20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1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29 </m:t>
                    </m:r>
                    <m:r>
                      <m:t xml:space="preserve">=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0" name="ZoneTexte 5"/>
          <p:cNvSpPr/>
          <p:nvPr/>
        </p:nvSpPr>
        <p:spPr>
          <a:xfrm>
            <a:off x="9351720" y="2514600"/>
            <a:ext cx="157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90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1" name="camera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718 -0.00324 L -0.35885 -0.00324 E">
                                      <p:cBhvr>
                                        <p:cTn id="88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D66A-CF3B-418D-BD5F-931970CB6A3C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36E16-B905-4E1A-A3D5-425BEBDADFE9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4" name="Object 12"/>
              <p:cNvSpPr txBox="1"/>
              <p:nvPr/>
            </p:nvSpPr>
            <p:spPr>
              <a:xfrm>
                <a:off x="380880" y="2286000"/>
                <a:ext cx="73915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0 - 32 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5" name="ZoneTexte 5"/>
          <p:cNvSpPr/>
          <p:nvPr/>
        </p:nvSpPr>
        <p:spPr>
          <a:xfrm>
            <a:off x="3352680" y="4648320"/>
            <a:ext cx="262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418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1" name="camera.wav"/>
      </p:stSnd>
    </p:sndAc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2000" fill="hold"/>
                                        <p:tgtEl>
                                          <p:spTgt spid="3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6BFF-AE21-4D1D-896C-06837566A235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D84D-5020-43F2-B7D4-D2C64AF6AD18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2209680"/>
            <a:ext cx="8380440" cy="24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0000"/>
                </a:solidFill>
                <a:latin typeface="Comic Sans MS"/>
              </a:rPr>
              <a:t>l‘addition, la soustraction,les quadrilatères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0000">
    <p:cover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FF6C-2475-40AF-B609-9F4EC30BF932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A4AA-8745-4096-A844-63F808DD4346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6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380880" y="2666880"/>
            <a:ext cx="5715000" cy="3020040"/>
          </a:xfrm>
          <a:prstGeom prst="rect">
            <a:avLst/>
          </a:prstGeom>
          <a:solidFill>
            <a:srgbClr val="ff66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110 – 11 =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ZoneTexte 6"/>
          <p:cNvSpPr/>
          <p:nvPr/>
        </p:nvSpPr>
        <p:spPr>
          <a:xfrm>
            <a:off x="9428040" y="2743200"/>
            <a:ext cx="157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99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25000">
    <p:cover dir="d"/>
    <p:sndAc>
      <p:stSnd>
        <p:snd r:embed="rId1" name="camera.wav"/>
      </p:stSnd>
    </p:sndAc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19 -0.00324 L -0.36719 -0.00324 E">
                                      <p:cBhvr>
                                        <p:cTn id="105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E2F4-A3EB-4DF6-87D4-5641B4C759DA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BE11-29A8-47E7-8135-B5AE28A1E469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7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4609800" y="1828800"/>
            <a:ext cx="377172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13"/>
          <p:cNvSpPr/>
          <p:nvPr/>
        </p:nvSpPr>
        <p:spPr>
          <a:xfrm>
            <a:off x="304920" y="2133720"/>
            <a:ext cx="8076960" cy="825120"/>
          </a:xfrm>
          <a:prstGeom prst="rect">
            <a:avLst/>
          </a:prstGeom>
          <a:solidFill>
            <a:srgbClr val="ff66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Je soustrais 1200</a:t>
            </a: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à 470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ZoneTexte 8"/>
          <p:cNvSpPr/>
          <p:nvPr/>
        </p:nvSpPr>
        <p:spPr>
          <a:xfrm>
            <a:off x="9349920" y="2133720"/>
            <a:ext cx="157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350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2" name="camera.wav"/>
      </p:stSnd>
    </p:sndAc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5.55556E-006 C -0.06858 0.22638 -0.13698 0.453 -0.22084 0.4736 C -0.30469 0.49421 -0.44011 0.16504 -0.50313 0.1236 C -0.56615 0.08217 -0.58264 0.15347 -0.59896 0.22499 E">
                                      <p:cBhvr>
                                        <p:cTn id="111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50E4-874D-4091-8DFC-4203A5DA7B52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FCF6-4341-4D83-8021-DEAEBA433E60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AutoShape 10"/>
          <p:cNvSpPr/>
          <p:nvPr/>
        </p:nvSpPr>
        <p:spPr>
          <a:xfrm>
            <a:off x="2971800" y="304920"/>
            <a:ext cx="3505320" cy="1066680"/>
          </a:xfrm>
          <a:prstGeom prst="wedgeEllipseCallout">
            <a:avLst>
              <a:gd name="adj1" fmla="val -2398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8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Text Box 13"/>
          <p:cNvSpPr/>
          <p:nvPr/>
        </p:nvSpPr>
        <p:spPr>
          <a:xfrm>
            <a:off x="380880" y="2590920"/>
            <a:ext cx="8077320" cy="1556280"/>
          </a:xfrm>
          <a:prstGeom prst="rect">
            <a:avLst/>
          </a:prstGeom>
          <a:solidFill>
            <a:srgbClr val="ff66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Un quadrilatère qui a 4 angles droits est un …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ZoneTexte 5"/>
          <p:cNvSpPr/>
          <p:nvPr/>
        </p:nvSpPr>
        <p:spPr>
          <a:xfrm>
            <a:off x="2815200" y="4572000"/>
            <a:ext cx="386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Un rectangl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1" name="camera.wav"/>
      </p:stSnd>
    </p:sndAc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7A1F-CFFE-4A72-BC0F-BCA5ACBEE988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7FD8-81F4-45BE-87BF-C0A367775A13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Text Box 12"/>
          <p:cNvSpPr/>
          <p:nvPr/>
        </p:nvSpPr>
        <p:spPr>
          <a:xfrm>
            <a:off x="304920" y="2286000"/>
            <a:ext cx="8610480" cy="2287440"/>
          </a:xfrm>
          <a:prstGeom prst="rect">
            <a:avLst/>
          </a:prstGeom>
          <a:solidFill>
            <a:srgbClr val="66ff33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Arial"/>
              </a:rPr>
              <a:t>Un quadrilatère qui a 4 angles droits et quatre côtés égaux est un ….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ZoneTexte 6"/>
          <p:cNvSpPr/>
          <p:nvPr/>
        </p:nvSpPr>
        <p:spPr>
          <a:xfrm>
            <a:off x="3690000" y="5334120"/>
            <a:ext cx="264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Un carré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25000">
    <p:cover dir="d"/>
    <p:sndAc>
      <p:stSnd>
        <p:snd r:embed="rId1" name="camera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8BA4-14BC-4CBA-B497-474249480F94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D05A-12A9-43CB-A063-8DEF8E95AEAD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AutoShape 10"/>
          <p:cNvSpPr/>
          <p:nvPr/>
        </p:nvSpPr>
        <p:spPr>
          <a:xfrm>
            <a:off x="2971800" y="304920"/>
            <a:ext cx="3505320" cy="1066680"/>
          </a:xfrm>
          <a:prstGeom prst="wedgeEllipseCallout">
            <a:avLst>
              <a:gd name="adj1" fmla="val -2398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1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Text Box 13"/>
          <p:cNvSpPr/>
          <p:nvPr/>
        </p:nvSpPr>
        <p:spPr>
          <a:xfrm>
            <a:off x="380880" y="2590920"/>
            <a:ext cx="8077320" cy="1556280"/>
          </a:xfrm>
          <a:prstGeom prst="rect">
            <a:avLst/>
          </a:prstGeom>
          <a:solidFill>
            <a:srgbClr val="00b0f0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Un quadrilatère qui a 4 côtés égaux est un …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ZoneTexte 6"/>
          <p:cNvSpPr/>
          <p:nvPr/>
        </p:nvSpPr>
        <p:spPr>
          <a:xfrm>
            <a:off x="3416760" y="4724280"/>
            <a:ext cx="341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Un losange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1" name="camera.wav"/>
      </p:stSnd>
    </p:sndAc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E725-DE17-4592-B00F-AF4A68E56AB5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96ED-CA24-4EA5-94B3-BCD1DA8BD5EE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1904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ff0000"/>
                </a:solidFill>
                <a:latin typeface="Times New Roman"/>
              </a:rPr>
              <a:t>Pour chaque calcul, vous aurez un temps limité.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457200" y="29718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b200"/>
                </a:solidFill>
                <a:latin typeface="Times New Roman"/>
              </a:rPr>
              <a:t>Ecrivez uniquement la réponse.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457200" y="42670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3300"/>
                </a:solidFill>
                <a:latin typeface="Times New Roman"/>
              </a:rPr>
              <a:t>Attention, c’est à vous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0000"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68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68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6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6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998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998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70BA-4658-4C42-A552-696501FB7B51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F8AA-F9A1-4DC6-8280-39CB91622435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15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0"/>
              <p:cNvSpPr txBox="1"/>
              <p:nvPr/>
            </p:nvSpPr>
            <p:spPr>
              <a:xfrm>
                <a:off x="1042920" y="2170080"/>
                <a:ext cx="7058160" cy="183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2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15 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2000">
    <p:cover dir="d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3672-BEE3-4E31-90E4-36454354153E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0354-3A1D-420C-B880-B51C25CB736B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1"/>
              <p:cNvSpPr txBox="1"/>
              <p:nvPr/>
            </p:nvSpPr>
            <p:spPr>
              <a:xfrm>
                <a:off x="230040" y="2333520"/>
                <a:ext cx="8533080" cy="173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16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? 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5000">
    <p:cover dir="d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A50F-687D-4B14-A495-1AD141DA8E15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D439-91C5-4004-8D53-15FB30C6AEA6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304920" y="2209680"/>
            <a:ext cx="8610480" cy="825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omic Sans MS"/>
              </a:rPr>
              <a:t>J’ajoute 7000 à 4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61AE3-07D0-4216-ADA1-A1E0A9349BBB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37C6-CF89-4A02-930E-7DE539273EAC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1"/>
              <p:cNvSpPr txBox="1"/>
              <p:nvPr/>
            </p:nvSpPr>
            <p:spPr>
              <a:xfrm>
                <a:off x="533520" y="2286000"/>
                <a:ext cx="8076960" cy="20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1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29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2000">
    <p:cover dir="d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00E19-7702-433B-917D-391CABCB397E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378B-32D1-4589-88BC-CE9ADEBC4F02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12"/>
              <p:cNvSpPr txBox="1"/>
              <p:nvPr/>
            </p:nvSpPr>
            <p:spPr>
              <a:xfrm>
                <a:off x="457200" y="2438280"/>
                <a:ext cx="820728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0 - 32 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2000">
    <p:cover dir="d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6A87-1F36-4D2A-AC11-F9D8424A9557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60F0-9838-4751-92AC-F70331BB60D3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6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990720" y="2590920"/>
            <a:ext cx="6933960" cy="1557000"/>
          </a:xfrm>
          <a:prstGeom prst="rect">
            <a:avLst/>
          </a:prstGeom>
          <a:solidFill>
            <a:srgbClr val="ff66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110 – 11 = ?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25000">
    <p:cover dir="d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ma</dc:creator>
  <dc:description/>
  <dc:language>en-US</dc:language>
  <cp:lastModifiedBy>Toma</cp:lastModifiedBy>
  <dcterms:modified xsi:type="dcterms:W3CDTF">2011-05-23T04:43:30Z</dcterms:modified>
  <cp:revision>10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6</vt:r8>
  </property>
  <property fmtid="{D5CDD505-2E9C-101B-9397-08002B2CF9AE}" pid="3" name="Version">
    <vt:r8>3</vt:r8>
  </property>
</Properties>
</file>