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37407-2E88-4D03-AB37-336978BA66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0DB75-A779-42E5-BBF9-C6DC61C02D4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02F4-D90F-462A-91DA-61CA64F164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67D7-144A-43A7-8EB5-0409D257053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3DD-D702-487C-A0D9-6C9B09EA62E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F827-76F9-4267-9F9C-EA0F33021F0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E752-FB35-4B8A-BED5-8CF2B177CA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74D7-5BE9-43F5-A81A-12B64C5CF4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DBC-3465-4E59-BB53-587B9E7E873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0FA-2317-46B9-9AF3-F63771E4528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53B7-11AA-47D8-B7F7-06461B11741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0E7D-C3E0-42A4-B1B1-14ADB438151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9EFA-FDBA-4262-B0F2-734645789A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F283-B953-4F55-92C7-FAD7C35883D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F82F-D9AC-4D5B-8B05-78CD83E6AE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D22E-ADA2-40F6-B5F7-D174CF2208C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5EB1F-F235-4AD8-AC58-B86F0F8827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4449-0A0F-4B00-9E0A-FCE5FB68CA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0D46-01D2-43B6-9536-4BCAA01602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DBF3-FB5C-4C01-8DDE-8B7BC7ED077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840D-FE6E-4210-826E-A9886442D2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9552-1DAA-437D-9256-A2B4D387DBA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BF39-B6DE-4FA8-B96F-D433819A3E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AFE8-3A9D-45EC-A087-81DE121CA5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4E3E-7753-437D-800E-900D634E59F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F180-1337-40EA-85CB-74A1E1B4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3E2-10EB-4E6C-B720-B4ADD9A0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2B9A-4994-45DF-953E-DD7CEBF15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CFA-4BEF-4A59-8F2E-179D9E87C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BFAA-9D3E-434F-BF82-5EE6B003D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DE66-23C8-49E0-B6F4-4E560B6A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41D01-FF23-4434-A436-64F0D84F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A5AE-9A02-4456-A279-12E11456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36CB-C958-4167-BB99-D7414880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1820-C2A9-4931-A44F-0B8D625B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3ACC-DFFA-4033-AEE4-603205B7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6CE6-305F-4C9D-975C-43967580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C77F-00D1-48F8-AA7A-D660E92A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7BD2-7E9F-4B02-82CE-FF7DF978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F97F-03D4-4C93-8701-DA1314C9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0F8A-0567-44E6-8B21-9F572B2B3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F1F-B9CF-4D8A-B623-762B1729F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164-9F37-475B-96DC-A876B09E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3DA6-7324-4931-9E6F-986BF358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A25A-1E32-433C-A644-FC72EB7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D322-6664-424F-A67E-9FB2D1D4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DEC-DC4F-4B03-88AE-2ACC8C28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1B8-CCF8-4B5A-8617-FDFF990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2C7-4D5B-41EF-966C-8BCED583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EF22-86F8-4A4F-950A-C5E95AD73960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B1D1-8821-4035-ABDC-60D38C930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EBF6-DA33-4B7A-992E-CCFA523F84C4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D96EF-224B-4552-BA79-B70FD4EFB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1D8D-21BC-4EFA-92F2-12A65F69326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64CF-BBA3-48C3-BF3B-A227D2576D1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7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0F2F-C29A-4FEC-B370-884C3E85B1A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2DAA-59BE-46C2-890B-129D0511BADD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228600" y="2411280"/>
                <a:ext cx="8686800" cy="190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78C4-5D17-47C8-89CE-107C5DE6EE3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2C49-7DBB-43A4-AEA4-5A4A6F86152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595440" y="2438280"/>
                <a:ext cx="7951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,7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0F40-513D-408B-9419-9B04FB250454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C9A4-5BEF-4489-A6E6-1680D006319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10 ans et demi, son frère a le double de son âge, quel âge a son frèr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A65F-542B-4FF9-82D8-01F589D3FE0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DAE1-974E-4CAA-8568-682AEEA2BFC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4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2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0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8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6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4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2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4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0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1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51F1-0EF2-4E17-8CAF-AB41DEF6469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4472-CFA0-43D5-8D8C-62C522E224D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20"/>
              <p:cNvSpPr txBox="1"/>
              <p:nvPr/>
            </p:nvSpPr>
            <p:spPr>
              <a:xfrm>
                <a:off x="1579680" y="2011320"/>
                <a:ext cx="5983200" cy="21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3" name="ZoneTexte 5"/>
          <p:cNvSpPr/>
          <p:nvPr/>
        </p:nvSpPr>
        <p:spPr>
          <a:xfrm>
            <a:off x="3886200" y="4419720"/>
            <a:ext cx="101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C032A-B5EE-46C5-AF1A-EB956F63664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29B9-DE64-45FB-854F-3DF9440101F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11"/>
              <p:cNvSpPr txBox="1"/>
              <p:nvPr/>
            </p:nvSpPr>
            <p:spPr>
              <a:xfrm>
                <a:off x="28440" y="2209680"/>
                <a:ext cx="9212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ZoneTexte 5"/>
          <p:cNvSpPr/>
          <p:nvPr/>
        </p:nvSpPr>
        <p:spPr>
          <a:xfrm>
            <a:off x="3565440" y="449568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F22-1709-4816-96C4-C6371DCF45B7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2456-0D1C-47FB-9B4E-E77D67E3C33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Dans 81 combien de fois 9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ZoneTexte 6"/>
          <p:cNvSpPr/>
          <p:nvPr/>
        </p:nvSpPr>
        <p:spPr>
          <a:xfrm>
            <a:off x="9401400" y="3352680"/>
            <a:ext cx="878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39 -0.00602 C -0.04514 -0.01921 -0.0349 -0.03218 -0.09184 0.01759 C -0.14879 0.06736 -0.29428 0.28542 -0.39705 0.29259 C -0.49983 0.29977 -0.60417 0.18009 -0.70851 0.06065 E">
                                      <p:cBhvr>
                                        <p:cTn id="75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9BF8-2414-4E7C-8039-1582BC2025FA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7493-CD82-4E66-B315-44B99CB8DB2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11"/>
              <p:cNvSpPr txBox="1"/>
              <p:nvPr/>
            </p:nvSpPr>
            <p:spPr>
              <a:xfrm>
                <a:off x="0" y="1905120"/>
                <a:ext cx="899172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ZoneTexte 5"/>
          <p:cNvSpPr/>
          <p:nvPr/>
        </p:nvSpPr>
        <p:spPr>
          <a:xfrm>
            <a:off x="9440640" y="2590920"/>
            <a:ext cx="26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1,39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65 0.01898 L -0.73298 0.2412 E">
                                      <p:cBhvr>
                                        <p:cTn id="81" dur="2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6AB5-65E0-43B1-B53F-9054438854B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A41F-24BA-47E9-8E6F-036D18F2AC8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12"/>
              <p:cNvSpPr txBox="1"/>
              <p:nvPr/>
            </p:nvSpPr>
            <p:spPr>
              <a:xfrm>
                <a:off x="399960" y="2438280"/>
                <a:ext cx="84200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ZoneTexte 5"/>
          <p:cNvSpPr/>
          <p:nvPr/>
        </p:nvSpPr>
        <p:spPr>
          <a:xfrm>
            <a:off x="9144000" y="3429000"/>
            <a:ext cx="278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4,56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53333 0.17778 E">
                                      <p:cBhvr>
                                        <p:cTn id="87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F453A-57C3-4859-B719-B858D758611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E0A7A-4DE9-4C02-B4B9-A10B3974C458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82880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a multiplic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C6E-F880-4326-9912-D157F0B20B5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5DDB-FC2D-4644-A359-5AA8F63A3BF4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2000 F, combien peut-on acheter de cahiers à 300 F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ZoneTexte 6"/>
          <p:cNvSpPr/>
          <p:nvPr/>
        </p:nvSpPr>
        <p:spPr>
          <a:xfrm>
            <a:off x="3409920" y="4267080"/>
            <a:ext cx="338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omic Sans MS"/>
              </a:rPr>
              <a:t>6 cahiers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2F07-CBB8-4EFF-801D-A299B097A09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4BC2-FE50-4923-A09C-624D81D47E07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15"/>
              <p:cNvSpPr txBox="1"/>
              <p:nvPr/>
            </p:nvSpPr>
            <p:spPr>
              <a:xfrm>
                <a:off x="0" y="2057400"/>
                <a:ext cx="8686800" cy="19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6" name="ZoneTexte 6"/>
          <p:cNvSpPr/>
          <p:nvPr/>
        </p:nvSpPr>
        <p:spPr>
          <a:xfrm>
            <a:off x="9455040" y="358128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360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75 0.01065 C -0.20486 0.14422 -0.27205 0.27778 -0.33125 0.27593 C -0.39045 0.27408 -0.4309 0.01991 -0.4927 -0.00046 C -0.55451 -0.02083 -0.66996 0.13056 -0.70208 0.15371 E">
                                      <p:cBhvr>
                                        <p:cTn id="100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8472-E394-48CE-A98A-35CB172E44C3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DE92-D4D1-437E-B51A-D3944CF9DB1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11"/>
              <p:cNvSpPr txBox="1"/>
              <p:nvPr/>
            </p:nvSpPr>
            <p:spPr>
              <a:xfrm>
                <a:off x="533520" y="1981080"/>
                <a:ext cx="79516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,7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ZoneTexte 5"/>
          <p:cNvSpPr/>
          <p:nvPr/>
        </p:nvSpPr>
        <p:spPr>
          <a:xfrm>
            <a:off x="3560400" y="426708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57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9C4D-27DE-4F3D-9CB3-70E5D896EBA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1609-366A-4915-8200-42EA65C293C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2"/>
          <p:cNvSpPr/>
          <p:nvPr/>
        </p:nvSpPr>
        <p:spPr>
          <a:xfrm>
            <a:off x="304920" y="198108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10 ans et demi, son frère a le double de son âge, quel âge a son frère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ZoneTexte 6"/>
          <p:cNvSpPr/>
          <p:nvPr/>
        </p:nvSpPr>
        <p:spPr>
          <a:xfrm>
            <a:off x="2928960" y="4648320"/>
            <a:ext cx="258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omic Sans MS"/>
              </a:rPr>
              <a:t>Il a 21 an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3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E817-C784-429E-BC46-5F625D424EC5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F369-1C11-457E-8172-D3A5327FBD1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ZoneTexte 5"/>
          <p:cNvSpPr/>
          <p:nvPr/>
        </p:nvSpPr>
        <p:spPr>
          <a:xfrm>
            <a:off x="9397800" y="4191120"/>
            <a:ext cx="177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Comic Sans MS"/>
              </a:rPr>
              <a:t>O !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2000">
    <p:cover dir="d"/>
    <p:sndAc>
      <p:stSnd>
        <p:snd r:embed="rId1" name="camera.wav"/>
      </p:stSnd>
    </p:sndAc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354 0.01065 C -0.17917 -0.04629 -0.24479 -0.10324 -0.30312 -0.08379 C -0.36146 -0.06435 -0.4033 0.10973 -0.46354 0.12732 C -0.52378 0.14491 -0.59427 0.08334 -0.66458 0.02176 E">
                                      <p:cBhvr>
                                        <p:cTn id="125" dur="2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41A2D-B01D-4C8D-8FF3-F03CCCA4774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90ED1-5851-4DCC-9BE2-343712C0B3E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7BCA7-DBE8-4E0B-A15A-7C77602C7F8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F78C-54EE-4277-8572-D878358FD43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888840" y="2011320"/>
                <a:ext cx="7366320" cy="21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r>
                      <m:t xml:space="preserve">?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120A-EF86-4BB4-AF72-6221B210654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CFC6-83CE-4B86-A2E2-D03885BA4A0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8440" y="2209680"/>
                <a:ext cx="92124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A9D6-FBC2-4187-A063-B89B912F96C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02F4F-3352-41EE-A0E7-A0412131900E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82512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Dans 81 combien de fois 9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7251-AB05-4C00-AD4A-3917D186651B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705E2-102C-4839-8FDF-0DF142564589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76320" y="2286000"/>
                <a:ext cx="899136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274E-F67E-4F1D-BF61-7FEA3A158948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2CB7-61E9-46B0-BF5C-2DA0E79A8A1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399960" y="2438280"/>
                <a:ext cx="842004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6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2D75A-285E-4F83-B652-2F9FE3926A4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70105-A7C9-46B6-AB0F-12E222D53753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2000 F, combien peut-on acheter de cahiers à 300 F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oma</dc:creator>
  <dc:description/>
  <dc:language>en-US</dc:language>
  <cp:lastModifiedBy>Toma</cp:lastModifiedBy>
  <dcterms:modified xsi:type="dcterms:W3CDTF">2011-05-09T04:25:24Z</dcterms:modified>
  <cp:revision>9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