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push.wav" ContentType="audio/x-wav"/>
  <Override PartName="/ppt/media/drumroll.wav" ContentType="audio/x-wav"/>
  <Override PartName="/ppt/media/arrow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AF11-EF41-4AF0-98FC-860E26399E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EA6C-C9C1-455A-ACC1-6EDF1A85825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0F2B-20E9-4473-888A-63C8B6D33E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68E1-8C93-464A-8A4E-85C3AED0A4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8E1B-7046-4CAD-83C8-FFAD135D776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F6EB-90B2-44E4-A868-26F678D75E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D970-B6DA-4DB8-BBE7-EC269567D0D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1929-215C-477D-84DE-6DA10CD052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5BA5-D75C-4D18-8511-D4799479162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6FE7-91E1-460F-BB81-643B4A1FE3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28A9-F008-4137-901B-6234721870C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3A8F-7211-4080-AF70-15341C62A75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AFCF-B431-4CBF-8CA1-BB9247515D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3193-4B77-4146-A474-89E3242E7A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300D-865A-4C68-9BA4-97C9658B6C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E1CB-0254-4C0B-8C6C-219ABAD6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C1C-9E80-4A98-BB05-EB5B67C7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F7FA-432A-4878-BF59-A7AA1358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C93-666D-45BB-B3FC-87C6DBAA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E04E-25BB-4425-AABE-E6F8E7BD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C9D0-3676-4CA8-89AC-4A534607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BE4F-1764-4648-81E7-1CE7F58B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7A555-432B-4E4B-BB9C-D30DCBBD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AEA8-26A3-49DC-8B01-7D8C287A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4BC3-7BAE-4F29-BAE1-C0CCF917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7C767-5975-4EAF-8EFE-E0DFEDC5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B0B-BEEF-441C-93B1-625B40BB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F1EC-992A-4DF0-BDE2-A6259789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0F76-D204-4F5E-B11C-40D31D61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463A-129D-437C-B8EA-7D6667F03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2993-3BD1-4E3E-911E-73D63002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24D0-3D0E-49CB-BA61-343B93AA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F373-BE5A-4C2A-A69E-1E568568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3318-4E25-486E-820A-FA909C3B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9F9-850B-44E9-B925-A2AE8EDB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206-989C-4CD4-88E7-644DAF70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2172-AAD8-4E0F-9774-F987D4D5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6F4A-5F05-4007-BDDC-157DD71C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FBD6-9B54-4431-B9BC-40BB67A0B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D423-6431-4A2A-B2B6-C2DBA1F940DC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0CBA-C041-4062-A111-5B932A29FE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840" y="-86400"/>
            <a:ext cx="2428560" cy="2248560"/>
            <a:chOff x="7170840" y="-86400"/>
            <a:chExt cx="2428560" cy="22485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840" y="-86400"/>
              <a:ext cx="2428560" cy="2248560"/>
              <a:chOff x="7170840" y="-86400"/>
              <a:chExt cx="2428560" cy="224856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840" y="-86400"/>
                <a:ext cx="2428560" cy="2248560"/>
                <a:chOff x="7170840" y="-86400"/>
                <a:chExt cx="2428560" cy="224856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280" y="112680"/>
                  <a:ext cx="2433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7200" y="524520"/>
                  <a:ext cx="42768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5160" y="285840"/>
                  <a:ext cx="8031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120" y="-28800"/>
                  <a:ext cx="120564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248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64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176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54E7E-5FF3-4BEB-83AA-B4C48C31DDF8}" type="datetime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6112-8A1A-4889-9413-020E775F0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ush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5086D-97C3-4A44-80AD-6E57E46042ED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F180-6A4E-4D6C-B39E-AFAB8F44715C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Comic Sans MS"/>
              </a:rPr>
              <a:t>CALCUL MENTAL N°6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4DB2-57DE-4FFC-909F-693CBC9E74E6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F125-A165-4BF1-A9B2-772F2E027C45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7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5"/>
              <p:cNvSpPr txBox="1"/>
              <p:nvPr/>
            </p:nvSpPr>
            <p:spPr>
              <a:xfrm>
                <a:off x="228600" y="2362320"/>
                <a:ext cx="8686800" cy="20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134C-6E5B-4BDF-BAD4-E652200D9566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714C-27EE-4BCF-970D-9CC03F348E76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8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1"/>
              <p:cNvSpPr txBox="1"/>
              <p:nvPr/>
            </p:nvSpPr>
            <p:spPr>
              <a:xfrm>
                <a:off x="228600" y="2438280"/>
                <a:ext cx="868680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E1A7-1F23-44E8-9A4D-4DD04E90094E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7E91-11EB-4CCC-AA8B-78FF8C1F5B5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9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304920" y="2286000"/>
            <a:ext cx="8610480" cy="228744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lexis a 5 ans et demi, Paul est quatre fois plus âgé qu’Alexis, quel âge a Paul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64EC-0AE4-4F1F-B26C-1E1624753AB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D8B1-B886-4281-A2E8-84C0BCBF8D9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2971800" y="304920"/>
            <a:ext cx="3505320" cy="1066680"/>
          </a:xfrm>
          <a:prstGeom prst="wedgeEllipseCallout">
            <a:avLst>
              <a:gd name="adj1" fmla="val -2398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1"/>
              <p:cNvSpPr txBox="1"/>
              <p:nvPr/>
            </p:nvSpPr>
            <p:spPr>
              <a:xfrm>
                <a:off x="0" y="2362320"/>
                <a:ext cx="9144000" cy="15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×</m:t>
                    </m:r>
                    <m:r>
                      <m:t xml:space="preserve">3,2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×</m:t>
                    </m:r>
                    <m:r>
                      <m:t xml:space="preserve">6,8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9"/>
          <p:cNvGrpSpPr/>
          <p:nvPr/>
        </p:nvGrpSpPr>
        <p:grpSpPr>
          <a:xfrm>
            <a:off x="2602800" y="771840"/>
            <a:ext cx="1757520" cy="1330200"/>
            <a:chOff x="2602800" y="771840"/>
            <a:chExt cx="1757520" cy="1330200"/>
          </a:xfrm>
        </p:grpSpPr>
        <p:sp>
          <p:nvSpPr>
            <p:cNvPr id="214" name="AutoShape 2"/>
            <p:cNvSpPr/>
            <p:nvPr/>
          </p:nvSpPr>
          <p:spPr>
            <a:xfrm rot="2700000">
              <a:off x="3586320" y="1298160"/>
              <a:ext cx="641160" cy="64152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AutoShape 3"/>
            <p:cNvSpPr/>
            <p:nvPr/>
          </p:nvSpPr>
          <p:spPr>
            <a:xfrm flipH="1" rot="2700000">
              <a:off x="2666520" y="1725120"/>
              <a:ext cx="314280" cy="3110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4"/>
            <p:cNvSpPr/>
            <p:nvPr/>
          </p:nvSpPr>
          <p:spPr>
            <a:xfrm rot="18900000">
              <a:off x="3662280" y="837720"/>
              <a:ext cx="322200" cy="327240"/>
            </a:xfrm>
            <a:prstGeom prst="rect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AutoShape 5"/>
            <p:cNvSpPr/>
            <p:nvPr/>
          </p:nvSpPr>
          <p:spPr>
            <a:xfrm rot="16200000">
              <a:off x="2801880" y="1425600"/>
              <a:ext cx="444240" cy="4442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AutoShape 6"/>
            <p:cNvSpPr/>
            <p:nvPr/>
          </p:nvSpPr>
          <p:spPr>
            <a:xfrm>
              <a:off x="3247920" y="1420920"/>
              <a:ext cx="642960" cy="64440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AutoShape 7"/>
            <p:cNvSpPr/>
            <p:nvPr/>
          </p:nvSpPr>
          <p:spPr>
            <a:xfrm rot="13500000">
              <a:off x="3744720" y="1699920"/>
              <a:ext cx="317520" cy="314640"/>
            </a:xfrm>
            <a:prstGeom prst="rtTriangl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Freeform 8"/>
            <p:cNvSpPr/>
            <p:nvPr/>
          </p:nvSpPr>
          <p:spPr>
            <a:xfrm>
              <a:off x="3902040" y="1158840"/>
              <a:ext cx="215640" cy="689040"/>
            </a:xfrm>
            <a:prstGeom prst="pie">
              <a:avLst/>
            </a:prstGeom>
            <a:solidFill>
              <a:srgbClr val="00ffff"/>
            </a:solidFill>
            <a:ln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1" name="Group 17"/>
          <p:cNvGrpSpPr/>
          <p:nvPr/>
        </p:nvGrpSpPr>
        <p:grpSpPr>
          <a:xfrm>
            <a:off x="762120" y="762120"/>
            <a:ext cx="836280" cy="2146320"/>
            <a:chOff x="762120" y="762120"/>
            <a:chExt cx="836280" cy="2146320"/>
          </a:xfrm>
        </p:grpSpPr>
        <p:sp>
          <p:nvSpPr>
            <p:cNvPr id="222" name="Rectangle 10"/>
            <p:cNvSpPr/>
            <p:nvPr/>
          </p:nvSpPr>
          <p:spPr>
            <a:xfrm>
              <a:off x="1186200" y="2254320"/>
              <a:ext cx="322200" cy="32544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AutoShape 11"/>
            <p:cNvSpPr/>
            <p:nvPr/>
          </p:nvSpPr>
          <p:spPr>
            <a:xfrm rot="10800000">
              <a:off x="947880" y="762120"/>
              <a:ext cx="642960" cy="6429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AutoShape 12"/>
            <p:cNvSpPr/>
            <p:nvPr/>
          </p:nvSpPr>
          <p:spPr>
            <a:xfrm rot="10800000">
              <a:off x="1152360" y="1915920"/>
              <a:ext cx="446040" cy="446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AutoShape 13"/>
            <p:cNvSpPr/>
            <p:nvPr/>
          </p:nvSpPr>
          <p:spPr>
            <a:xfrm rot="16200000">
              <a:off x="763920" y="1253880"/>
              <a:ext cx="641160" cy="64476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AutoShape 14"/>
            <p:cNvSpPr/>
            <p:nvPr/>
          </p:nvSpPr>
          <p:spPr>
            <a:xfrm>
              <a:off x="1094040" y="906480"/>
              <a:ext cx="317520" cy="31608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AutoShape 15"/>
            <p:cNvSpPr/>
            <p:nvPr/>
          </p:nvSpPr>
          <p:spPr>
            <a:xfrm flipH="1">
              <a:off x="1136160" y="2597400"/>
              <a:ext cx="314280" cy="311040"/>
            </a:xfrm>
            <a:prstGeom prst="rtTriangl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Freeform 16"/>
            <p:cNvSpPr/>
            <p:nvPr/>
          </p:nvSpPr>
          <p:spPr>
            <a:xfrm>
              <a:off x="833760" y="1906920"/>
              <a:ext cx="639720" cy="336240"/>
            </a:xfrm>
            <a:prstGeom prst="pie">
              <a:avLst/>
            </a:prstGeom>
            <a:solidFill>
              <a:srgbClr val="ff6600"/>
            </a:solidFill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9" name="Group 25"/>
          <p:cNvGrpSpPr/>
          <p:nvPr/>
        </p:nvGrpSpPr>
        <p:grpSpPr>
          <a:xfrm>
            <a:off x="5257800" y="517320"/>
            <a:ext cx="1453320" cy="1735920"/>
            <a:chOff x="5257800" y="517320"/>
            <a:chExt cx="1453320" cy="1735920"/>
          </a:xfrm>
        </p:grpSpPr>
        <p:sp>
          <p:nvSpPr>
            <p:cNvPr id="230" name="Rectangle 18"/>
            <p:cNvSpPr/>
            <p:nvPr/>
          </p:nvSpPr>
          <p:spPr>
            <a:xfrm>
              <a:off x="5267520" y="833400"/>
              <a:ext cx="322200" cy="32688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AutoShape 19"/>
            <p:cNvSpPr/>
            <p:nvPr/>
          </p:nvSpPr>
          <p:spPr>
            <a:xfrm rot="2700000">
              <a:off x="5937120" y="971280"/>
              <a:ext cx="641160" cy="64116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AutoShape 20"/>
            <p:cNvSpPr/>
            <p:nvPr/>
          </p:nvSpPr>
          <p:spPr>
            <a:xfrm rot="18900000">
              <a:off x="5711400" y="609120"/>
              <a:ext cx="444600" cy="4446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AutoShape 21"/>
            <p:cNvSpPr/>
            <p:nvPr/>
          </p:nvSpPr>
          <p:spPr>
            <a:xfrm rot="8100000">
              <a:off x="5403240" y="1476360"/>
              <a:ext cx="641160" cy="64440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AutoShape 22"/>
            <p:cNvSpPr/>
            <p:nvPr/>
          </p:nvSpPr>
          <p:spPr>
            <a:xfrm>
              <a:off x="5605560" y="830160"/>
              <a:ext cx="31752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AutoShape 23"/>
            <p:cNvSpPr/>
            <p:nvPr/>
          </p:nvSpPr>
          <p:spPr>
            <a:xfrm flipH="1" rot="10800000">
              <a:off x="5267520" y="1164960"/>
              <a:ext cx="311040" cy="314280"/>
            </a:xfrm>
            <a:prstGeom prst="rtTriangl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Freeform 24"/>
            <p:cNvSpPr/>
            <p:nvPr/>
          </p:nvSpPr>
          <p:spPr>
            <a:xfrm>
              <a:off x="5257800" y="1149480"/>
              <a:ext cx="344520" cy="639720"/>
            </a:xfrm>
            <a:prstGeom prst="pie">
              <a:avLst/>
            </a:prstGeom>
            <a:solidFill>
              <a:srgbClr val="00ff00"/>
            </a:solidFill>
            <a:ln w="1260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7" name="Group 33"/>
          <p:cNvGrpSpPr/>
          <p:nvPr/>
        </p:nvGrpSpPr>
        <p:grpSpPr>
          <a:xfrm>
            <a:off x="7086600" y="838080"/>
            <a:ext cx="1297080" cy="1611360"/>
            <a:chOff x="7086600" y="838080"/>
            <a:chExt cx="1297080" cy="1611360"/>
          </a:xfrm>
        </p:grpSpPr>
        <p:sp>
          <p:nvSpPr>
            <p:cNvPr id="238" name="AutoShape 26"/>
            <p:cNvSpPr/>
            <p:nvPr/>
          </p:nvSpPr>
          <p:spPr>
            <a:xfrm flipH="1" rot="13500000">
              <a:off x="7513200" y="1913040"/>
              <a:ext cx="444600" cy="4442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Rectangle 27"/>
            <p:cNvSpPr/>
            <p:nvPr/>
          </p:nvSpPr>
          <p:spPr>
            <a:xfrm>
              <a:off x="7732800" y="1493640"/>
              <a:ext cx="322200" cy="3272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AutoShape 28"/>
            <p:cNvSpPr/>
            <p:nvPr/>
          </p:nvSpPr>
          <p:spPr>
            <a:xfrm>
              <a:off x="7742160" y="838080"/>
              <a:ext cx="641520" cy="64152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AutoShape 29"/>
            <p:cNvSpPr/>
            <p:nvPr/>
          </p:nvSpPr>
          <p:spPr>
            <a:xfrm rot="16200000">
              <a:off x="7088040" y="845640"/>
              <a:ext cx="641160" cy="64440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AutoShape 30"/>
            <p:cNvSpPr/>
            <p:nvPr/>
          </p:nvSpPr>
          <p:spPr>
            <a:xfrm rot="10800000">
              <a:off x="7737120" y="1809720"/>
              <a:ext cx="322200" cy="31896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AutoShape 31"/>
            <p:cNvSpPr/>
            <p:nvPr/>
          </p:nvSpPr>
          <p:spPr>
            <a:xfrm flipH="1" rot="10800000">
              <a:off x="7401240" y="1493640"/>
              <a:ext cx="311400" cy="314640"/>
            </a:xfrm>
            <a:prstGeom prst="rtTriangl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Freeform 32"/>
            <p:cNvSpPr/>
            <p:nvPr/>
          </p:nvSpPr>
          <p:spPr>
            <a:xfrm>
              <a:off x="7400880" y="1490760"/>
              <a:ext cx="334800" cy="639720"/>
            </a:xfrm>
            <a:prstGeom prst="pie">
              <a:avLst/>
            </a:prstGeom>
            <a:solidFill>
              <a:srgbClr val="cc99ff"/>
            </a:solidFill>
            <a:ln w="126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5" name="Group 41"/>
          <p:cNvGrpSpPr/>
          <p:nvPr/>
        </p:nvGrpSpPr>
        <p:grpSpPr>
          <a:xfrm>
            <a:off x="762120" y="5181120"/>
            <a:ext cx="1450800" cy="1122840"/>
            <a:chOff x="762120" y="5181120"/>
            <a:chExt cx="1450800" cy="1122840"/>
          </a:xfrm>
        </p:grpSpPr>
        <p:sp>
          <p:nvSpPr>
            <p:cNvPr id="246" name="AutoShape 34"/>
            <p:cNvSpPr/>
            <p:nvPr/>
          </p:nvSpPr>
          <p:spPr>
            <a:xfrm flipH="1">
              <a:off x="991440" y="5281560"/>
              <a:ext cx="446040" cy="446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35"/>
            <p:cNvSpPr/>
            <p:nvPr/>
          </p:nvSpPr>
          <p:spPr>
            <a:xfrm>
              <a:off x="992160" y="5743440"/>
              <a:ext cx="322200" cy="3268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36"/>
            <p:cNvSpPr/>
            <p:nvPr/>
          </p:nvSpPr>
          <p:spPr>
            <a:xfrm rot="13500000">
              <a:off x="1125360" y="5317560"/>
              <a:ext cx="641520" cy="64152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AutoShape 37"/>
            <p:cNvSpPr/>
            <p:nvPr/>
          </p:nvSpPr>
          <p:spPr>
            <a:xfrm rot="16200000">
              <a:off x="1239480" y="5651280"/>
              <a:ext cx="650880" cy="6476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AutoShape 38"/>
            <p:cNvSpPr/>
            <p:nvPr/>
          </p:nvSpPr>
          <p:spPr>
            <a:xfrm rot="10800000">
              <a:off x="1450440" y="5181120"/>
              <a:ext cx="306360" cy="30780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AutoShape 39"/>
            <p:cNvSpPr/>
            <p:nvPr/>
          </p:nvSpPr>
          <p:spPr>
            <a:xfrm flipH="1" rot="5400000">
              <a:off x="1900080" y="5644440"/>
              <a:ext cx="314280" cy="311040"/>
            </a:xfrm>
            <a:prstGeom prst="rtTriangl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Freeform 40"/>
            <p:cNvSpPr/>
            <p:nvPr/>
          </p:nvSpPr>
          <p:spPr>
            <a:xfrm>
              <a:off x="762120" y="6086160"/>
              <a:ext cx="687240" cy="217800"/>
            </a:xfrm>
            <a:prstGeom prst="pie">
              <a:avLst/>
            </a:prstGeom>
            <a:solidFill>
              <a:srgbClr val="ffff66"/>
            </a:solidFill>
            <a:ln w="12600">
              <a:solidFill>
                <a:srgbClr val="ff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53" name="Group 48"/>
          <p:cNvGrpSpPr/>
          <p:nvPr/>
        </p:nvGrpSpPr>
        <p:grpSpPr>
          <a:xfrm>
            <a:off x="3124080" y="5124240"/>
            <a:ext cx="1292400" cy="1091880"/>
            <a:chOff x="3124080" y="5124240"/>
            <a:chExt cx="1292400" cy="1091880"/>
          </a:xfrm>
        </p:grpSpPr>
        <p:sp>
          <p:nvSpPr>
            <p:cNvPr id="254" name="Rectangle 42"/>
            <p:cNvSpPr/>
            <p:nvPr/>
          </p:nvSpPr>
          <p:spPr>
            <a:xfrm>
              <a:off x="4093920" y="5889240"/>
              <a:ext cx="322560" cy="326880"/>
            </a:xfrm>
            <a:prstGeom prst="rect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AutoShape 43"/>
            <p:cNvSpPr/>
            <p:nvPr/>
          </p:nvSpPr>
          <p:spPr>
            <a:xfrm rot="8100000">
              <a:off x="3297240" y="5257800"/>
              <a:ext cx="644400" cy="64440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AutoShape 44"/>
            <p:cNvSpPr/>
            <p:nvPr/>
          </p:nvSpPr>
          <p:spPr>
            <a:xfrm rot="10800000">
              <a:off x="3433680" y="5571360"/>
              <a:ext cx="644400" cy="64116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AutoShape 45"/>
            <p:cNvSpPr/>
            <p:nvPr/>
          </p:nvSpPr>
          <p:spPr>
            <a:xfrm rot="16200000">
              <a:off x="3140280" y="5892480"/>
              <a:ext cx="31392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AutoShape 46"/>
            <p:cNvSpPr/>
            <p:nvPr/>
          </p:nvSpPr>
          <p:spPr>
            <a:xfrm flipH="1" rot="5400000">
              <a:off x="3773520" y="5889240"/>
              <a:ext cx="320400" cy="317520"/>
            </a:xfrm>
            <a:prstGeom prst="rtTriangl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Freeform 47"/>
            <p:cNvSpPr/>
            <p:nvPr/>
          </p:nvSpPr>
          <p:spPr>
            <a:xfrm>
              <a:off x="3124080" y="5554440"/>
              <a:ext cx="639720" cy="334440"/>
            </a:xfrm>
            <a:prstGeom prst="pie">
              <a:avLst/>
            </a:prstGeom>
            <a:solidFill>
              <a:srgbClr val="6699ff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0" name="AutoShape 49"/>
          <p:cNvSpPr/>
          <p:nvPr/>
        </p:nvSpPr>
        <p:spPr>
          <a:xfrm flipH="1" rot="18900000">
            <a:off x="2895120" y="4800600"/>
            <a:ext cx="446040" cy="446040"/>
          </a:xfrm>
          <a:prstGeom prst="rtTriangle">
            <a:avLst/>
          </a:prstGeom>
          <a:solidFill>
            <a:srgbClr val="6699ff"/>
          </a:solidFill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61" name="Group 58"/>
          <p:cNvGrpSpPr/>
          <p:nvPr/>
        </p:nvGrpSpPr>
        <p:grpSpPr>
          <a:xfrm>
            <a:off x="5559120" y="5193360"/>
            <a:ext cx="1351080" cy="1477800"/>
            <a:chOff x="5559120" y="5193360"/>
            <a:chExt cx="1351080" cy="1477800"/>
          </a:xfrm>
        </p:grpSpPr>
        <p:sp>
          <p:nvSpPr>
            <p:cNvPr id="262" name="AutoShape 50"/>
            <p:cNvSpPr/>
            <p:nvPr/>
          </p:nvSpPr>
          <p:spPr>
            <a:xfrm flipH="1" rot="13500000">
              <a:off x="6108840" y="5895360"/>
              <a:ext cx="644400" cy="641520"/>
            </a:xfrm>
            <a:prstGeom prst="rtTriangle">
              <a:avLst/>
            </a:prstGeom>
            <a:solidFill>
              <a:srgbClr val="ff0000"/>
            </a:solidFill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63" name="Group 57"/>
            <p:cNvGrpSpPr/>
            <p:nvPr/>
          </p:nvGrpSpPr>
          <p:grpSpPr>
            <a:xfrm>
              <a:off x="5559120" y="5193360"/>
              <a:ext cx="1351080" cy="1008720"/>
              <a:chOff x="5559120" y="5193360"/>
              <a:chExt cx="1351080" cy="1008720"/>
            </a:xfrm>
          </p:grpSpPr>
          <p:sp>
            <p:nvSpPr>
              <p:cNvPr id="264" name="AutoShape 51"/>
              <p:cNvSpPr/>
              <p:nvPr/>
            </p:nvSpPr>
            <p:spPr>
              <a:xfrm flipH="1" rot="5400000">
                <a:off x="5565960" y="5756040"/>
                <a:ext cx="434880" cy="44136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52"/>
              <p:cNvSpPr/>
              <p:nvPr/>
            </p:nvSpPr>
            <p:spPr>
              <a:xfrm>
                <a:off x="5670360" y="5408640"/>
                <a:ext cx="322560" cy="32688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AutoShape 53"/>
              <p:cNvSpPr/>
              <p:nvPr/>
            </p:nvSpPr>
            <p:spPr>
              <a:xfrm flipH="1" rot="2700000">
                <a:off x="5692320" y="5413320"/>
                <a:ext cx="644400" cy="64440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AutoShape 54"/>
              <p:cNvSpPr/>
              <p:nvPr/>
            </p:nvSpPr>
            <p:spPr>
              <a:xfrm rot="8100000">
                <a:off x="5673240" y="5257800"/>
                <a:ext cx="31428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AutoShape 55"/>
              <p:cNvSpPr/>
              <p:nvPr/>
            </p:nvSpPr>
            <p:spPr>
              <a:xfrm flipH="1" rot="8100000">
                <a:off x="6523920" y="5603400"/>
                <a:ext cx="320400" cy="317520"/>
              </a:xfrm>
              <a:prstGeom prst="rtTriangl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Freeform 56"/>
              <p:cNvSpPr/>
              <p:nvPr/>
            </p:nvSpPr>
            <p:spPr>
              <a:xfrm>
                <a:off x="6673680" y="5514840"/>
                <a:ext cx="217800" cy="687240"/>
              </a:xfrm>
              <a:prstGeom prst="pie">
                <a:avLst/>
              </a:prstGeom>
              <a:solidFill>
                <a:srgbClr val="ff0000"/>
              </a:solidFill>
              <a:ln w="12600">
                <a:solidFill>
                  <a:srgbClr val="ff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270" name="Group 66"/>
          <p:cNvGrpSpPr/>
          <p:nvPr/>
        </p:nvGrpSpPr>
        <p:grpSpPr>
          <a:xfrm>
            <a:off x="7629120" y="4648320"/>
            <a:ext cx="1398960" cy="1531440"/>
            <a:chOff x="7629120" y="4648320"/>
            <a:chExt cx="1398960" cy="1531440"/>
          </a:xfrm>
        </p:grpSpPr>
        <p:sp>
          <p:nvSpPr>
            <p:cNvPr id="271" name="Rectangle 59"/>
            <p:cNvSpPr/>
            <p:nvPr/>
          </p:nvSpPr>
          <p:spPr>
            <a:xfrm rot="18900000">
              <a:off x="7929720" y="5185800"/>
              <a:ext cx="314280" cy="32076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2" name="AutoShape 60"/>
            <p:cNvSpPr/>
            <p:nvPr/>
          </p:nvSpPr>
          <p:spPr>
            <a:xfrm flipH="1" rot="2700000">
              <a:off x="8249760" y="5238720"/>
              <a:ext cx="644400" cy="6444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AutoShape 61"/>
            <p:cNvSpPr/>
            <p:nvPr/>
          </p:nvSpPr>
          <p:spPr>
            <a:xfrm flipH="1" rot="5400000">
              <a:off x="8101080" y="5530680"/>
              <a:ext cx="644400" cy="641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AutoShape 62"/>
            <p:cNvSpPr/>
            <p:nvPr/>
          </p:nvSpPr>
          <p:spPr>
            <a:xfrm rot="16200000">
              <a:off x="7761240" y="4647600"/>
              <a:ext cx="314280" cy="3175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AutoShape 63"/>
            <p:cNvSpPr/>
            <p:nvPr/>
          </p:nvSpPr>
          <p:spPr>
            <a:xfrm rot="13500000">
              <a:off x="7696080" y="5417640"/>
              <a:ext cx="324000" cy="32400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Freeform 64"/>
            <p:cNvSpPr/>
            <p:nvPr/>
          </p:nvSpPr>
          <p:spPr>
            <a:xfrm>
              <a:off x="8086680" y="4648320"/>
              <a:ext cx="217440" cy="685800"/>
            </a:xfrm>
            <a:prstGeom prst="pi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AutoShape 65"/>
            <p:cNvSpPr/>
            <p:nvPr/>
          </p:nvSpPr>
          <p:spPr>
            <a:xfrm rot="2700000">
              <a:off x="7889400" y="5663880"/>
              <a:ext cx="426960" cy="427320"/>
            </a:xfrm>
            <a:prstGeom prst="rtTriangle">
              <a:avLst/>
            </a:prstGeom>
            <a:solidFill>
              <a:srgbClr val="ffff00"/>
            </a:solidFill>
            <a:ln w="1260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78" name="Rectangle 67"/>
          <p:cNvSpPr/>
          <p:nvPr/>
        </p:nvSpPr>
        <p:spPr>
          <a:xfrm>
            <a:off x="762120" y="2819520"/>
            <a:ext cx="815328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C’est fini!</a:t>
            </a:r>
            <a:br>
              <a:rPr sz="5100"/>
            </a:br>
            <a:br>
              <a:rPr sz="5100"/>
            </a:br>
            <a:r>
              <a:rPr b="0" lang="fr-FR" sz="5100" spc="-1" strike="noStrike">
                <a:solidFill>
                  <a:srgbClr val="000000"/>
                </a:solidFill>
                <a:latin typeface="Comic Sans MS"/>
              </a:rPr>
              <a:t>Posez les stylos.</a:t>
            </a:r>
            <a:endParaRPr b="0" lang="en-US" sz="5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arrow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D604-ADEC-4410-A5A8-0F847C4020D1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9E8DB-D8FF-40C6-B215-BB39244B3605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560" y="1828800"/>
            <a:ext cx="8380440" cy="24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ff0000"/>
                </a:solidFill>
                <a:latin typeface="Comic Sans MS"/>
              </a:rPr>
              <a:t>La multiplication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C657-4BAB-4472-8EDB-07038D290D5E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A9FC-B2BF-478B-A872-85D8D44CE060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19047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ff0000"/>
                </a:solidFill>
                <a:latin typeface="Times New Roman"/>
              </a:rPr>
              <a:t>Pour chaque calcul,vous aurez un temps limité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457200" y="29718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b200"/>
                </a:solidFill>
                <a:latin typeface="Times New Roman"/>
              </a:rPr>
              <a:t>Ecrivez uniquement la réponse.</a:t>
            </a:r>
            <a:endParaRPr b="0" lang="en-US" sz="33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457200" y="42670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3300"/>
                </a:solidFill>
                <a:latin typeface="Times New Roman"/>
              </a:rPr>
              <a:t>Attention, c’est à vous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0000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998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998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24CA-0E97-475E-BBCF-ADCD41F2D15F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7649-C1E7-41DE-886D-23F89444311F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AutoShape 15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1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0"/>
              <p:cNvSpPr txBox="1"/>
              <p:nvPr/>
            </p:nvSpPr>
            <p:spPr>
              <a:xfrm>
                <a:off x="888840" y="1981080"/>
                <a:ext cx="7366320" cy="221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×</m:t>
                    </m:r>
                    <m:r>
                      <m:t xml:space="preserve">?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3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5FACB-4612-4D18-A53A-718B9D68C76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EFD6-274D-4817-8589-8CCFD64E95D5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1"/>
              <p:cNvSpPr txBox="1"/>
              <p:nvPr/>
            </p:nvSpPr>
            <p:spPr>
              <a:xfrm>
                <a:off x="228600" y="2209680"/>
                <a:ext cx="881208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×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1C14-4D14-4100-82A7-920F78FCA189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5094-39A0-475E-A425-2A42219FEF0B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17"/>
          <p:cNvSpPr/>
          <p:nvPr/>
        </p:nvSpPr>
        <p:spPr>
          <a:xfrm>
            <a:off x="304920" y="2209680"/>
            <a:ext cx="8610480" cy="1008360"/>
          </a:xfrm>
          <a:prstGeom prst="rect">
            <a:avLst/>
          </a:prstGeom>
          <a:solidFill>
            <a:srgbClr val="66ff33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Arial"/>
              </a:rPr>
              <a:t>Dans</a:t>
            </a: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 64 combien de fois 8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1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5A82-05A3-44D6-B902-45750E0EE8F0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B0CA-0FD7-485A-9360-314433C9E181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4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1"/>
              <p:cNvSpPr txBox="1"/>
              <p:nvPr/>
            </p:nvSpPr>
            <p:spPr>
              <a:xfrm>
                <a:off x="152280" y="2286000"/>
                <a:ext cx="8839440" cy="204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3</m:t>
                    </m:r>
                    <m:r>
                      <m:t xml:space="preserve">×</m:t>
                    </m:r>
                    <m:r>
                      <m:t xml:space="preserve">0,1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A9FF-5E89-4A4D-8A24-53F27EEF6B0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AAFC-D048-4437-86AC-8E1603B994BA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2"/>
              <p:cNvSpPr txBox="1"/>
              <p:nvPr/>
            </p:nvSpPr>
            <p:spPr>
              <a:xfrm>
                <a:off x="228600" y="2438280"/>
                <a:ext cx="876312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63</m:t>
                    </m:r>
                    <m:r>
                      <m:t xml:space="preserve">×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2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Espace réservé de la date 4"/>
          <p:cNvSpPr/>
          <p:nvPr/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348D-27F0-4CBB-A7D6-2AED428A93A2}" type="datetime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Espace réservé du numéro de diapositive 6"/>
          <p:cNvSpPr/>
          <p:nvPr/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34594-34B0-4F49-8B4C-0969FF5BEFE2}" type="slidenum"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AutoShape 10"/>
          <p:cNvSpPr/>
          <p:nvPr/>
        </p:nvSpPr>
        <p:spPr>
          <a:xfrm>
            <a:off x="2971800" y="304920"/>
            <a:ext cx="3124080" cy="1066680"/>
          </a:xfrm>
          <a:prstGeom prst="wedgeEllipseCallout">
            <a:avLst>
              <a:gd name="adj1" fmla="val 3402"/>
              <a:gd name="adj2" fmla="val 94939"/>
            </a:avLst>
          </a:prstGeom>
          <a:solidFill>
            <a:srgbClr val="ff9900"/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ff"/>
                </a:solidFill>
                <a:latin typeface="Arial"/>
              </a:rPr>
              <a:t>Calcul 6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19320" y="2438280"/>
            <a:ext cx="2895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228600" y="2362320"/>
            <a:ext cx="8458200" cy="2287440"/>
          </a:xfrm>
          <a:prstGeom prst="rect">
            <a:avLst/>
          </a:prstGeom>
          <a:solidFill>
            <a:srgbClr val="ff66cc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Arial"/>
              </a:rPr>
              <a:t>Avec 50 euros , combien peut-on acheter de livres à 8 euros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 advTm="2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ma</cp:lastModifiedBy>
  <dcterms:modified xsi:type="dcterms:W3CDTF">2011-05-08T08:52:59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3</vt:r8>
  </property>
</Properties>
</file>