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3038-CB9D-451A-982F-07948D3C3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6BC-8713-4E26-8E5F-B7835BEE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71F3-3642-4B24-BC76-6F977112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E46-9510-4AF6-9C28-0C5465AC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71C-DA8E-4956-98FD-6F929EC0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1DE2-0E45-47D7-924D-FC3E9FCBA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BF9-4547-40E1-B96A-61EFB0343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6DC9-BB66-4B9C-BC2E-E602D641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5F87-4FB3-4684-9492-151D3F70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5AFE-79B9-4A60-A9E0-4E5A0F2CA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FB46-A446-4BD3-BD76-57FEC0AE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04A-F9B5-4A33-8860-3128D924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7E47-29E7-4C06-844B-FDCE6DAC4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alcul mental</a:t>
            </a:r>
            <a:br>
              <a:rPr sz="6500"/>
            </a:br>
            <a:br>
              <a:rPr sz="65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3"/>
          <p:cNvSpPr/>
          <p:nvPr/>
        </p:nvSpPr>
        <p:spPr>
          <a:xfrm>
            <a:off x="3132000" y="170028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Opér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574560" y="2708280"/>
            <a:ext cx="82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Vous aurez 15 secondes pour résoudre chaque calcu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3276720" y="371628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Etes-vous prêts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ZoneTexte 6"/>
          <p:cNvSpPr/>
          <p:nvPr/>
        </p:nvSpPr>
        <p:spPr>
          <a:xfrm>
            <a:off x="3419640" y="4797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lors, allons-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0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7 x 6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7 000 – 50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1"/>
          <p:cNvSpPr/>
          <p:nvPr/>
        </p:nvSpPr>
        <p:spPr>
          <a:xfrm>
            <a:off x="1692360" y="24922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Correction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0000"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0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707920"/>
            <a:ext cx="68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5 x 10 =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oneTexte 3"/>
          <p:cNvSpPr/>
          <p:nvPr/>
        </p:nvSpPr>
        <p:spPr>
          <a:xfrm>
            <a:off x="5651640" y="263700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5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3640" y="270792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1 + 2 + 3 + 4 + 5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2"/>
          <p:cNvSpPr/>
          <p:nvPr/>
        </p:nvSpPr>
        <p:spPr>
          <a:xfrm>
            <a:off x="7164360" y="26370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1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8100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1 000 : 2 =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5651640" y="270828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50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543 + 25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ZoneTexte 2"/>
          <p:cNvSpPr/>
          <p:nvPr/>
        </p:nvSpPr>
        <p:spPr>
          <a:xfrm>
            <a:off x="5867280" y="2637000"/>
            <a:ext cx="19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56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2,5 x 5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2"/>
          <p:cNvSpPr/>
          <p:nvPr/>
        </p:nvSpPr>
        <p:spPr>
          <a:xfrm>
            <a:off x="5076720" y="2637000"/>
            <a:ext cx="33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12,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54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100 000 – 5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ZoneTexte 2"/>
          <p:cNvSpPr/>
          <p:nvPr/>
        </p:nvSpPr>
        <p:spPr>
          <a:xfrm>
            <a:off x="5940360" y="2708280"/>
            <a:ext cx="28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99 995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5 x 1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10 + 5 + 8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3"/>
          <p:cNvSpPr/>
          <p:nvPr/>
        </p:nvSpPr>
        <p:spPr>
          <a:xfrm>
            <a:off x="6012000" y="2708280"/>
            <a:ext cx="12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2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54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80 : 4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2"/>
          <p:cNvSpPr/>
          <p:nvPr/>
        </p:nvSpPr>
        <p:spPr>
          <a:xfrm>
            <a:off x="4788000" y="2637000"/>
            <a:ext cx="129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2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7 x 6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2"/>
          <p:cNvSpPr/>
          <p:nvPr/>
        </p:nvSpPr>
        <p:spPr>
          <a:xfrm>
            <a:off x="5076720" y="2708280"/>
            <a:ext cx="18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42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280" y="278100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7 000 – 500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oneTexte 2"/>
          <p:cNvSpPr/>
          <p:nvPr/>
        </p:nvSpPr>
        <p:spPr>
          <a:xfrm>
            <a:off x="6227640" y="2708280"/>
            <a:ext cx="26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b050"/>
                </a:solidFill>
                <a:latin typeface="Calibri"/>
              </a:rPr>
              <a:t>6 50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1"/>
          <p:cNvSpPr/>
          <p:nvPr/>
        </p:nvSpPr>
        <p:spPr>
          <a:xfrm>
            <a:off x="3635280" y="292428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alibri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1 + 2 + 3 + 4 + 5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1 000 : 2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543 + 25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2,5 x 5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100 000 – 5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10 + 5 + 8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80 : 4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5:28:19Z</dcterms:created>
  <dc:creator>Didier</dc:creator>
  <dc:description/>
  <dc:language>en-US</dc:language>
  <cp:lastModifiedBy>Toma</cp:lastModifiedBy>
  <dcterms:modified xsi:type="dcterms:W3CDTF">2011-03-22T22:53:05Z</dcterms:modified>
  <cp:revision>22</cp:revision>
  <dc:subject/>
  <dc:title>5 x 10 = ……</dc:title>
</cp:coreProperties>
</file>