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D98-15C1-4D1D-B1F5-98BB1D4E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AC2A-3DC4-45C5-8799-71CDB582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223-0FD1-4CFE-833E-36B751CF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4AEE-F6AC-426F-BE29-27F82767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13C-CF8E-4820-92E9-F987FFA2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75E3-D716-42CD-B5ED-A81B74A4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F1F-F54A-4C15-88A9-28C28AB3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8B02-A266-4D78-997F-F8C746C9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6C11-2054-4756-A346-937C2A7C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8FCE-E9A3-4D6C-8A9E-7FB2ABE6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FE52-B561-4603-90D8-5B7CEF8F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0038-FD39-4268-A922-8B6AA814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F499-3767-401C-A9E5-A760FF2308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20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3,5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+50+3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B) et (CF) est 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  <p:sp>
        <p:nvSpPr>
          <p:cNvPr id="69" name="ZoneTexte 5"/>
          <p:cNvSpPr/>
          <p:nvPr/>
        </p:nvSpPr>
        <p:spPr>
          <a:xfrm>
            <a:off x="10004400" y="3286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  <p:sndAc>
      <p:stSnd>
        <p:snd r:embed="rId2" name="chimes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05 0.04745 C -0.08351 0.05278 -0.09444 0.06065 -0.10538 0.06759 C -0.11215 0.07731 -0.10399 0.0669 -0.11285 0.07384 C -0.11667 0.07685 -0.11997 0.0824 -0.12344 0.08588 C -0.13038 0.09282 -0.13767 0.09699 -0.14323 0.10602 C -0.15747 0.1294 -0.17101 0.1537 -0.18559 0.17685 C -0.19149 0.18611 -0.19983 0.19328 -0.20677 0.20092 C -0.21493 0.20995 -0.2125 0.21319 -0.22344 0.21921 C -0.22726 0.22407 -0.23056 0.22708 -0.23559 0.2294 C -0.2408 0.23588 -0.24549 0.2412 -0.25226 0.24352 C -0.25747 0.25347 -0.26319 0.2537 -0.27049 0.25949 C -0.27934 0.26643 -0.28194 0.27176 -0.29167 0.27569 C -0.3 0.2868 -0.28889 0.27338 -0.29931 0.28171 C -0.31042 0.29074 -0.29306 0.28171 -0.30677 0.28796 C -0.30781 0.28935 -0.30868 0.29097 -0.3099 0.2919 C -0.31267 0.29375 -0.31892 0.29606 -0.31892 0.29629 C -0.32326 0.30162 -0.32986 0.30555 -0.33559 0.3081 C -0.34219 0.31643 -0.34965 0.31921 -0.35833 0.32222 C -0.37049 0.3375 -0.41111 0.33588 -0.42205 0.33634 C -0.48594 0.33912 -0.54878 0.34051 -0.61285 0.34051 E">
                                      <p:cBhvr>
                                        <p:cTn id="40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2" name="ZoneTexte 3"/>
          <p:cNvSpPr/>
          <p:nvPr/>
        </p:nvSpPr>
        <p:spPr>
          <a:xfrm>
            <a:off x="10150560" y="1714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D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86 0.0456 C -0.01129 0.08032 -0.01667 0.11227 -0.02292 0.1456 C -0.02483 0.15556 -0.02882 0.16482 -0.03073 0.17477 C -0.03299 0.18634 -0.03629 0.19676 -0.03855 0.2081 C -0.0415 0.22269 -0.0415 0.23241 -0.04636 0.2456 C -0.04827 0.2588 -0.05191 0.27269 -0.05573 0.28519 C -0.05747 0.29097 -0.0599 0.2963 -0.06198 0.30185 C -0.06303 0.30463 -0.06511 0.31019 -0.06511 0.31042 C -0.06684 0.32176 -0.07119 0.32685 -0.07448 0.33727 C -0.0783 0.34907 -0.07362 0.33773 -0.07761 0.35185 C -0.08056 0.3625 -0.08021 0.35764 -0.08386 0.36644 C -0.08976 0.38079 -0.0941 0.39583 -0.09948 0.41019 C -0.10469 0.42384 -0.11146 0.43588 -0.11667 0.44977 C -0.12119 0.46157 -0.13004 0.46829 -0.13542 0.47894 C -0.14184 0.4919 -0.15053 0.50232 -0.16198 0.50602 C -0.16806 0.51412 -0.17153 0.51181 -0.17761 0.51852 C -0.20747 0.55162 -0.25365 0.56551 -0.29167 0.5706 C -0.30903 0.57824 -0.325 0.57847 -0.34323 0.58102 C -0.35921 0.5831 -0.37414 0.58727 -0.39011 0.58935 C -0.40695 0.59676 -0.42553 0.59931 -0.44167 0.60995 E">
                                      <p:cBhvr>
                                        <p:cTn id="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AB) semble perpendiculaire à la dro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6" name="ZoneTexte 5"/>
          <p:cNvSpPr/>
          <p:nvPr/>
        </p:nvSpPr>
        <p:spPr>
          <a:xfrm>
            <a:off x="9595800" y="2571840"/>
            <a:ext cx="444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(CF) ou (CE) ou (EF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47 0.06134 C -0.03975 0.0838 -0.04166 0.11921 -0.04409 0.14468 C -0.046 0.16528 -0.05243 0.18472 -0.05503 0.20509 C -0.05642 0.21597 -0.05677 0.22986 -0.05972 0.24051 C -0.06163 0.24722 -0.071 0.2713 -0.07534 0.27801 C -0.07725 0.28102 -0.07986 0.2831 -0.08159 0.28634 C -0.08298 0.28889 -0.08315 0.29236 -0.08472 0.29468 C -0.08784 0.29954 -0.09253 0.30232 -0.09565 0.30718 C -0.11388 0.33495 -0.14097 0.36435 -0.16909 0.37176 C -0.18072 0.38195 -0.17482 0.37917 -0.18628 0.38218 C -0.20729 0.3963 -0.17604 0.37639 -0.20034 0.38843 C -0.20208 0.38935 -0.20329 0.39144 -0.20503 0.39259 C -0.21388 0.39861 -0.22343 0.40093 -0.23315 0.40301 C -0.2401 0.40903 -0.2592 0.41574 -0.26753 0.41759 C -0.27795 0.42454 -0.29027 0.42616 -0.3019 0.42801 C -0.35034 0.42685 -0.3842 0.425 -0.42847 0.42176 C -0.43732 0.42245 -0.44618 0.42269 -0.45503 0.42384 C -0.46562 0.42523 -0.47552 0.43287 -0.48628 0.43426 C -0.50017 0.43611 -0.52725 0.4375 -0.5394 0.43843 C -0.55034 0.44213 -0.56388 0.45232 -0.57534 0.45301 C -0.59826 0.4544 -0.62118 0.4544 -0.64409 0.45509 C -0.64982 0.45579 -0.65555 0.45579 -0.66128 0.45718 C -0.66458 0.45787 -0.67065 0.46134 -0.67065 0.46134 C -0.7059 0.45347 -0.68315 0.45741 -0.7394 0.45509 C -0.75347 0.45579 -0.76753 0.45556 -0.78159 0.45718 C -0.78489 0.45764 -0.78767 0.46134 -0.79097 0.46134 C -0.79201 0.46134 -0.79305 0.46134 -0.79409 0.46134 E">
                                      <p:cBhvr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DF) et (CE) sont sécantes en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  <p:sp>
        <p:nvSpPr>
          <p:cNvPr id="79" name="ZoneTexte 4"/>
          <p:cNvSpPr/>
          <p:nvPr/>
        </p:nvSpPr>
        <p:spPr>
          <a:xfrm>
            <a:off x="9790200" y="2928960"/>
            <a:ext cx="45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5533 C 0.0007 0.08727 -0.00173 0.13218 -0.01545 0.16019 C -0.01718 0.17338 -0.01979 0.17385 -0.02152 0.18449 C -0.02465 0.20394 -0.03055 0.23079 -0.04288 0.24306 C -0.04618 0.24954 -0.05 0.25487 -0.05347 0.26135 C -0.05764 0.26922 -0.06198 0.28172 -0.06857 0.2875 C -0.07291 0.29144 -0.07899 0.29399 -0.08368 0.29769 C -0.09635 0.30787 -0.08836 0.3044 -0.09878 0.30764 C -0.10902 0.31459 -0.12083 0.31945 -0.13211 0.32199 C -0.13923 0.32801 -0.14305 0.32824 -0.15191 0.32987 C -0.15781 0.33311 -0.16423 0.33473 -0.17014 0.33797 C -0.17604 0.34121 -0.1809 0.34676 -0.1868 0.35024 C -0.20312 0.35949 -0.22413 0.36505 -0.24132 0.36644 C -0.26406 0.36829 -0.30955 0.37037 -0.30955 0.37037 C -0.32708 0.37431 -0.34305 0.38195 -0.36093 0.38449 C -0.41718 0.40371 -0.51666 0.38866 -0.58368 0.39051 C -0.60052 0.3963 -0.61475 0.40394 -0.63211 0.40672 C -0.63732 0.40903 -0.6368 0.40672 -0.6368 0.41088 E">
                                      <p:cBhvr>
                                        <p:cTn id="5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8 + 0,2 =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2"/>
          <p:cNvSpPr/>
          <p:nvPr/>
        </p:nvSpPr>
        <p:spPr>
          <a:xfrm>
            <a:off x="10576800" y="321480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205 0.00973 L -0.42205 0.00973 E">
                                      <p:cBhvr>
                                        <p:cTn id="64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7 est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oneTexte 2"/>
          <p:cNvSpPr/>
          <p:nvPr/>
        </p:nvSpPr>
        <p:spPr>
          <a:xfrm>
            <a:off x="9864720" y="2857680"/>
            <a:ext cx="10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76 0.00926 C -0.07083 0.01204 -0.07743 0.0125 -0.08351 0.01551 C -0.09861 0.02315 -0.11372 0.03079 -0.12882 0.03843 C -0.1349 0.04144 -0.14149 0.04329 -0.14757 0.04676 C -0.15712 0.05232 -0.16597 0.05857 -0.17569 0.06343 C -0.18038 0.06574 -0.18559 0.0662 -0.18976 0.06968 C -0.19844 0.07662 -0.2033 0.07986 -0.21319 0.08218 C -0.22639 0.09097 -0.24097 0.09769 -0.25382 0.10718 C -0.27014 0.11921 -0.28854 0.13357 -0.30694 0.13843 C -0.31337 0.14699 -0.32014 0.14907 -0.32882 0.15301 C -0.34219 0.15903 -0.35399 0.16667 -0.36788 0.16968 C -0.3816 0.18195 -0.40313 0.18403 -0.41944 0.18634 C -0.43142 0.18796 -0.45538 0.19051 -0.45538 0.19051 C -0.5033 0.18982 -0.55122 0.18843 -0.59913 0.18843 E">
                                      <p:cBhvr>
                                        <p:cTn id="70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6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ZoneTexte 2"/>
          <p:cNvSpPr/>
          <p:nvPr/>
        </p:nvSpPr>
        <p:spPr>
          <a:xfrm>
            <a:off x="9862560" y="278604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94 0.00463 C -0.05469 0.01227 -0.0276 0.000240000000000001 -0.0434 0.01065 C -0.04531 0.01181 -0.04757 0.01158 -0.04948 0.0125 C -0.05451 0.01482 -0.05955 0.01783 -0.06458 0.02061 C -0.06632 0.02153 -0.06753 0.02362 -0.06927 0.02477 C -0.07795 0.03079 -0.08732 0.03473 -0.09653 0.03889 C -0.1059 0.04329 -0.09948 0.04167 -0.10712 0.04699 C -0.11059 0.04931 -0.1158 0.05 -0.11927 0.05093 C -0.15069 0.07223 -0.18455 0.09167 -0.21927 0.09954 C -0.24253 0.11459 -0.27812 0.11806 -0.30399 0.12362 C -0.3066 0.12408 -0.3092 0.12477 -0.31163 0.1257 C -0.31771 0.12801 -0.32361 0.13241 -0.32986 0.1338 C -0.34566 0.1375 -0.3592 0.14375 -0.37535 0.14584 C -0.39149 0.15024 -0.40746 0.15695 -0.42378 0.16019 C -0.4441 0.16852 -0.46493 0.16829 -0.48594 0.17223 C -0.52673 0.17963 -0.56875 0.18033 -0.61007 0.18033 E">
                                      <p:cBhvr>
                                        <p:cTn id="76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AB) et (CF) est ?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6972480" cy="4057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x 1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ZoneTexte 3"/>
          <p:cNvSpPr/>
          <p:nvPr/>
        </p:nvSpPr>
        <p:spPr>
          <a:xfrm>
            <a:off x="9869040" y="257184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937 0.02223 C -0.12118 -0.00162 -0.17292 0.01574 -0.17656 0.01598 C -0.20677 0.02107 -0.23698 0.02547 -0.26719 0.03056 C -0.28212 0.03727 -0.27083 0.03287 -0.30469 0.03473 C -0.34427 0.03704 -0.38229 0.03889 -0.42187 0.03889 E">
                                      <p:cBhvr>
                                        <p:cTn id="82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62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3,5 x 1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3"/>
          <p:cNvSpPr/>
          <p:nvPr/>
        </p:nvSpPr>
        <p:spPr>
          <a:xfrm>
            <a:off x="10154880" y="285768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23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01 0.01181 C -0.10069 0.00301 -0.11163 -0.000229999999999999 -0.12014 -0.00903 C -0.12239 -0.01134 -0.12396 -0.01505 -0.12639 -0.01736 C -0.12778 -0.01875 -0.12969 -0.01829 -0.13108 -0.01944 C -0.14722 -0.03148 -0.13455 -0.02523 -0.14514 -0.02986 C -0.1493 -0.03819 -0.15208 -0.03796 -0.1592 -0.04028 C -0.17187 -0.05301 -0.18177 -0.05509 -0.1967 -0.06111 C -0.20677 -0.06505 -0.21597 -0.07083 -0.22639 -0.07361 C -0.23906 -0.0838 -0.22917 -0.07778 -0.24514 -0.08194 C -0.25625 -0.08495 -0.26667 -0.09143 -0.27795 -0.09444 C -0.29566 -0.10625 -0.31424 -0.1037 -0.3342 -0.10486 C -0.35139 -0.10417 -0.36858 -0.10393 -0.38576 -0.10278 C -0.39358 -0.10231 -0.4 -0.09583 -0.40608 -0.09028 C -0.40764 -0.08889 -0.41076 -0.08611 -0.41076 -0.08588 C -0.41302 -0.07708 -0.41736 -0.06968 -0.42014 -0.06111 C -0.42153 -0.05718 -0.42135 -0.05231 -0.42326 -0.04861 C -0.42708 -0.04097 -0.42951 -0.0331 -0.42951 -0.02361 E">
                                      <p:cBhvr>
                                        <p:cTn id="8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+50+3000 =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oneTexte 3"/>
          <p:cNvSpPr/>
          <p:nvPr/>
        </p:nvSpPr>
        <p:spPr>
          <a:xfrm>
            <a:off x="9726480" y="2571840"/>
            <a:ext cx="187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305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77 -0.07013 C -0.00174 -0.08819 0.00468 -0.06064 -0.00035 -0.10347 C -0.00261 -0.12268 -0.00243 -0.10972 -0.0066 -0.12222 C -0.00799 -0.12615 -0.00747 -0.13171 -0.00973 -0.13472 C -0.01511 -0.14189 -0.02014 -0.14814 -0.02379 -0.15763 C -0.0283 -0.1699 -0.03351 -0.17685 -0.04098 -0.1868 C -0.0566 -0.20763 -0.04375 -0.20046 -0.05504 -0.20555 C -0.0566 -0.20763 -0.05799 -0.21018 -0.05973 -0.2118 C -0.06164 -0.21365 -0.06424 -0.21388 -0.06598 -0.21597 C -0.06737 -0.21759 -0.06771 -0.2206 -0.0691 -0.22222 C -0.07379 -0.22731 -0.08386 -0.22986 -0.08941 -0.23263 C -0.09896 -0.23726 -0.10747 -0.24074 -0.11754 -0.24305 C -0.14306 -0.24236 -0.16858 -0.24236 -0.1941 -0.24097 C -0.20903 -0.24027 -0.2224 -0.22476 -0.23629 -0.22013 C -0.25278 -0.20532 -0.26997 -0.19328 -0.28941 -0.1868 C -0.30139 -0.17615 -0.31493 -0.16828 -0.32691 -0.15763 C -0.33004 -0.15486 -0.33316 -0.15208 -0.33629 -0.1493 C -0.33785 -0.14791 -0.34098 -0.14513 -0.34098 -0.1449 C -0.35 -0.12731 -0.33802 -0.14838 -0.34879 -0.1368 C -0.35018 -0.13518 -0.35052 -0.1324 -0.35191 -0.13055 C -0.3533 -0.1287 -0.35504 -0.12777 -0.3566 -0.12638 C -0.36493 -0.10972 -0.354 -0.12986 -0.36441 -0.11597 C -0.37483 -0.10208 -0.35973 -0.11666 -0.37223 -0.10555 C -0.37535 -0.09328 -0.37136 -0.10463 -0.37848 -0.09513 C -0.38177 -0.09074 -0.38455 -0.08009 -0.38785 -0.0743 C -0.39289 -0.05393 -0.38473 -0.08263 -0.3941 -0.06388 C -0.39532 -0.06157 -0.39462 -0.0581 -0.39566 -0.05555 C -0.39827 -0.04838 -0.404 -0.03611 -0.40816 -0.03055 C -0.41042 -0.02129 -0.41389 -0.0125 -0.4191 -0.00555 C -0.42188 0.00533 -0.42605 0.01945 -0.43316 0.0257 C -0.43421 0.03264 -0.43525 0.03959 -0.43629 0.04653 C -0.43664 0.04862 -0.43785 0.05278 -0.43785 0.05301 E">
                                      <p:cBhvr>
                                        <p:cTn id="94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La droite (AB) semble parallèle à la droite …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La droite (AB) semble perpendiculaire à la droite 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DF) et (CE) sont sécantes en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928800" y="642960"/>
            <a:ext cx="7524720" cy="43797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5"/>
          <p:cNvSpPr/>
          <p:nvPr/>
        </p:nvSpPr>
        <p:spPr>
          <a:xfrm>
            <a:off x="1928880" y="2571840"/>
            <a:ext cx="514332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Arial"/>
              </a:rPr>
              <a:t>0,8 + 0,2 = 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168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br>
              <a:rPr sz="44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e double de 7 est …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7</a:t>
            </a:r>
            <a:br>
              <a:rPr sz="3600"/>
            </a:b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La moitié de 16 est ….</a:t>
            </a:r>
            <a:br>
              <a:rPr sz="3600"/>
            </a:b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x 1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4-18T06:44:43Z</dcterms:modified>
  <cp:revision>55</cp:revision>
  <dc:subject/>
  <dc:title>5 x 10 = ……</dc:title>
</cp:coreProperties>
</file>