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26D1-2F11-4FC5-A4CC-9AF8BFE0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BC19-A56A-49CF-903B-95B6DA4C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F30D-43C3-405D-90B6-CA085C996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4BBD-D0D1-43E0-8A9D-78590DED8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4DA7-CFA0-45F3-A267-0F391D40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94F5-30E2-497D-A01D-5416FEF2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2B0-D14E-49AB-9401-3CC9C657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3B4-01FA-4080-857E-7E6A4A6D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622-C7A3-49CE-901F-9972B329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9036-5229-40FC-A270-5245CBFF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A46-6920-4BEA-AA86-88B9DE4B7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0E39-32D5-4CEB-B57B-EFB1694E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4DE2-859A-42C9-A111-855B88899C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20 secondes pour donner une ré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,6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30+6000=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DF) et (CF) est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4"/>
          <p:cNvSpPr/>
          <p:nvPr/>
        </p:nvSpPr>
        <p:spPr>
          <a:xfrm>
            <a:off x="10218960" y="135720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56 0.06018 C -0.02604 0.25023 -0.02153 0.44051 -0.12153 0.53078 C -0.22153 0.62106 -0.54844 0.59328 -0.63056 0.60162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3"/>
          <p:cNvSpPr/>
          <p:nvPr/>
        </p:nvSpPr>
        <p:spPr>
          <a:xfrm>
            <a:off x="9364680" y="58579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03 0.00833 L -0.53681 0.00833 E">
                                      <p:cBhvr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CE) semble perpendiculaire à la droite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4"/>
          <p:cNvSpPr/>
          <p:nvPr/>
        </p:nvSpPr>
        <p:spPr>
          <a:xfrm>
            <a:off x="9952920" y="300024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AE) ou (AB) ou (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47 0.04884 C 0.01441 0.1625 0.03246 0.27639 -0.09566 0.33843 C -0.22379 0.40046 -0.64809 0.40787 -0.77222 0.42176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AB) et (CF) sont sécantes en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3"/>
          <p:cNvSpPr/>
          <p:nvPr/>
        </p:nvSpPr>
        <p:spPr>
          <a:xfrm>
            <a:off x="9861480" y="28576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229 0.00509 C -0.15989 -0.1007 -0.28732 -0.20648 -0.39288 -0.13843 C -0.49843 -0.07037 -0.61892 0.3169 -0.66562 0.41319 E">
                                      <p:cBhvr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5"/>
          <p:cNvSpPr/>
          <p:nvPr/>
        </p:nvSpPr>
        <p:spPr>
          <a:xfrm>
            <a:off x="714240" y="2643120"/>
            <a:ext cx="51436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7 + 0,3 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2"/>
          <p:cNvSpPr/>
          <p:nvPr/>
        </p:nvSpPr>
        <p:spPr>
          <a:xfrm>
            <a:off x="5646960" y="314316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271440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12 est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3"/>
          <p:cNvSpPr/>
          <p:nvPr/>
        </p:nvSpPr>
        <p:spPr>
          <a:xfrm>
            <a:off x="7292880" y="2928960"/>
            <a:ext cx="11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400" y="2642760"/>
            <a:ext cx="700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4 est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7361640" y="25718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DF) et (CF) est ?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2707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2 x 1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9439560" y="285768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12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10602 C -0.09809 -0.24422 -0.20347 -0.38218 -0.27569 -0.37246 C -0.34774 -0.3625 -0.40034 -0.1088 -0.42517 -0.04607 E">
                                      <p:cBhvr>
                                        <p:cTn id="85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707920"/>
            <a:ext cx="567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,6 x 1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"/>
          <p:cNvSpPr/>
          <p:nvPr/>
        </p:nvSpPr>
        <p:spPr>
          <a:xfrm>
            <a:off x="5794200" y="2714760"/>
            <a:ext cx="170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36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600" y="2928600"/>
            <a:ext cx="514332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30+6000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3"/>
          <p:cNvSpPr/>
          <p:nvPr/>
        </p:nvSpPr>
        <p:spPr>
          <a:xfrm>
            <a:off x="5724720" y="2928960"/>
            <a:ext cx="221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Arial"/>
              </a:rPr>
              <a:t>603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l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 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CE) semble perpendiculaire à la droite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AB) et (CF) sont sécantes en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5"/>
          <p:cNvSpPr/>
          <p:nvPr/>
        </p:nvSpPr>
        <p:spPr>
          <a:xfrm>
            <a:off x="1928880" y="2571840"/>
            <a:ext cx="5143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7 + 0,3 = 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12 est …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4 est …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2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5-03T09:27:18Z</dcterms:modified>
  <cp:revision>62</cp:revision>
  <dc:subject/>
  <dc:title>5 x 10 = ……</dc:title>
</cp:coreProperties>
</file>