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423-D1A8-40A3-A388-DCA5F0F4FD8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C8E-D0F2-4665-AE1D-66D4B8EFF84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83B53-2258-48A1-AA73-CD4276E020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5709-CEC4-471E-A065-B1DA2D1657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7E1DA-720B-4284-86CC-AD86CEE406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9FC0-CEFB-480F-9721-2089834825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6B8-2CF2-46F5-97E8-30964FDEC5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890C-B525-482B-B842-9D668BC55A4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56E7-B1E8-46FD-B5A4-4AADC38D72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DDDC-6CDB-4CE7-B28B-DBC91407D5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8511-6018-4818-9F92-D69A98075D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5A39-04A4-48EA-800E-C3E453D774A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1375-0C0A-4FA7-A3DE-EAD8CB84DC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C5A8-65B4-4A02-91A9-1B310D2DD2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457E-E49B-4DB0-B74F-F907AB883D7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3E88-F66D-4FFC-9395-E67CF834032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B7FFF-1F3E-43CA-B8BC-85E8A204DE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E6C1-19AD-4AA0-873D-A849748F2B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FD3B-C9A4-45D6-9073-0175A30916D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E170-7245-4426-8ED1-1E9B6DE757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FF0E-6BD6-4C8A-B988-9CF21F672D2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FB59-D733-4001-8E50-EB42A076AC4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9CE5-F2DC-42D4-9D28-D3C14AAE94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022E-6D70-400A-B2F0-A14ABEECC8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F63E-CED0-48F7-83B5-F2BCC948A2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1C1-CB4D-429D-94DB-585EA0E22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84B-4789-4764-B499-3C4C9943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498-C77E-4397-AB1D-E23B8282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8AF-33F7-4E84-8B7B-4C89EDB90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E77A-34EF-434D-BB0B-6471501E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6D16-10DA-4DC2-9DFC-020AD2C7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A991-D3DB-4B4B-B9F4-FBF4594F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E13B5-9A92-44C7-A61A-7FD90F375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7314-FDEC-4FB9-B5E6-B3B587EC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B1B8-F101-4F6F-9805-6107252C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554E-500B-4AFC-A7F5-3A727830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153B-11BA-44D4-8D22-DD746DBD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4605-06C4-4667-8765-61C844D5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FFFD6-969C-4E3A-BBC7-D8DA4231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DF10-A1D2-4E2B-97AB-2135D2C6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66D0F-F361-4D7D-9787-F0C4A839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4229-D339-4CC5-B7D9-B9CEF2DD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0540-778D-4588-85DD-05A4E140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982B-C288-4B7D-9CED-B7149347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E5C-3DB2-4575-88F4-41866990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20F3-7AA0-4578-A979-0E44AEA1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660-B5FE-4F90-951A-A2859F60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CE3-5D93-4966-AF96-B144FC44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233E-D309-45A2-B9FB-048F641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64AB-333B-4B2F-BDF5-CE3EB98F41F8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DEFC-1A98-4836-A33B-466D94A83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040" y="-84240"/>
            <a:ext cx="2432520" cy="2253960"/>
            <a:chOff x="7169040" y="-84240"/>
            <a:chExt cx="2432520" cy="22539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040" y="-84240"/>
              <a:ext cx="2432520" cy="2253960"/>
              <a:chOff x="7169040" y="-84240"/>
              <a:chExt cx="2432520" cy="22539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040" y="-84240"/>
                <a:ext cx="2432520" cy="2253960"/>
                <a:chOff x="7169040" y="-84240"/>
                <a:chExt cx="2432520" cy="22539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4040" y="520920"/>
                  <a:ext cx="4298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21280" y="282600"/>
                  <a:ext cx="8074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240" y="-23760"/>
                  <a:ext cx="12121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9680" y="1422000"/>
                  <a:ext cx="2700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584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5160"/>
                  <a:ext cx="2890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4200" y="214560"/>
                  <a:ext cx="28584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FAD3-EE05-4848-8F75-B67DF57A9E89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3F4C8-D681-4029-93A5-28C7B24294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ECA3-BEF0-4892-B8AC-36CFB4E0D79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FFD99-4146-415C-9043-7BBEC7FDDB3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9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5A54-A769-4EFB-8EAB-462EF211ACB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32C-A686-4BFE-9263-9C0829A6415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304920" y="25909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5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20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C05C-9F0E-45F2-A08B-27AECF988C9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6500-37B0-453B-B0B2-92C883F4349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228600" y="3581280"/>
            <a:ext cx="8077320" cy="193716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Compléter: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A et C sont des sommets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20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65C1-EE98-4182-91CC-CA91C0CFF83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8869-09DE-4004-98AE-9CED72DB6F1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52280" y="4343400"/>
            <a:ext cx="861084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[AC] est une …………………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2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04E6-13E9-41EE-ACE1-BADD841D830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870F-D06B-4328-91D8-25278C26CAC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990720" y="2666880"/>
            <a:ext cx="701028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2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7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5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2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3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0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41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8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9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6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7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3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4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5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6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7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3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4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1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A958-9B04-4C6E-81C7-C183E787DC4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7D2D-6418-457A-992C-38AE008627D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2971800" y="45720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0"/>
              <p:cNvSpPr txBox="1"/>
              <p:nvPr/>
            </p:nvSpPr>
            <p:spPr>
              <a:xfrm>
                <a:off x="609480" y="2251080"/>
                <a:ext cx="5486400" cy="17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9 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6" name="ZoneTexte 5"/>
          <p:cNvSpPr/>
          <p:nvPr/>
        </p:nvSpPr>
        <p:spPr>
          <a:xfrm>
            <a:off x="6532200" y="236232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32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27FC-E818-45AB-A64A-662333CC8E1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D77BD-0254-4DE3-88A9-F428B4C899C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11"/>
              <p:cNvSpPr txBox="1"/>
              <p:nvPr/>
            </p:nvSpPr>
            <p:spPr>
              <a:xfrm>
                <a:off x="666720" y="2333520"/>
                <a:ext cx="551340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75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ZoneTexte 5"/>
          <p:cNvSpPr/>
          <p:nvPr/>
        </p:nvSpPr>
        <p:spPr>
          <a:xfrm>
            <a:off x="6406920" y="25146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29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ACA5-C269-4DE9-8794-55C57BE35A9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BF1C-4E7C-4207-BC1E-6A6DC1F4B13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7"/>
          <p:cNvSpPr/>
          <p:nvPr/>
        </p:nvSpPr>
        <p:spPr>
          <a:xfrm>
            <a:off x="152280" y="2590920"/>
            <a:ext cx="861084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3000 à 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ZoneTexte 6"/>
          <p:cNvSpPr/>
          <p:nvPr/>
        </p:nvSpPr>
        <p:spPr>
          <a:xfrm>
            <a:off x="9578520" y="297180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3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1 0.00486 C -0.18524 0.19514 -0.27621 0.38565 -0.37639 0.40903 C -0.47656 0.43241 -0.58594 0.28866 -0.69514 0.14514 E">
                                      <p:cBhvr>
                                        <p:cTn id="82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76FA-FD1D-475A-A9C4-7D806E3CA08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FA92-8566-45FB-BD70-CE2C0DC392B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1" name="Object 11"/>
              <p:cNvSpPr txBox="1"/>
              <p:nvPr/>
            </p:nvSpPr>
            <p:spPr>
              <a:xfrm>
                <a:off x="304920" y="2286000"/>
                <a:ext cx="5486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4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2" name="ZoneTexte 5"/>
          <p:cNvSpPr/>
          <p:nvPr/>
        </p:nvSpPr>
        <p:spPr>
          <a:xfrm>
            <a:off x="935172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5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18 -0.00324 L -0.35885 -0.00324 E">
                                      <p:cBhvr>
                                        <p:cTn id="8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34AA-5601-4064-B213-1D3A541AC90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759F-87F8-4473-AB00-AC9817A0097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12"/>
              <p:cNvSpPr txBox="1"/>
              <p:nvPr/>
            </p:nvSpPr>
            <p:spPr>
              <a:xfrm>
                <a:off x="380880" y="2286000"/>
                <a:ext cx="73915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 - 25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7" name="ZoneTexte 5"/>
          <p:cNvSpPr/>
          <p:nvPr/>
        </p:nvSpPr>
        <p:spPr>
          <a:xfrm>
            <a:off x="3352680" y="4648320"/>
            <a:ext cx="26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75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3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FA2D-C224-4A5A-97D0-CB08BE53ACC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08E0-14D5-4098-A12B-BB00EC4394D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20968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‘addition, la soustraction,les quadrilatè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DFA2-BC22-43F9-873E-FFBAD69C10A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B4952-B6FF-4651-868E-491975E997D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380880" y="2666880"/>
            <a:ext cx="632484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20 – 11 =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ZoneTexte 6"/>
          <p:cNvSpPr/>
          <p:nvPr/>
        </p:nvSpPr>
        <p:spPr>
          <a:xfrm>
            <a:off x="9455040" y="27432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20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-0.00324 L -0.36719 -0.00324 E">
                                      <p:cBhvr>
                                        <p:cTn id="105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4CFE-0713-4C85-92E1-5FC3028350F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FC6F-CD39-400A-95FB-D56A57DDF40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319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5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ZoneTexte 8"/>
          <p:cNvSpPr/>
          <p:nvPr/>
        </p:nvSpPr>
        <p:spPr>
          <a:xfrm>
            <a:off x="9349920" y="213372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20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55556E-006 C -0.06858 0.22638 -0.13698 0.453 -0.22084 0.4736 C -0.30469 0.49421 -0.44011 0.16504 -0.50313 0.1236 C -0.56615 0.08217 -0.58264 0.15347 -0.59896 0.22499 E">
                                      <p:cBhvr>
                                        <p:cTn id="111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7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32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1F234-7C38-4435-A2BE-A180AD67DE2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D22C-DE0F-4FBC-B1D7-87BB4847CA2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304920" y="380988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A et C sont des sommets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ZoneTexte 5"/>
          <p:cNvSpPr/>
          <p:nvPr/>
        </p:nvSpPr>
        <p:spPr>
          <a:xfrm>
            <a:off x="2885760" y="4724280"/>
            <a:ext cx="259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opposés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2" name="camera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7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324240" cy="2835360"/>
          </a:xfrm>
          <a:prstGeom prst="rect">
            <a:avLst/>
          </a:prstGeom>
          <a:ln w="0">
            <a:noFill/>
          </a:ln>
        </p:spPr>
      </p:pic>
      <p:sp>
        <p:nvSpPr>
          <p:cNvPr id="32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E27C-82A3-4222-B96B-AC4256F5A28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96662-A155-4B57-A3B6-65D6F202243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304920" y="40384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Arial"/>
              </a:rPr>
              <a:t>[AC] est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ZoneTexte 6"/>
          <p:cNvSpPr/>
          <p:nvPr/>
        </p:nvSpPr>
        <p:spPr>
          <a:xfrm>
            <a:off x="2864160" y="5181480"/>
            <a:ext cx="434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e diagona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2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664D-F142-4A0C-B9DF-DD43B5A12E3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5D95-407B-4F64-9DA9-676DB0BF327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Text Box 13"/>
          <p:cNvSpPr/>
          <p:nvPr/>
        </p:nvSpPr>
        <p:spPr>
          <a:xfrm>
            <a:off x="228600" y="198108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2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ZoneTexte 6"/>
          <p:cNvSpPr/>
          <p:nvPr/>
        </p:nvSpPr>
        <p:spPr>
          <a:xfrm>
            <a:off x="835560" y="3733920"/>
            <a:ext cx="3974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Quadrilatère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quelconqu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5257800" y="4572000"/>
            <a:ext cx="2514600" cy="1328760"/>
          </a:xfrm>
          <a:prstGeom prst="rect">
            <a:avLst/>
          </a:prstGeom>
          <a:ln w="0">
            <a:noFill/>
          </a:ln>
        </p:spPr>
      </p:pic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53E6-FC0D-4FF9-AF55-21F4D9A78FC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8EDA-E807-41BD-91D3-A6A1D455754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 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557-0B51-4A2C-9B75-D0A72D1DD6E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F122-7CCB-406B-AE08-0484789C7DA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1368360" y="2170080"/>
                <a:ext cx="640728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3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9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5C24-DDE8-4797-944B-133486DAA29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0C4F-2FD6-4F45-A67B-58EAD7C24F9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609480" y="2333520"/>
                <a:ext cx="784872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75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? 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4231-6678-4C45-9798-28BFAA8B867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EFED-7BDF-46AD-97DC-9DF4F05B1C3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00100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3000 à 2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3851A-1AD6-485D-941E-06503AB6F8D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85A9-82CC-4D80-A718-9942C677777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533520" y="2286000"/>
                <a:ext cx="80769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6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4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ECC3-E72A-4632-BBFF-9C99B1F5A89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CAC1-8DD4-4C4F-864B-208395F615D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57200" y="2438280"/>
                <a:ext cx="82072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0 - 25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0891-37E3-4040-B917-242177BBFC3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72C8-EBAA-45CB-9B19-F9BC9EA39C1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90720" y="2590920"/>
            <a:ext cx="693396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220 – 11 = 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homas</cp:lastModifiedBy>
  <dcterms:modified xsi:type="dcterms:W3CDTF">2011-06-14T02:30:22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