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1B5D-3DE7-4315-99BA-E4D42225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11A4-A2DA-4648-BE74-7A925CE3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57C1-C659-4C45-B07E-33A88C2A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C594-5DB8-4A9A-AC6F-2AE0CC578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D336-86CA-46F1-8303-9D46EECD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BA09-A6A8-45DF-BE52-7E7B89D84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CCAC-E6D6-49C3-B0D9-6B89FF75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9D36-8396-4760-8BD9-9E0F96C85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8B6A-5F71-466F-A9E6-89E8C45D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FFE1-3089-4A27-A9BD-6AF26174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CD91-1F94-4858-A183-F4418A72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2E3F-EACD-49C3-958A-5EBE6998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be1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688C-D792-4CA4-9298-33D09571B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632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4400" spc="-1" strike="noStrike">
                <a:solidFill>
                  <a:srgbClr val="ff0000"/>
                </a:solidFill>
                <a:latin typeface="Calibri"/>
              </a:rPr>
              <a:t>Activité mentale</a:t>
            </a:r>
            <a:br>
              <a:rPr sz="6500"/>
            </a:br>
            <a:br>
              <a:rPr sz="65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3"/>
          <p:cNvSpPr/>
          <p:nvPr/>
        </p:nvSpPr>
        <p:spPr>
          <a:xfrm>
            <a:off x="642960" y="1571760"/>
            <a:ext cx="77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Premiers éléments de géométr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Calibri"/>
              </a:rPr>
              <a:t>Et calculs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4"/>
          <p:cNvSpPr/>
          <p:nvPr/>
        </p:nvSpPr>
        <p:spPr>
          <a:xfrm>
            <a:off x="574560" y="2708280"/>
            <a:ext cx="82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Vous aurez 15 secondes pour résoudre chaque calcu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5"/>
          <p:cNvSpPr/>
          <p:nvPr/>
        </p:nvSpPr>
        <p:spPr>
          <a:xfrm>
            <a:off x="3276720" y="3716280"/>
            <a:ext cx="331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Etes-vous prêt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6"/>
          <p:cNvSpPr/>
          <p:nvPr/>
        </p:nvSpPr>
        <p:spPr>
          <a:xfrm>
            <a:off x="3214800" y="478620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Alors, allons-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500 + 600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7 x 9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oneTexte 1"/>
          <p:cNvSpPr/>
          <p:nvPr/>
        </p:nvSpPr>
        <p:spPr>
          <a:xfrm>
            <a:off x="1692360" y="2492280"/>
            <a:ext cx="62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fr-FR" sz="9600" spc="-1" strike="noStrike">
                <a:solidFill>
                  <a:srgbClr val="ff0000"/>
                </a:solidFill>
                <a:latin typeface="Calibri"/>
              </a:rPr>
              <a:t>Correction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0">
    <p:pull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e point C appartient-il à la droite (AB) ?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N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1500120" y="500040"/>
            <a:ext cx="6404040" cy="3429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071720" y="285840"/>
            <a:ext cx="6643440" cy="3890880"/>
          </a:xfrm>
          <a:prstGeom prst="rect">
            <a:avLst/>
          </a:prstGeom>
          <a:ln w="0">
            <a:noFill/>
          </a:ln>
        </p:spPr>
      </p:pic>
      <p:sp>
        <p:nvSpPr>
          <p:cNvPr id="68" name="ZoneTexte 3"/>
          <p:cNvSpPr/>
          <p:nvPr/>
        </p:nvSpPr>
        <p:spPr>
          <a:xfrm>
            <a:off x="1449000" y="4714920"/>
            <a:ext cx="59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e point D appartient-il à [AB]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 appartient-il à [ED) ?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u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285920" y="642960"/>
            <a:ext cx="6643800" cy="38908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oneTexte 3"/>
          <p:cNvSpPr/>
          <p:nvPr/>
        </p:nvSpPr>
        <p:spPr>
          <a:xfrm>
            <a:off x="-285840" y="510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Deux droites parallèles : (AB) et (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357200" y="357120"/>
            <a:ext cx="5643720" cy="43909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ZoneTexte 3"/>
          <p:cNvSpPr/>
          <p:nvPr/>
        </p:nvSpPr>
        <p:spPr>
          <a:xfrm>
            <a:off x="0" y="50720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Deux droites perpendiculaires: (AB) et (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u (CE) et (DE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1571760" y="357120"/>
            <a:ext cx="5429160" cy="43909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15 – 9 = 106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25 + 14 = 39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e point C appartient-il à la droite (AB)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1500120" y="500040"/>
            <a:ext cx="6404040" cy="3429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37+6 = 4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500 + 600 = 210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7 x 9 = 63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ZoneTexte 1"/>
          <p:cNvSpPr/>
          <p:nvPr/>
        </p:nvSpPr>
        <p:spPr>
          <a:xfrm>
            <a:off x="3635280" y="292428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ff0000"/>
                </a:solidFill>
                <a:latin typeface="Calibri"/>
              </a:rPr>
              <a:t>Fin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0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</a:t>
            </a:r>
            <a:br>
              <a:rPr sz="7200"/>
            </a:br>
            <a:br>
              <a:rPr sz="7200"/>
            </a:br>
            <a:br>
              <a:rPr sz="7200"/>
            </a:br>
            <a:r>
              <a:rPr b="0" lang="fr-FR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071720" y="285840"/>
            <a:ext cx="6643440" cy="3890880"/>
          </a:xfrm>
          <a:prstGeom prst="rect">
            <a:avLst/>
          </a:prstGeom>
          <a:ln w="0">
            <a:noFill/>
          </a:ln>
        </p:spPr>
      </p:pic>
      <p:sp>
        <p:nvSpPr>
          <p:cNvPr id="50" name="ZoneTexte 3"/>
          <p:cNvSpPr/>
          <p:nvPr/>
        </p:nvSpPr>
        <p:spPr>
          <a:xfrm>
            <a:off x="1449000" y="4714920"/>
            <a:ext cx="59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e point D appartient-il à [AB]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ipe dir="r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 appartient-il à [ED) 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285920" y="642960"/>
            <a:ext cx="6643800" cy="38908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ZoneTexte 3"/>
          <p:cNvSpPr/>
          <p:nvPr/>
        </p:nvSpPr>
        <p:spPr>
          <a:xfrm>
            <a:off x="-285840" y="510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Nomme deux droites parallèl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357200" y="357120"/>
            <a:ext cx="5643720" cy="43909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oneTexte 3"/>
          <p:cNvSpPr/>
          <p:nvPr/>
        </p:nvSpPr>
        <p:spPr>
          <a:xfrm>
            <a:off x="0" y="5072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iter deux droites perpendiculai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1571760" y="357120"/>
            <a:ext cx="5429160" cy="43909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wipe dir="r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115 – 9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25 + 14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ff0000"/>
                </a:solidFill>
                <a:latin typeface="Calibri"/>
              </a:rPr>
              <a:t>37+6 = ……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15000">
    <p:wipe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5:28:19Z</dcterms:created>
  <dc:creator>Didier</dc:creator>
  <dc:description/>
  <dc:language>en-US</dc:language>
  <cp:lastModifiedBy>Toma</cp:lastModifiedBy>
  <dcterms:modified xsi:type="dcterms:W3CDTF">2011-03-29T19:18:29Z</dcterms:modified>
  <cp:revision>34</cp:revision>
  <dc:subject/>
  <dc:title>5 x 10 = ……</dc:title>
</cp:coreProperties>
</file>