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51E7-B7E3-4EA8-A3EE-95B84087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41D3-BED8-4765-A1CD-95E76187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3C4B-A822-46C3-96D9-57CDBE82C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E2E9-719B-4618-831F-A9CFAF29C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AB68-AB5B-457F-B919-267FF2BA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07EC-E6D5-4696-9238-B2F435ABE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56EA-953C-46DD-9502-E5EB5E10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00C9-53C5-4656-9772-23E1DACB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5F29-CE25-48DF-99F3-1D65DADD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A76D-4E3B-4C25-988A-E8DA17D1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8CF9-C80F-48DF-80DD-F25C8589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14C4-8369-450D-9DF1-03EC9831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AC79-FD5D-449E-8F18-55C89EDE3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Activité mentale</a:t>
            </a:r>
            <a:br>
              <a:rPr sz="6500"/>
            </a:br>
            <a:br>
              <a:rPr sz="65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oneTexte 3"/>
          <p:cNvSpPr/>
          <p:nvPr/>
        </p:nvSpPr>
        <p:spPr>
          <a:xfrm>
            <a:off x="642960" y="1571760"/>
            <a:ext cx="77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Premiers éléments de géomét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Et calculs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4"/>
          <p:cNvSpPr/>
          <p:nvPr/>
        </p:nvSpPr>
        <p:spPr>
          <a:xfrm>
            <a:off x="574560" y="27082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Vous aurez 15 secondes pour donner une répons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5"/>
          <p:cNvSpPr/>
          <p:nvPr/>
        </p:nvSpPr>
        <p:spPr>
          <a:xfrm>
            <a:off x="3276720" y="3716280"/>
            <a:ext cx="33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Etes-vous prêt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6"/>
          <p:cNvSpPr/>
          <p:nvPr/>
        </p:nvSpPr>
        <p:spPr>
          <a:xfrm>
            <a:off x="3214800" y="478620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Alors, allons-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7,04 x 100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ZoneTexte 2"/>
          <p:cNvSpPr/>
          <p:nvPr/>
        </p:nvSpPr>
        <p:spPr>
          <a:xfrm>
            <a:off x="3071880" y="185724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9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1680" y="178560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Question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42960" y="29286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8+600+2000=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20000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ZoneTexte 1"/>
          <p:cNvSpPr/>
          <p:nvPr/>
        </p:nvSpPr>
        <p:spPr>
          <a:xfrm>
            <a:off x="1692360" y="249228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fr-FR" sz="9600" spc="-1" strike="noStrike">
                <a:solidFill>
                  <a:srgbClr val="ff0000"/>
                </a:solidFill>
                <a:latin typeface="Calibri"/>
              </a:rPr>
              <a:t>Correction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ZoneTexte 3"/>
          <p:cNvSpPr/>
          <p:nvPr/>
        </p:nvSpPr>
        <p:spPr>
          <a:xfrm>
            <a:off x="428760" y="471492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1. H est le point d’intersection des dro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OB) et (SX) ?</a:t>
            </a:r>
            <a:r>
              <a:rPr b="0" lang="fr-FR" sz="3600" spc="-1" strike="noStrike">
                <a:solidFill>
                  <a:srgbClr val="92d050"/>
                </a:solidFill>
                <a:latin typeface="Calibri"/>
              </a:rPr>
              <a:t> </a:t>
            </a: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1214280" y="571680"/>
            <a:ext cx="6858000" cy="3824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2. (OX) et (BS) semblent parallèles? </a:t>
            </a: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214280" y="571680"/>
            <a:ext cx="6858000" cy="3824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ZoneTexte 3"/>
          <p:cNvSpPr/>
          <p:nvPr/>
        </p:nvSpPr>
        <p:spPr>
          <a:xfrm>
            <a:off x="571680" y="5103720"/>
            <a:ext cx="8286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3. (OX) et (XS) semblent perpendicul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O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1214280" y="571680"/>
            <a:ext cx="6858000" cy="3824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ZoneTexte 3"/>
          <p:cNvSpPr/>
          <p:nvPr/>
        </p:nvSpPr>
        <p:spPr>
          <a:xfrm>
            <a:off x="642960" y="50720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4. Les droites (OB) et (XO) sont deux       droites sécantes?</a:t>
            </a: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 O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1214280" y="571680"/>
            <a:ext cx="6858000" cy="3824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"/>
          <p:cNvPicPr/>
          <p:nvPr/>
        </p:nvPicPr>
        <p:blipFill>
          <a:blip r:embed="rId1"/>
          <a:stretch/>
        </p:blipFill>
        <p:spPr>
          <a:xfrm>
            <a:off x="1071720" y="500040"/>
            <a:ext cx="6858000" cy="3824280"/>
          </a:xfrm>
          <a:prstGeom prst="rect">
            <a:avLst/>
          </a:prstGeom>
          <a:ln w="0">
            <a:noFill/>
          </a:ln>
        </p:spPr>
      </p:pic>
      <p:sp>
        <p:nvSpPr>
          <p:cNvPr id="80" name="ZoneTexte 3"/>
          <p:cNvSpPr/>
          <p:nvPr/>
        </p:nvSpPr>
        <p:spPr>
          <a:xfrm>
            <a:off x="824400" y="5072040"/>
            <a:ext cx="782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Les points O, B, et S sont aligné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b050"/>
                </a:solidFill>
                <a:latin typeface="Arial"/>
              </a:rPr>
              <a:t>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1071720" y="500040"/>
            <a:ext cx="6858000" cy="4000680"/>
          </a:xfrm>
          <a:prstGeom prst="rect">
            <a:avLst/>
          </a:prstGeom>
          <a:ln w="0">
            <a:noFill/>
          </a:ln>
        </p:spPr>
      </p:pic>
      <p:sp>
        <p:nvSpPr>
          <p:cNvPr id="83" name="ZoneTexte 4"/>
          <p:cNvSpPr/>
          <p:nvPr/>
        </p:nvSpPr>
        <p:spPr>
          <a:xfrm>
            <a:off x="857160" y="471492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Le point 0 est-il le milieu du segment [HB] ? </a:t>
            </a:r>
            <a:r>
              <a:rPr b="0" lang="fr-FR" sz="3600" spc="-1" strike="noStrike">
                <a:solidFill>
                  <a:srgbClr val="00b050"/>
                </a:solidFill>
                <a:latin typeface="Arial"/>
              </a:rPr>
              <a:t>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7. Deux droites sécantes sont-elles forcément perpendiculaires ?</a:t>
            </a:r>
            <a:br>
              <a:rPr sz="3600"/>
            </a:b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N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oneTexte 3"/>
          <p:cNvSpPr/>
          <p:nvPr/>
        </p:nvSpPr>
        <p:spPr>
          <a:xfrm>
            <a:off x="428760" y="471492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1. H est le point d’intersection des droi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OB) et (SX)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1214280" y="571680"/>
            <a:ext cx="6858000" cy="3824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50 - 60 = </a:t>
            </a:r>
            <a:r>
              <a:rPr b="0" lang="fr-FR" sz="7200" spc="-1" strike="noStrike">
                <a:solidFill>
                  <a:srgbClr val="00b050"/>
                </a:solidFill>
                <a:latin typeface="Calibri"/>
              </a:rPr>
              <a:t>9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oneTexte 2"/>
          <p:cNvSpPr/>
          <p:nvPr/>
        </p:nvSpPr>
        <p:spPr>
          <a:xfrm>
            <a:off x="3012120" y="192888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7,04 x 100 = </a:t>
            </a:r>
            <a:r>
              <a:rPr b="0" lang="fr-FR" sz="7200" spc="-1" strike="noStrike">
                <a:solidFill>
                  <a:srgbClr val="00b050"/>
                </a:solidFill>
                <a:latin typeface="Calibri"/>
              </a:rPr>
              <a:t>704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ZoneTexte 2"/>
          <p:cNvSpPr/>
          <p:nvPr/>
        </p:nvSpPr>
        <p:spPr>
          <a:xfrm>
            <a:off x="3071880" y="1857240"/>
            <a:ext cx="32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9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680" y="1785600"/>
            <a:ext cx="7572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Question 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42960" y="29286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8+600+2000=</a:t>
            </a:r>
            <a:r>
              <a:rPr b="0" lang="fr-FR" sz="7200" spc="-1" strike="noStrike">
                <a:solidFill>
                  <a:srgbClr val="00b050"/>
                </a:solidFill>
                <a:latin typeface="Calibri"/>
              </a:rPr>
              <a:t>2 608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20000"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oneTexte 1"/>
          <p:cNvSpPr/>
          <p:nvPr/>
        </p:nvSpPr>
        <p:spPr>
          <a:xfrm>
            <a:off x="3635280" y="2924280"/>
            <a:ext cx="41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Calibri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2. (OX) et (BS) semblent parallèles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1214280" y="571680"/>
            <a:ext cx="6858000" cy="3824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ZoneTexte 3"/>
          <p:cNvSpPr/>
          <p:nvPr/>
        </p:nvSpPr>
        <p:spPr>
          <a:xfrm>
            <a:off x="571680" y="510372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3. (OX) et (XS) semblent perpendicul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1214280" y="571680"/>
            <a:ext cx="6858000" cy="3824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ZoneTexte 3"/>
          <p:cNvSpPr/>
          <p:nvPr/>
        </p:nvSpPr>
        <p:spPr>
          <a:xfrm>
            <a:off x="642960" y="50720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4. Les droites (OB) et (XO) sont deux       droites sécant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214280" y="571680"/>
            <a:ext cx="6858000" cy="3824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071720" y="500040"/>
            <a:ext cx="6858000" cy="3824280"/>
          </a:xfrm>
          <a:prstGeom prst="rect">
            <a:avLst/>
          </a:prstGeom>
          <a:ln w="0">
            <a:noFill/>
          </a:ln>
        </p:spPr>
      </p:pic>
      <p:sp>
        <p:nvSpPr>
          <p:cNvPr id="57" name="ZoneTexte 3"/>
          <p:cNvSpPr/>
          <p:nvPr/>
        </p:nvSpPr>
        <p:spPr>
          <a:xfrm>
            <a:off x="824400" y="5000760"/>
            <a:ext cx="782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5. Les points O, B, et S sont aligné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1071720" y="500040"/>
            <a:ext cx="6858000" cy="4000680"/>
          </a:xfrm>
          <a:prstGeom prst="rect">
            <a:avLst/>
          </a:prstGeom>
          <a:ln w="0">
            <a:noFill/>
          </a:ln>
        </p:spPr>
      </p:pic>
      <p:sp>
        <p:nvSpPr>
          <p:cNvPr id="60" name="ZoneTexte 4"/>
          <p:cNvSpPr/>
          <p:nvPr/>
        </p:nvSpPr>
        <p:spPr>
          <a:xfrm>
            <a:off x="857160" y="471492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6. Le point 0 est-il le milieu du segment [HB]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264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7. Deux droites sécantes sont-elles forcément perpendiculaires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50 - 60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ZoneTexte 2"/>
          <p:cNvSpPr/>
          <p:nvPr/>
        </p:nvSpPr>
        <p:spPr>
          <a:xfrm>
            <a:off x="3012120" y="1928880"/>
            <a:ext cx="23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5:28:19Z</dcterms:created>
  <dc:creator>Didier</dc:creator>
  <dc:description/>
  <dc:language>en-US</dc:language>
  <cp:lastModifiedBy>Toma</cp:lastModifiedBy>
  <dcterms:modified xsi:type="dcterms:W3CDTF">2011-04-09T23:18:16Z</dcterms:modified>
  <cp:revision>44</cp:revision>
  <dc:subject/>
  <dc:title>5 x 10 = ……</dc:title>
</cp:coreProperties>
</file>