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96E1-A26C-4CDE-B416-A7C69F6BEF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5DAC-3876-4740-B17D-919BB46063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A86-1416-4951-9525-34E7DB2F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31B-BEB7-43A6-B9BE-8D3945F0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833-D05D-4E57-8DFA-33A6C217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7D2-A243-40DF-872D-946A7B3E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DC0-2055-4A5F-AE37-CAA2B93C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34E-3651-429D-BE09-7D65211C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F70-ED41-4D1F-AE9B-A5B6874F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AF4E-4EA7-49E6-928A-54A8682E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993-0DFB-4DA5-A3C4-DEA92E86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9D9-C4B7-4967-ACF7-4CE5344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46F-E175-4837-BE2C-7C6A6A33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A20-AC2E-4077-A517-5BBB487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9071-C8EC-420C-8753-11D0CC0E09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900080" y="1714680"/>
                <a:ext cx="18450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86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11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6:23Z</dcterms:modified>
  <cp:revision>42</cp:revision>
  <dc:subject/>
  <dc:title>8 x 4</dc:title>
</cp:coreProperties>
</file>