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C6F9-89BD-485D-9885-CE92D5A3F5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568F-269D-45A2-B15B-282AB16AFC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9AD3-B38C-4E89-B14E-10CEF8B6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B2D-ED00-4CAD-AA0F-C1265762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6E0-8F36-48FD-935B-B7E14850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1F3-498E-4B20-AC7F-25F8253A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AF3F-5030-4C05-8F72-960A83BF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191-F6E8-4451-A679-28354F70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61D-83C8-4942-804F-9AD32201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E8D-37DC-4295-86D5-BA193E23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CC6-5BCA-47C6-8DDD-B5EC7DC8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659-82FA-4644-A919-8DA77D01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BB1E-80AF-44FA-95F8-B812951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06B-43AC-404C-9044-DC1FD06D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2964-F276-4116-8ED5-9DC3E776BD0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sans parenthè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25 × 4 – 45 – 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1:45Z</dcterms:modified>
  <cp:revision>30</cp:revision>
  <dc:subject/>
  <dc:title>8 x 4</dc:title>
</cp:coreProperties>
</file>