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8759-3AAE-4665-8F07-C816219341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AAAB-1BAE-4487-8A84-928E1BCDD7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9A4-0975-4DB4-88A2-E6726F2D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C5F2-5303-44AD-B971-C6D5A6B7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DBDB-4650-433D-9149-F466730F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2BBE-8E79-43A4-929D-32431F46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EFF-4FEE-45DA-AD2F-EB411B4B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744D-3406-4692-8E3A-BB9C6D49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090-0223-4442-88AE-8D30BE5D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B273-12C9-4DE3-9971-E520BFD8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DDCD-CF3E-4245-8C9C-0173F33D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9F9-155C-4701-B53C-996D9A17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620D-FF5B-4C1E-80A3-01A29D2E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6A31-3B65-480C-83FC-4F48BF6F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0FE8-29CF-4711-B828-589AD6B2C71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Respecter la priorité de l’addition sur la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7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5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5 ×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7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2 + 7 ×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 + 9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0 + 5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0 + 5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 + 9 ×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2 + 7 ×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6:59:01Z</dcterms:modified>
  <cp:revision>23</cp:revision>
  <dc:subject/>
  <dc:title>8 x 4</dc:title>
</cp:coreProperties>
</file>