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64CCB-CC65-48EF-89FA-D9E3A9A4E09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42B7A-B5E1-403C-B68E-31B5F357895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2DFF-4473-4F35-8D4F-B40B42C42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0348-BD87-47F6-9132-D67338EC0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BDA4-4E38-42A5-9BAE-C421510D0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096F-6F2E-4D55-9492-515303341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A7DF-B0E1-44DC-A194-74333DE00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AAA4-B12D-4EEA-91DA-168FC4E8B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6E2E-E865-4E95-828E-766E840DC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0B69-7716-4519-9219-5BA3CACE8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4961-8ADE-4DCA-AAD0-0A96E36A6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CC6C-1054-4731-B15D-8FFF876DA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0C83-2C03-4E53-B171-882E62811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E47D-B03C-4206-AAF1-B4545D629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B0968-5F36-493F-8D03-67B107973A69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Géométri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85716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Parallélogrammes particuli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0040" y="2142720"/>
            <a:ext cx="814392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Si un quadrilatère a ses diagonales perpendiculaires et de même longueur, alors c’est un carré.</a:t>
            </a:r>
            <a:br>
              <a:rPr sz="3800"/>
            </a:br>
            <a:br>
              <a:rPr sz="3800"/>
            </a:b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VRAI ?    FAUX 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0040" y="2214360"/>
            <a:ext cx="814392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Un parallélogramme dont les diagonales sont de même longueur est un rectangle.</a:t>
            </a:r>
            <a:br>
              <a:rPr sz="3800"/>
            </a:br>
            <a:br>
              <a:rPr sz="3800"/>
            </a:b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VRAI ?    FAUX 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3429000" y="17146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2500200" y="364320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Posez les sty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0040" y="1999800"/>
            <a:ext cx="814392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Un losange a ses diagonales de même longueurs.</a:t>
            </a:r>
            <a:br>
              <a:rPr sz="3800"/>
            </a:br>
            <a:br>
              <a:rPr sz="3800"/>
            </a:b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VRAI ?    FAUX 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0040" y="2142720"/>
            <a:ext cx="814392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Si un quadrilatère a ses diagonales perpendiculaires et de même longueur, alors c’est un carré.</a:t>
            </a:r>
            <a:br>
              <a:rPr sz="3800"/>
            </a:br>
            <a:br>
              <a:rPr sz="3800"/>
            </a:b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VRAI ?    FAUX 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0040" y="2142720"/>
            <a:ext cx="814392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Si un parallélogramme a ses diagonales perpendiculaires, alors c’est un rectangle.</a:t>
            </a:r>
            <a:br>
              <a:rPr sz="3800"/>
            </a:br>
            <a:br>
              <a:rPr sz="3800"/>
            </a:b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VRAI ?    FAUX 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0040" y="1999800"/>
            <a:ext cx="814392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Un losange a ses diagonales de même longueurs.</a:t>
            </a:r>
            <a:br>
              <a:rPr sz="3800"/>
            </a:br>
            <a:br>
              <a:rPr sz="3800"/>
            </a:b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VRAI ?    FAUX 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0040" y="2214360"/>
            <a:ext cx="814392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Un parallélogramme ayant deux côtés consécutifs de même longueur est un losange.</a:t>
            </a:r>
            <a:br>
              <a:rPr sz="3800"/>
            </a:br>
            <a:br>
              <a:rPr sz="3800"/>
            </a:b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VRAI ?    FAUX 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0040" y="2142720"/>
            <a:ext cx="814392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Si un parallélogramme a ses diagonales perpendiculaires, alors c’est un rectangle.</a:t>
            </a:r>
            <a:br>
              <a:rPr sz="3800"/>
            </a:br>
            <a:br>
              <a:rPr sz="3800"/>
            </a:b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VRAI ?    FAUX 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0040" y="2214360"/>
            <a:ext cx="814392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Un parallélogramme dont les diagonales sont de même longueur est un rectangle.</a:t>
            </a:r>
            <a:br>
              <a:rPr sz="3800"/>
            </a:br>
            <a:br>
              <a:rPr sz="3800"/>
            </a:b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VRAI ?    FAUX 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0040" y="2214360"/>
            <a:ext cx="814392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Un parallélogramme ayant deux côtés consécutifs de même longueur est un losange.</a:t>
            </a:r>
            <a:br>
              <a:rPr sz="3800"/>
            </a:br>
            <a:br>
              <a:rPr sz="3800"/>
            </a:b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VRAI ?    FAUX 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9-04-12T09:10:46Z</dcterms:modified>
  <cp:revision>39</cp:revision>
  <dc:subject/>
  <dc:title>8 x 4</dc:title>
</cp:coreProperties>
</file>