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4839-06F3-4192-BA99-0A6EC53812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8416-65B2-41F1-BBCE-1FD007CF9F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D49F-455E-42F6-943C-E4E2A3D63A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92BC-E610-4696-8447-B6F25D1E99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812-08F0-409B-9218-E0401FD866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DB53-23C8-416D-8BB4-4D360CC318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A622-B498-4056-B645-67EABC6F0E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B93-AC32-4F43-BA6A-4CFDE941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787-30B7-4DA6-9E0A-F5F9CDE5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A81-99CA-4021-93F4-B40CD280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B121-8E9C-4702-9ED6-95DED45D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CE5-7FDA-4977-B5F1-90AA73B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330-89F8-4DF7-B763-9F48B255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01D-3E44-4C07-956F-5F9683CA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379-64CE-4084-BC60-F93B44A4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B859-79C9-4C53-83B7-7E278A8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464-CBD6-4A1D-9F98-2E9BDB6C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1B4-70D9-44F4-9B72-736D2D7A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660-25C0-4B54-8C6E-1E1F653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fb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A646-AB5D-4EE2-9BE2-829E42CB8E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571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Arial"/>
              </a:rPr>
              <a:t>Révision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5880" y="342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1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priorités de calc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2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triangles et droites remarqu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Chapitre 3</a:t>
            </a: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 : fractions (simplifications comparais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3,8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à l’unité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813" t="15154" r="4813" b="37546"/>
          <a:stretch/>
        </p:blipFill>
        <p:spPr>
          <a:xfrm>
            <a:off x="428760" y="22860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9,6428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14200" y="1714680"/>
            <a:ext cx="8786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50104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14562" r="0" b="35912"/>
          <a:stretch/>
        </p:blipFill>
        <p:spPr>
          <a:xfrm>
            <a:off x="500040" y="2143080"/>
            <a:ext cx="3519360" cy="4143600"/>
          </a:xfrm>
          <a:prstGeom prst="rect">
            <a:avLst/>
          </a:prstGeom>
          <a:ln w="0">
            <a:noFill/>
          </a:ln>
        </p:spPr>
      </p:pic>
      <p:sp>
        <p:nvSpPr>
          <p:cNvPr id="99" name="ZoneTexte 6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840" y="2714400"/>
            <a:ext cx="8572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3 + 4 × 7 – 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,872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68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2 × (14 </a:t>
            </a:r>
            <a:r>
              <a:rPr b="1" lang="fr-FR" sz="7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 4 × 3)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8480"/>
            <a:ext cx="8286480" cy="13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3414" t="10628" r="7914" b="11414"/>
          <a:stretch/>
        </p:blipFill>
        <p:spPr>
          <a:xfrm>
            <a:off x="642960" y="3429000"/>
            <a:ext cx="5429160" cy="2297160"/>
          </a:xfrm>
          <a:prstGeom prst="rect">
            <a:avLst/>
          </a:prstGeom>
          <a:ln w="0">
            <a:noFill/>
          </a:ln>
        </p:spPr>
      </p:pic>
      <p:sp>
        <p:nvSpPr>
          <p:cNvPr id="115" name="ZoneTexte 7"/>
          <p:cNvSpPr/>
          <p:nvPr/>
        </p:nvSpPr>
        <p:spPr>
          <a:xfrm>
            <a:off x="6929280" y="3857760"/>
            <a:ext cx="171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5 × 6 – 3 ×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554364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17,138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14200" y="1714680"/>
            <a:ext cx="8715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cent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 produit de 20 par la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ifférence de 5 et 3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9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0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4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5199120" y="2428920"/>
                <a:ext cx="1958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8"/>
              <p:cNvSpPr txBox="1"/>
              <p:nvPr/>
            </p:nvSpPr>
            <p:spPr>
              <a:xfrm>
                <a:off x="5141880" y="2428920"/>
                <a:ext cx="20732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Pour tracer le cercle circonscrit à un triangle, il faut construire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l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1843200" y="2428920"/>
                <a:ext cx="195552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13240" y="2428920"/>
                <a:ext cx="17290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3,15 × 101 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6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01,5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318,15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’orthocentre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1785960" y="242892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5545080" y="2428920"/>
                <a:ext cx="126684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3 – 2 × 3 + 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56760" y="1357200"/>
            <a:ext cx="828684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rouver le symbole manquant 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&lt; ou 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900080" y="2428920"/>
                <a:ext cx="18399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8"/>
              <p:cNvSpPr txBox="1"/>
              <p:nvPr/>
            </p:nvSpPr>
            <p:spPr>
              <a:xfrm>
                <a:off x="5543640" y="2428920"/>
                <a:ext cx="12682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ZoneTexte 8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un triangle, le centre de gravité est le point d’intersection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tric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médian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des hauteur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557520" y="2357280"/>
                <a:ext cx="195588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5840" y="2492280"/>
            <a:ext cx="85723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</a:rPr>
              <a:t>12 + 9 – 5 ×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a somme de 3 et du produit </a:t>
            </a:r>
            <a:br>
              <a:rPr sz="3800"/>
            </a:b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e 2 par 5 vaut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ZoneTexte 7"/>
          <p:cNvSpPr/>
          <p:nvPr/>
        </p:nvSpPr>
        <p:spPr>
          <a:xfrm>
            <a:off x="857160" y="2857680"/>
            <a:ext cx="450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1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7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1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est égal à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7"/>
          <p:cNvSpPr/>
          <p:nvPr/>
        </p:nvSpPr>
        <p:spPr>
          <a:xfrm>
            <a:off x="857160" y="2857680"/>
            <a:ext cx="450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3,8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8,3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     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2508120" y="1000080"/>
                <a:ext cx="55404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1357200" y="4643280"/>
                <a:ext cx="8017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,3</m:t>
                        </m:r>
                      </m:num>
                      <m:den>
                        <m:r>
                          <m:t xml:space="preserve">0,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13,7 × 62,5 + 13,7 × 37,5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1428480"/>
            <a:ext cx="842976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57120" y="2857680"/>
            <a:ext cx="84297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21,32 × 18 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 21,32 × 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000000"/>
                </a:solidFill>
                <a:latin typeface="Arial"/>
              </a:rPr>
              <a:t>3 + 7 ×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149976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Les trois segments tracés peuvent-ils être les trois côtés d’un triangl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3352" t="5873" r="3816" b="8872"/>
          <a:stretch/>
        </p:blipFill>
        <p:spPr>
          <a:xfrm>
            <a:off x="571680" y="3214800"/>
            <a:ext cx="5929200" cy="2071440"/>
          </a:xfrm>
          <a:prstGeom prst="rect">
            <a:avLst/>
          </a:prstGeom>
          <a:ln w="0">
            <a:noFill/>
          </a:ln>
        </p:spPr>
      </p:pic>
      <p:sp>
        <p:nvSpPr>
          <p:cNvPr id="62" name="ZoneTexte 8"/>
          <p:cNvSpPr/>
          <p:nvPr/>
        </p:nvSpPr>
        <p:spPr>
          <a:xfrm>
            <a:off x="5214960" y="464328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i ?  -  No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rouver le nombre manquant 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1785960" y="2428920"/>
                <a:ext cx="20700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5486400" y="2428920"/>
                <a:ext cx="138276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?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ZoneTexte 11"/>
          <p:cNvSpPr/>
          <p:nvPr/>
        </p:nvSpPr>
        <p:spPr>
          <a:xfrm>
            <a:off x="4143240" y="3714840"/>
            <a:ext cx="7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rial"/>
              </a:rPr>
              <a:t>35,7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1714680"/>
            <a:ext cx="8143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nner l’arrondi au dixième de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50920" y="333360"/>
            <a:ext cx="43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1428840"/>
            <a:ext cx="87868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Dans le triangle ABC, la droite (d) est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rcRect l="9778" t="20520" r="14512" b="25568"/>
          <a:stretch/>
        </p:blipFill>
        <p:spPr>
          <a:xfrm>
            <a:off x="500040" y="242892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4" name="ZoneTexte 7"/>
          <p:cNvSpPr/>
          <p:nvPr/>
        </p:nvSpPr>
        <p:spPr>
          <a:xfrm>
            <a:off x="4429080" y="2857680"/>
            <a:ext cx="4286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tric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médian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- une hauteu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588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er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la fractio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3500280" y="2357280"/>
                <a:ext cx="2071800" cy="360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33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Diapositiv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n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800" spc="-1" strike="noStrike">
                <a:solidFill>
                  <a:srgbClr val="000000"/>
                </a:solidFill>
                <a:latin typeface="Arial"/>
              </a:rPr>
              <a:t>50 – [3 × (4 + 5)]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57120" y="1428840"/>
            <a:ext cx="8429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Trouve le résultat de ce calcul 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06:10Z</dcterms:created>
  <dc:creator>bayle</dc:creator>
  <dc:description/>
  <dc:language>en-US</dc:language>
  <cp:lastModifiedBy>Raphaël</cp:lastModifiedBy>
  <dcterms:modified xsi:type="dcterms:W3CDTF">2009-12-07T20:05:47Z</dcterms:modified>
  <cp:revision>51</cp:revision>
  <dc:subject/>
  <dc:title>8 x 4</dc:title>
</cp:coreProperties>
</file>