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1ED4-36FE-420F-BF72-324BAEEEC1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B761-8C3F-4169-9772-1550EEE90D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33D-5342-466A-9DFB-70F0EB3D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56D-EC97-42A8-A608-2B1D485C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E3E-0A60-42F8-A605-E019C123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97C2-A9A7-43DC-951A-707F9FC53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9B4-FA02-40F9-9328-AA0044EC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BF8-CB03-418D-9B0E-99416179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CCF-6A47-4EF4-9402-C70CEF56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6BA-362A-4A22-9B20-CDD40DA0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9191-A204-428B-9C74-9CE0BCB1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EECB-D507-40DF-AE2A-D24759F7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C5E-D2A8-4DA9-8A6F-DE3E8FF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89E-C1B6-488E-BF31-8C1AA44B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74FF-4C1A-4A4A-9154-0CEE80D6220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oustrac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54:28Z</dcterms:modified>
  <cp:revision>45</cp:revision>
  <dc:subject/>
  <dc:title>8 x 4</dc:title>
</cp:coreProperties>
</file>