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37F9-561B-47CF-BFA9-5515417E28A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66E9-DE9E-4DDC-B6BD-B7658FD5E0C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6309-C54D-4C0D-90AA-E5C258747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D04B-5E0F-4574-8221-681D463A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ECFF-E630-48A0-A5AA-ED6633C4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C2CB-DE38-4F4F-B235-684AD0FC6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6B45-D937-4609-9425-844662E8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34E9-C223-4E63-9E13-CDEE664F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1608-902F-40F2-9218-7F3A9045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672C-C5C2-4E27-99D6-9387CBAB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3797-B433-4053-9727-2C45D201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B881-DAD4-478A-965C-DACEB75A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FF79-1CA0-49CA-BAF9-D7CB502B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F329-B683-4C9C-A290-E205B8F2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FB26-471C-4003-A789-DA10A2E79C4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500040" y="3143160"/>
            <a:ext cx="82868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Arrond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(à l’unité, au 10</a:t>
            </a:r>
            <a:r>
              <a:rPr b="0" lang="fr-FR" sz="4400" spc="-1" strike="noStrike" baseline="30000">
                <a:solidFill>
                  <a:srgbClr val="ff0000"/>
                </a:solidFill>
                <a:latin typeface="Arial"/>
              </a:rPr>
              <a:t>ème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, au 100</a:t>
            </a:r>
            <a:r>
              <a:rPr b="0" lang="fr-FR" sz="4400" spc="-1" strike="noStrike" baseline="30000">
                <a:solidFill>
                  <a:srgbClr val="ff0000"/>
                </a:solidFill>
                <a:latin typeface="Arial"/>
              </a:rPr>
              <a:t>ème</a:t>
            </a: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…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,87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25,7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5,7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4,872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3,8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à l’unité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27,138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285840" y="1714680"/>
            <a:ext cx="87152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9,6428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14200" y="1714680"/>
            <a:ext cx="87868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8,7329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214200" y="1714680"/>
            <a:ext cx="8715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7,138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14200" y="1714680"/>
            <a:ext cx="8715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2,82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à l’unité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7:05:36Z</dcterms:modified>
  <cp:revision>23</cp:revision>
  <dc:subject/>
  <dc:title>8 x 4</dc:title>
</cp:coreProperties>
</file>