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630E-1235-4949-ADA6-F754C5D9D0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11FD-35C9-4A40-9F6F-D04F0835E8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60D-9424-4604-B52C-A1ADB2F9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E68-68D7-4D98-9417-064430F0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7F71-A34E-4F25-AEE3-284B5B6B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EF9-003F-4238-BA5B-A0D4B99B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E90-F067-4C75-A0A4-1F88FDDB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6B0F-C7A2-46CA-9871-30224479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599-9E86-4D44-9F79-42EEF20D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DE2-DBE7-422F-B0E3-5307FA12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9C19-C44F-4E39-8380-88EE8CEC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552-72C8-4F14-B9C5-FBCBA0B2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36D-0D2E-4577-9F4B-D685F4CA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0FB-7AE2-4662-B0E9-A65FB66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6970-AD6F-4368-96F3-8EA65161C04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Calcul menta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85716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Révisions de 6è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3 :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72 :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29000" y="17146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500200" y="3643200"/>
            <a:ext cx="47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osez les sty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8 x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5,6 x 1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56 + 5 somme ou produit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4 x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7,7 : 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6 × 8 somme ou produit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f0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4,58 x 100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97d27"/>
                </a:solidFill>
                <a:latin typeface="Arial"/>
              </a:rPr>
              <a:t>V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63,2 : 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50920" y="333360"/>
            <a:ext cx="439236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RO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8-09-11T16:49:30Z</dcterms:modified>
  <cp:revision>14</cp:revision>
  <dc:subject/>
  <dc:title>8 x 4</dc:title>
</cp:coreProperties>
</file>