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5EDD-8AC3-4D85-B67E-79CF013A4D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41BC-FB4B-4F99-A3EF-2478CD6F25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842E-0350-4B79-8794-2281B8CF13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B7F5-F3BC-4212-B693-9EFBC87223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520B-E4E0-47E7-BE35-16672F6D42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F4C9-A2B9-4357-A048-E3EBE2DBB3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2F58-374A-40BE-9335-CA8FBC4876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54E2-5481-41E7-A99C-F0E0CFD1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0D8-7CCD-4F83-BA8B-500C0E51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FF0-AB3E-4371-89E4-4C727A12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6D31-0988-43AE-845A-924A88AB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DB7-8329-474D-AE89-0EB9072C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A9B1-45A8-4032-962F-5DC7E638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70F-366F-43C7-A16C-C7D51B90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D6F-8128-416F-95F2-C642D28D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59BF-D202-4FA7-942F-8C910E94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2C1F-170D-4574-A635-857800B4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2E4-52C9-4EBD-8649-AFF96D92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EC5-EA74-4979-97D6-E44EAB13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8F18-79DA-499C-8667-29A05A2BFD4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Révisi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5880" y="32148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en 51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1285920" y="2571840"/>
                <a:ext cx="64450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90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rcRect l="3498" t="5175" r="5370" b="6895"/>
          <a:stretch/>
        </p:blipFill>
        <p:spPr>
          <a:xfrm>
            <a:off x="928800" y="2214720"/>
            <a:ext cx="3643200" cy="400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5986440" y="2643120"/>
                <a:ext cx="245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103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1928880" y="1928880"/>
                <a:ext cx="1841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5532480" y="1928880"/>
                <a:ext cx="138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ZoneTexte 8"/>
          <p:cNvSpPr/>
          <p:nvPr/>
        </p:nvSpPr>
        <p:spPr>
          <a:xfrm>
            <a:off x="4172040" y="321480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7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rcRect l="5557" t="7051" r="6943" b="8307"/>
          <a:stretch/>
        </p:blipFill>
        <p:spPr>
          <a:xfrm>
            <a:off x="285840" y="3000240"/>
            <a:ext cx="5500440" cy="31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68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2 × (14 </a:t>
            </a: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 4 × 3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8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2313" t="20834" r="10097" b="10709"/>
          <a:stretch/>
        </p:blipFill>
        <p:spPr>
          <a:xfrm>
            <a:off x="357120" y="3000240"/>
            <a:ext cx="5478480" cy="26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8573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928800" y="2571840"/>
                <a:ext cx="713556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absciss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du point A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134" name="Text Box 150"/>
            <p:cNvSpPr/>
            <p:nvPr/>
          </p:nvSpPr>
          <p:spPr>
            <a:xfrm>
              <a:off x="6151680" y="2623320"/>
              <a:ext cx="4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151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cxnSp>
            <p:nvCxnSpPr>
              <p:cNvPr id="136" name="AutoShape 152"/>
              <p:cNvCxnSpPr/>
              <p:nvPr/>
            </p:nvCxnSpPr>
            <p:spPr>
              <a:xfrm>
                <a:off x="579348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cxnSp>
            <p:nvCxnSpPr>
              <p:cNvPr id="137" name="AutoShape 153"/>
              <p:cNvCxnSpPr/>
              <p:nvPr/>
            </p:nvCxnSpPr>
            <p:spPr>
              <a:xfrm flipH="1">
                <a:off x="5793120" y="3106800"/>
                <a:ext cx="356040" cy="356040"/>
              </a:xfrm>
              <a:prstGeom prst="straightConnector1">
                <a:avLst/>
              </a:prstGeom>
              <a:ln w="31680">
                <a:solidFill>
                  <a:srgbClr val="000000"/>
                </a:solidFill>
                <a:miter/>
              </a:ln>
            </p:spPr>
          </p:cxnSp>
          <p:grpSp>
            <p:nvGrpSpPr>
              <p:cNvPr id="138" name="Group 154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139" name="Text Box 155"/>
                <p:cNvSpPr/>
                <p:nvPr/>
              </p:nvSpPr>
              <p:spPr>
                <a:xfrm>
                  <a:off x="4171320" y="4017600"/>
                  <a:ext cx="360720" cy="36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Calibri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" name="Group 156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141" name="Text Box 157"/>
                  <p:cNvSpPr/>
                  <p:nvPr/>
                </p:nvSpPr>
                <p:spPr>
                  <a:xfrm>
                    <a:off x="3810960" y="546048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2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2" name="Group 158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143" name="Text Box 159"/>
                    <p:cNvSpPr/>
                    <p:nvPr/>
                  </p:nvSpPr>
                  <p:spPr>
                    <a:xfrm>
                      <a:off x="3810960" y="4739040"/>
                      <a:ext cx="721440" cy="360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44" name="Group 160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145" name="Text Box 161"/>
                      <p:cNvSpPr/>
                      <p:nvPr/>
                    </p:nvSpPr>
                    <p:spPr>
                      <a:xfrm>
                        <a:off x="3810960" y="2935800"/>
                        <a:ext cx="721440" cy="360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1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46" name="Group 162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147" name="Text Box 163"/>
                        <p:cNvSpPr/>
                        <p:nvPr/>
                      </p:nvSpPr>
                      <p:spPr>
                        <a:xfrm>
                          <a:off x="3810960" y="2214720"/>
                          <a:ext cx="721440" cy="360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2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8" name="Group 164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149" name="Text Box 165"/>
                          <p:cNvSpPr/>
                          <p:nvPr/>
                        </p:nvSpPr>
                        <p:spPr>
                          <a:xfrm>
                            <a:off x="7057080" y="4017600"/>
                            <a:ext cx="72144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4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50" name="Group 166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151" name="Text Box 167"/>
                            <p:cNvSpPr/>
                            <p:nvPr/>
                          </p:nvSpPr>
                          <p:spPr>
                            <a:xfrm>
                              <a:off x="6336000" y="4017600"/>
                              <a:ext cx="72108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3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52" name="Group 168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153" name="Text Box 169"/>
                              <p:cNvSpPr/>
                              <p:nvPr/>
                            </p:nvSpPr>
                            <p:spPr>
                              <a:xfrm>
                                <a:off x="561456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2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54" name="Group 170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155" name="Text Box 171"/>
                                <p:cNvSpPr/>
                                <p:nvPr/>
                              </p:nvSpPr>
                              <p:spPr>
                                <a:xfrm>
                                  <a:off x="4893120" y="4017600"/>
                                  <a:ext cx="72144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+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56" name="Group 172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157" name="Text Box 173"/>
                                  <p:cNvSpPr/>
                                  <p:nvPr/>
                                </p:nvSpPr>
                                <p:spPr>
                                  <a:xfrm>
                                    <a:off x="3450240" y="4017600"/>
                                    <a:ext cx="72108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1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58" name="Group 17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159" name="Text Box 17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272880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2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60" name="Group 176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161" name="Text Box 177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128592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4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162" name="Group 178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163" name="Text Box 179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2007360" y="4017600"/>
                                          <a:ext cx="721440" cy="360720"/>
                                        </a:xfrm>
                                        <a:prstGeom prst="rect">
                                          <a:avLst/>
                                        </a:prstGeom>
                                        <a:noFill/>
                                        <a:ln w="0">
                                          <a:noFill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0" rIns="0" tIns="0" bIns="0" anchor="t">
                                          <a:noAutofit/>
                                        </a:bodyPr>
                                        <a:p>
                                          <a:pPr algn="ctr">
                                            <a:lnSpc>
                                              <a:spcPct val="100000"/>
                                            </a:lnSpc>
                                            <a:spcAft>
                                              <a:spcPts val="1001"/>
                                            </a:spcAft>
                                            <a:tabLst>
                                              <a:tab algn="l" pos="0"/>
                                              <a:tab algn="l" pos="914400"/>
                                              <a:tab algn="l" pos="1828800"/>
                                              <a:tab algn="l" pos="2743200"/>
                                              <a:tab algn="l" pos="3657600"/>
                                              <a:tab algn="l" pos="4572000"/>
                                              <a:tab algn="l" pos="5486400"/>
                                              <a:tab algn="l" pos="6400800"/>
                                              <a:tab algn="l" pos="7315200"/>
                                              <a:tab algn="l" pos="8229600"/>
                                              <a:tab algn="l" pos="9144000"/>
                                              <a:tab algn="l" pos="10058400"/>
                                            </a:tabLst>
                                          </a:pPr>
                                          <a:r>
                                            <a:rPr b="0" lang="fr-FR" sz="24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Tahoma"/>
                                            </a:rPr>
                                            <a:t>(-3)</a:t>
                                          </a:r>
                                          <a:endParaRPr b="0" lang="en-US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164" name="Group 180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285920" y="2214720"/>
                                          <a:ext cx="6492960" cy="3606480"/>
                                          <a:chOff x="1285920" y="2214720"/>
                                          <a:chExt cx="6492960" cy="3606480"/>
                                        </a:xfrm>
                                      </p:grpSpPr>
                                      <p:sp>
                                        <p:nvSpPr>
                                          <p:cNvPr id="165" name="Line 18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01760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tail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6" name="Line 18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25750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7" name="Line 18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329652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8" name="Line 18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473904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169" name="Line 18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285920" y="5460480"/>
                                            <a:ext cx="6492960" cy="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-46800" bIns="-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grpSp>
                                        <p:nvGrpSpPr>
                                          <p:cNvPr id="170" name="Group 186"/>
                                          <p:cNvGrpSpPr/>
                                          <p:nvPr/>
                                        </p:nvGrpSpPr>
                                        <p:grpSpPr>
                                          <a:xfrm>
                                            <a:off x="1646640" y="2214720"/>
                                            <a:ext cx="5771160" cy="3606480"/>
                                            <a:chOff x="1646640" y="2214720"/>
                                            <a:chExt cx="5771160" cy="3606480"/>
                                          </a:xfrm>
                                        </p:grpSpPr>
                                        <p:sp>
                                          <p:nvSpPr>
                                            <p:cNvPr id="171" name="Line 187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45320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316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  <a:headEnd len="med" type="arrow" w="med"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2" name="Line 188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164664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3" name="Line 189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236808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4" name="Line 190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0891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5" name="Line 191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38106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6" name="Line 192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25312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7" name="Line 193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59745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8" name="Line 194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669636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  <p:sp>
                                          <p:nvSpPr>
                                            <p:cNvPr id="179" name="Line 195"/>
                                            <p:cNvSpPr/>
                                            <p:nvPr/>
                                          </p:nvSpPr>
                                          <p:spPr>
                                            <a:xfrm>
                                              <a:off x="7417800" y="2214720"/>
                                              <a:ext cx="0" cy="3606480"/>
                                            </a:xfrm>
                                            <a:prstGeom prst="line">
                                              <a:avLst/>
                                            </a:prstGeom>
                                            <a:ln w="19080">
                                              <a:solidFill>
                                                <a:srgbClr val="000000"/>
                                              </a:solidFill>
                                              <a:miter/>
                                            </a:ln>
                                          </p:spPr>
                                          <p:style>
                                            <a:lnRef idx="0"/>
                                            <a:fillRef idx="0"/>
                                            <a:effectRef idx="0"/>
                                            <a:fontRef idx="minor"/>
                                          </p:style>
                                          <p:txBody>
                                            <a:bodyPr lIns="90000" rIns="90000" tIns="46800" bIns="46800" anchor="t">
                                              <a:noAutofit/>
                                            </a:bodyPr>
                                            <a:p>
                                              <a:endParaRPr b="0" lang="en-US" sz="1800" spc="-1" strike="noStrike">
                                                <a:solidFill>
                                                  <a:srgbClr val="000000"/>
                                                </a:solidFill>
                                                <a:latin typeface="Arial"/>
                                              </a:endParaRPr>
                                            </a:p>
                                          </p:txBody>
                                        </p:sp>
                                      </p:grp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1357200" y="2571840"/>
                <a:ext cx="6443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Pour tracer le cercle circonscrit à un triangle, il faut construir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mparer les deux nombres suivants à l’aide de 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6"/>
              <p:cNvSpPr txBox="1"/>
              <p:nvPr/>
            </p:nvSpPr>
            <p:spPr>
              <a:xfrm>
                <a:off x="428760" y="3357720"/>
                <a:ext cx="3001680" cy="15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5929200" y="3357720"/>
                <a:ext cx="242892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,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ZoneTexte 8"/>
          <p:cNvSpPr/>
          <p:nvPr/>
        </p:nvSpPr>
        <p:spPr>
          <a:xfrm>
            <a:off x="4357800" y="3500280"/>
            <a:ext cx="71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’orthocentre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6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8"/>
              <p:cNvSpPr txBox="1"/>
              <p:nvPr/>
            </p:nvSpPr>
            <p:spPr>
              <a:xfrm>
                <a:off x="5543640" y="2428920"/>
                <a:ext cx="12682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e centre de gravité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6"/>
              <p:cNvSpPr txBox="1"/>
              <p:nvPr/>
            </p:nvSpPr>
            <p:spPr>
              <a:xfrm>
                <a:off x="1357200" y="2714760"/>
                <a:ext cx="6443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1428840"/>
            <a:ext cx="82864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 est l’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ordonné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du point B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30" name="Text Box 150"/>
            <p:cNvSpPr/>
            <p:nvPr/>
          </p:nvSpPr>
          <p:spPr>
            <a:xfrm>
              <a:off x="2357640" y="257148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232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234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236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7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238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9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240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41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242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43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244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245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246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247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248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249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250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51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252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53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254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55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256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257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258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59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0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1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262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263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264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5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6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7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8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69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70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71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272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273" name="Connecteur droit 96"/>
          <p:cNvSpPr/>
          <p:nvPr/>
        </p:nvSpPr>
        <p:spPr>
          <a:xfrm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onnecteur droit 97"/>
          <p:cNvSpPr/>
          <p:nvPr/>
        </p:nvSpPr>
        <p:spPr>
          <a:xfrm flipH="1">
            <a:off x="2928960" y="2428920"/>
            <a:ext cx="35712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la liste de nombres suivante,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quel est le plus petit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nombre relatif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642960" y="2786040"/>
                <a:ext cx="242892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8"/>
              <p:cNvSpPr txBox="1"/>
              <p:nvPr/>
            </p:nvSpPr>
            <p:spPr>
              <a:xfrm>
                <a:off x="3143160" y="3643200"/>
                <a:ext cx="242892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,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9"/>
              <p:cNvSpPr txBox="1"/>
              <p:nvPr/>
            </p:nvSpPr>
            <p:spPr>
              <a:xfrm>
                <a:off x="5516640" y="4714920"/>
                <a:ext cx="29685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19998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Un losange a ses diagonales de même longueurs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6"/>
              <p:cNvSpPr txBox="1"/>
              <p:nvPr/>
            </p:nvSpPr>
            <p:spPr>
              <a:xfrm>
                <a:off x="1071720" y="2643120"/>
                <a:ext cx="701964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nombre  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est-il solution de l’équation suivan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5"/>
              <p:cNvSpPr txBox="1"/>
              <p:nvPr/>
            </p:nvSpPr>
            <p:spPr>
              <a:xfrm>
                <a:off x="642960" y="3000240"/>
                <a:ext cx="77151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2130480" y="1928880"/>
                <a:ext cx="13809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5504040" y="1928880"/>
                <a:ext cx="138240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8"/>
          <p:cNvSpPr/>
          <p:nvPr/>
        </p:nvSpPr>
        <p:spPr>
          <a:xfrm>
            <a:off x="4143240" y="321480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357120" y="1214280"/>
            <a:ext cx="8429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6"/>
              <p:cNvSpPr txBox="1"/>
              <p:nvPr/>
            </p:nvSpPr>
            <p:spPr>
              <a:xfrm>
                <a:off x="1714680" y="2071800"/>
                <a:ext cx="540828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642960" y="2428920"/>
            <a:ext cx="4172040" cy="364644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2"/>
          <p:cNvSpPr/>
          <p:nvPr/>
        </p:nvSpPr>
        <p:spPr>
          <a:xfrm>
            <a:off x="357120" y="1000080"/>
            <a:ext cx="8429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Choisis la bonne répons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 périmètre de cette figure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4071960" y="2357280"/>
            <a:ext cx="5072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7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25 + 2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+ 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9680" y="1285920"/>
            <a:ext cx="82868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Quelles sont les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ordonné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du point C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49"/>
          <p:cNvGrpSpPr/>
          <p:nvPr/>
        </p:nvGrpSpPr>
        <p:grpSpPr>
          <a:xfrm>
            <a:off x="1285920" y="2214720"/>
            <a:ext cx="6492960" cy="3606480"/>
            <a:chOff x="1285920" y="2214720"/>
            <a:chExt cx="6492960" cy="3606480"/>
          </a:xfrm>
        </p:grpSpPr>
        <p:sp>
          <p:nvSpPr>
            <p:cNvPr id="298" name="Text Box 150"/>
            <p:cNvSpPr/>
            <p:nvPr/>
          </p:nvSpPr>
          <p:spPr>
            <a:xfrm>
              <a:off x="6000480" y="4786200"/>
              <a:ext cx="4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154"/>
            <p:cNvGrpSpPr/>
            <p:nvPr/>
          </p:nvGrpSpPr>
          <p:grpSpPr>
            <a:xfrm>
              <a:off x="1285920" y="2214720"/>
              <a:ext cx="6492960" cy="3606480"/>
              <a:chOff x="1285920" y="2214720"/>
              <a:chExt cx="6492960" cy="3606480"/>
            </a:xfrm>
          </p:grpSpPr>
          <p:sp>
            <p:nvSpPr>
              <p:cNvPr id="300" name="Text Box 155"/>
              <p:cNvSpPr/>
              <p:nvPr/>
            </p:nvSpPr>
            <p:spPr>
              <a:xfrm>
                <a:off x="4171320" y="4017600"/>
                <a:ext cx="360720" cy="36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Group 156"/>
              <p:cNvGrpSpPr/>
              <p:nvPr/>
            </p:nvGrpSpPr>
            <p:grpSpPr>
              <a:xfrm>
                <a:off x="1285920" y="2214720"/>
                <a:ext cx="6492960" cy="3606480"/>
                <a:chOff x="1285920" y="2214720"/>
                <a:chExt cx="6492960" cy="3606480"/>
              </a:xfrm>
            </p:grpSpPr>
            <p:sp>
              <p:nvSpPr>
                <p:cNvPr id="302" name="Text Box 157"/>
                <p:cNvSpPr/>
                <p:nvPr/>
              </p:nvSpPr>
              <p:spPr>
                <a:xfrm>
                  <a:off x="3810960" y="5460480"/>
                  <a:ext cx="7214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400" spc="-1" strike="noStrike">
                      <a:solidFill>
                        <a:srgbClr val="000000"/>
                      </a:solidFill>
                      <a:latin typeface="Tahoma"/>
                    </a:rPr>
                    <a:t>(-2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" name="Group 158"/>
                <p:cNvGrpSpPr/>
                <p:nvPr/>
              </p:nvGrpSpPr>
              <p:grpSpPr>
                <a:xfrm>
                  <a:off x="1285920" y="2214720"/>
                  <a:ext cx="6492960" cy="3606480"/>
                  <a:chOff x="1285920" y="2214720"/>
                  <a:chExt cx="6492960" cy="3606480"/>
                </a:xfrm>
              </p:grpSpPr>
              <p:sp>
                <p:nvSpPr>
                  <p:cNvPr id="304" name="Text Box 159"/>
                  <p:cNvSpPr/>
                  <p:nvPr/>
                </p:nvSpPr>
                <p:spPr>
                  <a:xfrm>
                    <a:off x="3810960" y="4739040"/>
                    <a:ext cx="721440" cy="360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fr-FR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(-1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5" name="Group 160"/>
                  <p:cNvGrpSpPr/>
                  <p:nvPr/>
                </p:nvGrpSpPr>
                <p:grpSpPr>
                  <a:xfrm>
                    <a:off x="1285920" y="2214720"/>
                    <a:ext cx="6492960" cy="3606480"/>
                    <a:chOff x="1285920" y="2214720"/>
                    <a:chExt cx="6492960" cy="3606480"/>
                  </a:xfrm>
                </p:grpSpPr>
                <p:sp>
                  <p:nvSpPr>
                    <p:cNvPr id="306" name="Text Box 161"/>
                    <p:cNvSpPr/>
                    <p:nvPr/>
                  </p:nvSpPr>
                  <p:spPr>
                    <a:xfrm>
                      <a:off x="3810960" y="2935800"/>
                      <a:ext cx="721440" cy="36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+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7" name="Group 162"/>
                    <p:cNvGrpSpPr/>
                    <p:nvPr/>
                  </p:nvGrpSpPr>
                  <p:grpSpPr>
                    <a:xfrm>
                      <a:off x="1285920" y="2214720"/>
                      <a:ext cx="6492960" cy="3606480"/>
                      <a:chOff x="1285920" y="2214720"/>
                      <a:chExt cx="6492960" cy="3606480"/>
                    </a:xfrm>
                  </p:grpSpPr>
                  <p:sp>
                    <p:nvSpPr>
                      <p:cNvPr id="308" name="Text Box 163"/>
                      <p:cNvSpPr/>
                      <p:nvPr/>
                    </p:nvSpPr>
                    <p:spPr>
                      <a:xfrm>
                        <a:off x="3810960" y="2214720"/>
                        <a:ext cx="721440" cy="360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Aft>
                            <a:spcPts val="1001"/>
                          </a:spcAft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fr-FR" sz="24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(+2)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309" name="Group 164"/>
                      <p:cNvGrpSpPr/>
                      <p:nvPr/>
                    </p:nvGrpSpPr>
                    <p:grpSpPr>
                      <a:xfrm>
                        <a:off x="1285920" y="2214720"/>
                        <a:ext cx="6492960" cy="3606480"/>
                        <a:chOff x="1285920" y="2214720"/>
                        <a:chExt cx="6492960" cy="3606480"/>
                      </a:xfrm>
                    </p:grpSpPr>
                    <p:sp>
                      <p:nvSpPr>
                        <p:cNvPr id="310" name="Text Box 165"/>
                        <p:cNvSpPr/>
                        <p:nvPr/>
                      </p:nvSpPr>
                      <p:spPr>
                        <a:xfrm>
                          <a:off x="7057080" y="4017600"/>
                          <a:ext cx="721440" cy="360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0" rIns="0" tIns="0" bIns="0" anchor="t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Aft>
                              <a:spcPts val="1001"/>
                            </a:spcAft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fr-FR" sz="24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(+4)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1" name="Group 166"/>
                        <p:cNvGrpSpPr/>
                        <p:nvPr/>
                      </p:nvGrpSpPr>
                      <p:grpSpPr>
                        <a:xfrm>
                          <a:off x="1285920" y="2214720"/>
                          <a:ext cx="6492960" cy="3606480"/>
                          <a:chOff x="1285920" y="2214720"/>
                          <a:chExt cx="6492960" cy="3606480"/>
                        </a:xfrm>
                      </p:grpSpPr>
                      <p:sp>
                        <p:nvSpPr>
                          <p:cNvPr id="312" name="Text Box 167"/>
                          <p:cNvSpPr/>
                          <p:nvPr/>
                        </p:nvSpPr>
                        <p:spPr>
                          <a:xfrm>
                            <a:off x="6336000" y="4017600"/>
                            <a:ext cx="721080" cy="360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0" rIns="0" tIns="0" bIns="0" anchor="t">
                            <a:no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spcAft>
                                <a:spcPts val="1001"/>
                              </a:spcAft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fr-FR" sz="2400" spc="-1" strike="noStrike">
                                <a:solidFill>
                                  <a:srgbClr val="000000"/>
                                </a:solidFill>
                                <a:latin typeface="Tahoma"/>
                              </a:rPr>
                              <a:t>(+3)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313" name="Group 168"/>
                          <p:cNvGrpSpPr/>
                          <p:nvPr/>
                        </p:nvGrpSpPr>
                        <p:grpSpPr>
                          <a:xfrm>
                            <a:off x="1285920" y="2214720"/>
                            <a:ext cx="6492960" cy="3606480"/>
                            <a:chOff x="1285920" y="2214720"/>
                            <a:chExt cx="6492960" cy="3606480"/>
                          </a:xfrm>
                        </p:grpSpPr>
                        <p:sp>
                          <p:nvSpPr>
                            <p:cNvPr id="314" name="Text Box 169"/>
                            <p:cNvSpPr/>
                            <p:nvPr/>
                          </p:nvSpPr>
                          <p:spPr>
                            <a:xfrm>
                              <a:off x="5614560" y="4017600"/>
                              <a:ext cx="721440" cy="360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0" rIns="0" tIns="0" bIns="0" anchor="t">
                              <a:no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spcAft>
                                  <a:spcPts val="1001"/>
                                </a:spcAft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fr-FR" sz="2400" spc="-1" strike="noStrike">
                                  <a:solidFill>
                                    <a:srgbClr val="000000"/>
                                  </a:solidFill>
                                  <a:latin typeface="Tahoma"/>
                                </a:rPr>
                                <a:t>(+2)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315" name="Group 170"/>
                            <p:cNvGrpSpPr/>
                            <p:nvPr/>
                          </p:nvGrpSpPr>
                          <p:grpSpPr>
                            <a:xfrm>
                              <a:off x="1285920" y="2214720"/>
                              <a:ext cx="6492960" cy="3606480"/>
                              <a:chOff x="1285920" y="2214720"/>
                              <a:chExt cx="6492960" cy="3606480"/>
                            </a:xfrm>
                          </p:grpSpPr>
                          <p:sp>
                            <p:nvSpPr>
                              <p:cNvPr id="316" name="Text Box 171"/>
                              <p:cNvSpPr/>
                              <p:nvPr/>
                            </p:nvSpPr>
                            <p:spPr>
                              <a:xfrm>
                                <a:off x="4893120" y="4017600"/>
                                <a:ext cx="721440" cy="360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0" rIns="0" tIns="0" bIns="0" anchor="t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spcAft>
                                    <a:spcPts val="1001"/>
                                  </a:spcAft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fr-FR" sz="2400" spc="-1" strike="noStrike">
                                    <a:solidFill>
                                      <a:srgbClr val="000000"/>
                                    </a:solidFill>
                                    <a:latin typeface="Tahoma"/>
                                  </a:rPr>
                                  <a:t>(+1)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317" name="Group 172"/>
                              <p:cNvGrpSpPr/>
                              <p:nvPr/>
                            </p:nvGrpSpPr>
                            <p:grpSpPr>
                              <a:xfrm>
                                <a:off x="1285920" y="2214720"/>
                                <a:ext cx="6492960" cy="3606480"/>
                                <a:chOff x="1285920" y="2214720"/>
                                <a:chExt cx="6492960" cy="3606480"/>
                              </a:xfrm>
                            </p:grpSpPr>
                            <p:sp>
                              <p:nvSpPr>
                                <p:cNvPr id="318" name="Text Box 173"/>
                                <p:cNvSpPr/>
                                <p:nvPr/>
                              </p:nvSpPr>
                              <p:spPr>
                                <a:xfrm>
                                  <a:off x="3450240" y="4017600"/>
                                  <a:ext cx="721080" cy="360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0" rIns="0" tIns="0" bIns="0" anchor="t">
                                  <a:noAutofit/>
                                </a:bodyPr>
                                <a:p>
                                  <a:pPr algn="ctr">
                                    <a:lnSpc>
                                      <a:spcPct val="100000"/>
                                    </a:lnSpc>
                                    <a:spcAft>
                                      <a:spcPts val="1001"/>
                                    </a:spcAft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0" lang="fr-FR" sz="2400" spc="-1" strike="noStrike">
                                      <a:solidFill>
                                        <a:srgbClr val="000000"/>
                                      </a:solidFill>
                                      <a:latin typeface="Tahoma"/>
                                    </a:rPr>
                                    <a:t>(-1)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319" name="Group 174"/>
                                <p:cNvGrpSpPr/>
                                <p:nvPr/>
                              </p:nvGrpSpPr>
                              <p:grpSpPr>
                                <a:xfrm>
                                  <a:off x="1285920" y="2214720"/>
                                  <a:ext cx="6492960" cy="3606480"/>
                                  <a:chOff x="1285920" y="2214720"/>
                                  <a:chExt cx="6492960" cy="3606480"/>
                                </a:xfrm>
                              </p:grpSpPr>
                              <p:sp>
                                <p:nvSpPr>
                                  <p:cNvPr id="320" name="Text Box 175"/>
                                  <p:cNvSpPr/>
                                  <p:nvPr/>
                                </p:nvSpPr>
                                <p:spPr>
                                  <a:xfrm>
                                    <a:off x="2728800" y="4017600"/>
                                    <a:ext cx="721440" cy="360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0" rIns="0" tIns="0" bIns="0" anchor="t">
                                    <a:noAutofit/>
                                  </a:bodyPr>
                                  <a:p>
                                    <a:pPr algn="ctr">
                                      <a:lnSpc>
                                        <a:spcPct val="100000"/>
                                      </a:lnSpc>
                                      <a:spcAft>
                                        <a:spcPts val="1001"/>
                                      </a:spcAft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0" lang="fr-FR" sz="2400" spc="-1" strike="noStrike">
                                        <a:solidFill>
                                          <a:srgbClr val="000000"/>
                                        </a:solidFill>
                                        <a:latin typeface="Tahoma"/>
                                      </a:rPr>
                                      <a:t>(-2)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321" name="Group 176"/>
                                  <p:cNvGrpSpPr/>
                                  <p:nvPr/>
                                </p:nvGrpSpPr>
                                <p:grpSpPr>
                                  <a:xfrm>
                                    <a:off x="1285920" y="2214720"/>
                                    <a:ext cx="6492960" cy="3606480"/>
                                    <a:chOff x="1285920" y="2214720"/>
                                    <a:chExt cx="6492960" cy="3606480"/>
                                  </a:xfrm>
                                </p:grpSpPr>
                                <p:sp>
                                  <p:nvSpPr>
                                    <p:cNvPr id="322" name="Text Box 17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285920" y="4017600"/>
                                      <a:ext cx="721440" cy="360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0" rIns="0" tIns="0" bIns="0" anchor="t">
                                      <a:noAutofit/>
                                    </a:bodyPr>
                                    <a:p>
                                      <a:pPr algn="ctr">
                                        <a:lnSpc>
                                          <a:spcPct val="100000"/>
                                        </a:lnSpc>
                                        <a:spcAft>
                                          <a:spcPts val="1001"/>
                                        </a:spcAft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0" lang="fr-FR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ahoma"/>
                                        </a:rPr>
                                        <a:t>(-4)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Arial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323" name="Group 178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285920" y="2214720"/>
                                      <a:ext cx="6492960" cy="3606480"/>
                                      <a:chOff x="1285920" y="2214720"/>
                                      <a:chExt cx="6492960" cy="3606480"/>
                                    </a:xfrm>
                                  </p:grpSpPr>
                                  <p:sp>
                                    <p:nvSpPr>
                                      <p:cNvPr id="324" name="Text Box 179"/>
                                      <p:cNvSpPr/>
                                      <p:nvPr/>
                                    </p:nvSpPr>
                                    <p:spPr>
                                      <a:xfrm>
                                        <a:off x="2007360" y="4017600"/>
                                        <a:ext cx="721440" cy="360720"/>
                                      </a:xfrm>
                                      <a:prstGeom prst="rect">
                                        <a:avLst/>
                                      </a:prstGeom>
                                      <a:noFill/>
                                      <a:ln w="0">
                                        <a:noFill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0" rIns="0" tIns="0" bIns="0" anchor="t">
                                        <a:noAutofit/>
                                      </a:bodyPr>
                                      <a:p>
                                        <a:pPr algn="ctr">
                                          <a:lnSpc>
                                            <a:spcPct val="100000"/>
                                          </a:lnSpc>
                                          <a:spcAft>
                                            <a:spcPts val="1001"/>
                                          </a:spcAft>
                                          <a:tabLst>
                                            <a:tab algn="l" pos="0"/>
                                            <a:tab algn="l" pos="914400"/>
                                            <a:tab algn="l" pos="1828800"/>
                                            <a:tab algn="l" pos="2743200"/>
                                            <a:tab algn="l" pos="3657600"/>
                                            <a:tab algn="l" pos="4572000"/>
                                            <a:tab algn="l" pos="5486400"/>
                                            <a:tab algn="l" pos="6400800"/>
                                            <a:tab algn="l" pos="7315200"/>
                                            <a:tab algn="l" pos="8229600"/>
                                            <a:tab algn="l" pos="9144000"/>
                                            <a:tab algn="l" pos="10058400"/>
                                          </a:tabLst>
                                        </a:pPr>
                                        <a:r>
                                          <a:rPr b="0" lang="fr-FR" sz="24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Tahoma"/>
                                          </a:rPr>
                                          <a:t>(-3)</a:t>
                                        </a:r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Arial"/>
                                        </a:endParaRPr>
                                      </a:p>
                                    </p:txBody>
                                  </p:sp>
                                  <p:grpSp>
                                    <p:nvGrpSpPr>
                                      <p:cNvPr id="325" name="Group 180"/>
                                      <p:cNvGrpSpPr/>
                                      <p:nvPr/>
                                    </p:nvGrpSpPr>
                                    <p:grpSpPr>
                                      <a:xfrm>
                                        <a:off x="1285920" y="2214720"/>
                                        <a:ext cx="6492960" cy="3606480"/>
                                        <a:chOff x="1285920" y="2214720"/>
                                        <a:chExt cx="6492960" cy="3606480"/>
                                      </a:xfrm>
                                    </p:grpSpPr>
                                    <p:sp>
                                      <p:nvSpPr>
                                        <p:cNvPr id="326" name="Line 181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01760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316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  <a:tailEnd len="med" type="arrow" w="med"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27" name="Line 182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25750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28" name="Line 183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329652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29" name="Line 184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473904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sp>
                                      <p:nvSpPr>
                                        <p:cNvPr id="330" name="Line 185"/>
                                        <p:cNvSpPr/>
                                        <p:nvPr/>
                                      </p:nvSpPr>
                                      <p:spPr>
                                        <a:xfrm>
                                          <a:off x="1285920" y="5460480"/>
                                          <a:ext cx="6492960" cy="0"/>
                                        </a:xfrm>
                                        <a:prstGeom prst="line">
                                          <a:avLst/>
                                        </a:prstGeom>
                                        <a:ln w="19080">
                                          <a:solidFill>
                                            <a:srgbClr val="000000"/>
                                          </a:solidFill>
                                          <a:miter/>
                                        </a:ln>
                                      </p:spPr>
                                      <p:style>
                                        <a:lnRef idx="0"/>
                                        <a:fillRef idx="0"/>
                                        <a:effectRef idx="0"/>
                                        <a:fontRef idx="minor"/>
                                      </p:style>
                                      <p:txBody>
                                        <a:bodyPr lIns="90000" rIns="90000" tIns="-46800" bIns="-46800" anchor="t">
                                          <a:noAutofit/>
                                        </a:bodyPr>
                                        <a:p>
                                          <a:endParaRPr b="0" lang="en-US" sz="1800" spc="-1" strike="noStrike">
                                            <a:solidFill>
                                              <a:srgbClr val="000000"/>
                                            </a:solidFill>
                                            <a:latin typeface="Arial"/>
                                          </a:endParaRPr>
                                        </a:p>
                                      </p:txBody>
                                    </p:sp>
                                    <p:grpSp>
                                      <p:nvGrpSpPr>
                                        <p:cNvPr id="331" name="Group 186"/>
                                        <p:cNvGrpSpPr/>
                                        <p:nvPr/>
                                      </p:nvGrpSpPr>
                                      <p:grpSpPr>
                                        <a:xfrm>
                                          <a:off x="1646640" y="2214720"/>
                                          <a:ext cx="5771160" cy="3606480"/>
                                          <a:chOff x="1646640" y="2214720"/>
                                          <a:chExt cx="5771160" cy="3606480"/>
                                        </a:xfrm>
                                      </p:grpSpPr>
                                      <p:sp>
                                        <p:nvSpPr>
                                          <p:cNvPr id="332" name="Line 187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45320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316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  <a:headEnd len="med" type="arrow" w="med"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3" name="Line 188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164664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4" name="Line 189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236808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5" name="Line 190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0891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6" name="Line 191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38106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7" name="Line 192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25312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8" name="Line 193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59745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39" name="Line 194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669636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  <p:sp>
                                        <p:nvSpPr>
                                          <p:cNvPr id="340" name="Line 195"/>
                                          <p:cNvSpPr/>
                                          <p:nvPr/>
                                        </p:nvSpPr>
                                        <p:spPr>
                                          <a:xfrm>
                                            <a:off x="7417800" y="2214720"/>
                                            <a:ext cx="0" cy="3606480"/>
                                          </a:xfrm>
                                          <a:prstGeom prst="line">
                                            <a:avLst/>
                                          </a:prstGeom>
                                          <a:ln w="19080">
                                            <a:solidFill>
                                              <a:srgbClr val="000000"/>
                                            </a:solidFill>
                                            <a:miter/>
                                          </a:ln>
                                        </p:spPr>
                                        <p:style>
                                          <a:lnRef idx="0"/>
                                          <a:fillRef idx="0"/>
                                          <a:effectRef idx="0"/>
                                          <a:fontRef idx="minor"/>
                                        </p:style>
                                        <p:txBody>
                                          <a:bodyPr lIns="90000" rIns="90000" tIns="46800" bIns="46800" anchor="t">
                                            <a:noAutofit/>
                                          </a:bodyPr>
                                          <a:p>
                                            <a:endParaRPr b="0" lang="en-US" sz="1800" spc="-1" strike="noStrike">
                                              <a:solidFill>
                                                <a:srgbClr val="000000"/>
                                              </a:solidFill>
                                              <a:latin typeface="Arial"/>
                                            </a:endParaRPr>
                                          </a:p>
                                        </p:txBody>
                                      </p:sp>
                                    </p:grpSp>
                                  </p:grpSp>
                                </p:grpSp>
                              </p:grpSp>
                            </p:grpSp>
                          </p:grpSp>
                        </p:grp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341" name="Connecteur droit 48"/>
          <p:cNvSpPr/>
          <p:nvPr/>
        </p:nvSpPr>
        <p:spPr>
          <a:xfrm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necteur droit 49"/>
          <p:cNvSpPr/>
          <p:nvPr/>
        </p:nvSpPr>
        <p:spPr>
          <a:xfrm flipH="1">
            <a:off x="6500880" y="5286240"/>
            <a:ext cx="357120" cy="357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 solution de l’é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5"/>
              <p:cNvSpPr txBox="1"/>
              <p:nvPr/>
            </p:nvSpPr>
            <p:spPr>
              <a:xfrm>
                <a:off x="1643040" y="2000160"/>
                <a:ext cx="5575320" cy="15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Rectangle 2"/>
          <p:cNvSpPr/>
          <p:nvPr/>
        </p:nvSpPr>
        <p:spPr>
          <a:xfrm>
            <a:off x="5716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st-elle 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ou 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2278080" y="2473200"/>
                <a:ext cx="460368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0040" y="214272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Si un parallélogramme a ses diagonales perpendiculaires, alors c’est un rectangle.</a:t>
            </a:r>
            <a:br>
              <a:rPr sz="3800"/>
            </a:b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VRAI ?    FAUX 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6"/>
              <p:cNvSpPr txBox="1"/>
              <p:nvPr/>
            </p:nvSpPr>
            <p:spPr>
              <a:xfrm>
                <a:off x="357120" y="2357280"/>
                <a:ext cx="8352000" cy="164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357120" y="1214280"/>
            <a:ext cx="84297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1657440" y="2071800"/>
                <a:ext cx="5522760" cy="36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6"/>
              <p:cNvSpPr txBox="1"/>
              <p:nvPr/>
            </p:nvSpPr>
            <p:spPr>
              <a:xfrm>
                <a:off x="3141720" y="2473200"/>
                <a:ext cx="287640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’ég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1928880" y="2071800"/>
                <a:ext cx="538488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Rectangle 2"/>
          <p:cNvSpPr/>
          <p:nvPr/>
        </p:nvSpPr>
        <p:spPr>
          <a:xfrm>
            <a:off x="571680" y="350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st-elle vraie qu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   et     </a:t>
            </a: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1439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a valeur de l’angle manqua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5958000" y="2643120"/>
                <a:ext cx="251460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8" name="Picture 7" descr=""/>
          <p:cNvPicPr/>
          <p:nvPr/>
        </p:nvPicPr>
        <p:blipFill>
          <a:blip r:embed="rId1"/>
          <a:srcRect l="1778" t="7734" r="7362" b="7208"/>
          <a:stretch/>
        </p:blipFill>
        <p:spPr>
          <a:xfrm>
            <a:off x="357120" y="2714760"/>
            <a:ext cx="6458040" cy="32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57120" y="107172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6"/>
              <p:cNvSpPr txBox="1"/>
              <p:nvPr/>
            </p:nvSpPr>
            <p:spPr>
              <a:xfrm>
                <a:off x="668160" y="2473200"/>
                <a:ext cx="782496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571680" y="1500120"/>
            <a:ext cx="81435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actoriser la somm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6"/>
              <p:cNvSpPr txBox="1"/>
              <p:nvPr/>
            </p:nvSpPr>
            <p:spPr>
              <a:xfrm>
                <a:off x="2292480" y="3129120"/>
                <a:ext cx="448920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571680" y="1357200"/>
            <a:ext cx="81435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évelopper le produit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2235240" y="2870280"/>
                <a:ext cx="46036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50920" y="333360"/>
            <a:ext cx="43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a somme des mesures de deux angles complémentaires est égale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7"/>
          <p:cNvSpPr/>
          <p:nvPr/>
        </p:nvSpPr>
        <p:spPr>
          <a:xfrm>
            <a:off x="1143000" y="2857680"/>
            <a:ext cx="692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90°?       ou       180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1143000"/>
            <a:ext cx="81439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hoisis le mot qui convient</a:t>
            </a:r>
            <a:br>
              <a:rPr sz="3800"/>
            </a:br>
            <a:br>
              <a:rPr sz="1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alternes-internes – correspondants – opposés par le sommet – adjacents – complémentaires – supplémentai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rcRect l="9292" t="3991" r="11065" b="6253"/>
          <a:stretch/>
        </p:blipFill>
        <p:spPr>
          <a:xfrm>
            <a:off x="357120" y="2768760"/>
            <a:ext cx="5143680" cy="3857400"/>
          </a:xfrm>
          <a:prstGeom prst="rect">
            <a:avLst/>
          </a:prstGeom>
          <a:ln w="0">
            <a:noFill/>
          </a:ln>
        </p:spPr>
      </p:pic>
      <p:sp>
        <p:nvSpPr>
          <p:cNvPr id="83" name="ZoneTexte 6"/>
          <p:cNvSpPr/>
          <p:nvPr/>
        </p:nvSpPr>
        <p:spPr>
          <a:xfrm>
            <a:off x="6000840" y="3429000"/>
            <a:ext cx="25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angles marqués sont des angle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05-28T20:47:44Z</dcterms:modified>
  <cp:revision>77</cp:revision>
  <dc:subject/>
  <dc:title>8 x 4</dc:title>
</cp:coreProperties>
</file>