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38FB-5B65-4423-B711-AE1D62EA55A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9DCA-6ED7-42ED-9766-325BB052D1E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58E3-250A-4374-BC2F-225A6B2A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77BD-6C42-4547-A54A-2E80DD5E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6EE-54D8-420F-9BAF-E6FD8FBA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FF40-194B-44A7-911B-89239A87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23C1-227A-4D20-82B7-954C3202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2CA3-1906-4133-8993-B93F0C3F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D69D-A383-4056-A240-B4B43C72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2305-9544-4F35-A0DB-FC35F0D8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7B51-51B7-4AF5-B190-1227ECA2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6BD8-853A-4748-8060-35C9CC6D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3E26-2B6E-44CD-BAC1-C718EF1D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159A-C88F-4985-85A1-E6156E35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AF7C-3A43-4E7A-A467-D3592ABDA7D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Respecter la priorité de la soustraction sur la 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85 – 7 ×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73 – 5 ×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53 – 5 ×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85 – 7 ×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79 – 4 ×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81 – 5 ×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67 – 6 ×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79 – 4 ×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81 – 5 ×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67 – 6 ×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00:25Z</dcterms:modified>
  <cp:revision>25</cp:revision>
  <dc:subject/>
  <dc:title>8 x 4</dc:title>
</cp:coreProperties>
</file>