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F7A-C880-4684-A6AF-6E9264011D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F6E8-9E56-4A55-BDA6-F26BC39B2C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6AC-21DE-4416-94F5-353CDC1FC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DA81-E9DD-413A-B7DA-C8308335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A2B-B0C8-4D41-A25E-D6606C01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358-73C1-4B5B-928D-EDC56CFD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A73-865B-4001-B298-18ACD196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DE4-BD04-4E94-B08C-3857711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681-0443-478E-A4AE-1CA26759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5922-9F82-478A-BE76-9F3C0FF0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455-BF6C-464D-A3BC-91C9B1A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0F5-B1DF-41F6-8A82-392E011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B50-04D7-49BE-9FCF-29185DCB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B72-BAF3-4EE8-9FA8-C5E6146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E7E2-E677-4C34-9795-33ABC09ECB9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 ou la différence de deux nombres décim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sans reten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6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358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7,457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2,0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5,79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 1,3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8,245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1,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5,81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3,10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4,3</a:t>
            </a: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+ 5,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6:58:45Z</dcterms:modified>
  <cp:revision>17</cp:revision>
  <dc:subject/>
  <dc:title>8 x 4</dc:title>
</cp:coreProperties>
</file>