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FDA8-6F58-4076-9CEA-D6BC6D40F8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DBDB-C5D1-4A23-86F9-30A7524F1B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BD9-2966-4188-87EA-1F879A2B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D56-4E60-47C0-9903-05133E84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AD5-98AE-4932-A4C6-CAEA9F8F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799-4C53-43B4-A207-51A09CDF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9BB-FFD8-415F-8062-F18ACBFF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5CA-445A-4A5F-9C1A-F621A409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4B0-5136-43D2-9671-DC4D6EF2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265-6983-4250-9B1C-8462C4A2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560-F94D-44FB-BFF0-E4058BF5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836-86B6-4322-9439-5666A58A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AA0-E89A-4E1E-B6A0-8869A8E4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8CF-D9C3-4DF1-A376-F65E4D7E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BD3F-1712-43BC-AC4B-C83C480374E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130480" y="17146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130480" y="17146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273640" y="1714680"/>
                <a:ext cx="18432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2187720" y="1714680"/>
                <a:ext cx="12650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4:54Z</dcterms:modified>
  <cp:revision>40</cp:revision>
  <dc:subject/>
  <dc:title>8 x 4</dc:title>
</cp:coreProperties>
</file>