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9DDD-B36A-4C07-A7BF-289BC577F6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CAC4-93BF-4897-B279-1532829BD9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451-1058-484C-AC2E-E19BB7CF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55D-5B8C-42BD-9F4F-E879A641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B1D-7500-48FB-814A-C9C7A890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7CB-04F3-491D-825B-F527980C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95F-0525-4D9D-856C-0EA31930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A8B-798D-4C3A-A452-471AAB1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674-4AB2-43F4-A292-FF1C6380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0E6-A11E-4A38-BD77-871A2B96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43F-1B38-4D92-9FAC-D402829E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78F-B1C9-4FC4-AB3C-7F1F7A04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058-6592-4922-B700-F9141103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A44-4E19-482C-9A5D-07C73B3B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10E9-7493-4D9E-BDB5-04611FAB015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78080" y="2357280"/>
                <a:ext cx="46036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127160" y="2357280"/>
                <a:ext cx="69040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2624040" y="2473200"/>
                <a:ext cx="39117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3:04:31Z</dcterms:modified>
  <cp:revision>44</cp:revision>
  <dc:subject/>
  <dc:title>8 x 4</dc:title>
</cp:coreProperties>
</file>