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4DB9-37A6-41D1-85E8-0E9E53F066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6EE-4134-4209-9F57-6043ECA803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385-9BC4-44AF-9157-94FF7034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87B-B638-47F8-AECE-48B3A571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149-D22C-48E4-B3F9-628284A1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F1F-2366-4669-B041-95F4E41C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A7D-4D85-4B0F-8D31-1175AD7E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D2F-4675-4797-80CA-C48351CC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1A12-5749-4668-9A48-9F0C1C36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3F4-264B-4399-8A0F-34211427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F23-90A6-4108-9042-370CC14C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7166-2EF6-4379-BF48-E1835BD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6D2-A14B-470A-BBFD-F0564182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9EE-EEC3-42E8-899D-C817A694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00F8-2888-463B-95FC-BB57F513AA4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Quotients ég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7:08Z</dcterms:modified>
  <cp:revision>28</cp:revision>
  <dc:subject/>
  <dc:title>8 x 4</dc:title>
</cp:coreProperties>
</file>