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9486-C866-4E40-9944-E4D550D83B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BF32-5624-4892-A2B3-55F7345A17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ADBC-47EF-4BDF-A735-945F5CF3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566-F8FF-4830-9604-93CF01B6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D93-C69C-4A91-B723-A52D92C4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C4D-7FE2-4A2C-A4E8-0355B7046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C54-4B1E-4E7A-B194-0AA7DC84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6E0F-5B9F-450F-84BD-6C2C111F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8031-0545-4FB5-B9DF-BE6B412E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B49-E9B4-477B-B958-620C8E1C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5D3-46FE-4F3B-AEC1-3CA84695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8FA-A868-455A-AC34-54778471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D27-0F3C-4689-890B-E0ADAE19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D58-C1F5-40B4-ACA7-6DF7C142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E9FD-0D01-4363-B3C4-A98754B7380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Multiplier par 9 et par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74</a:t>
            </a:r>
            <a:r>
              <a:rPr b="0" i="1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3:00Z</dcterms:modified>
  <cp:revision>16</cp:revision>
  <dc:subject/>
  <dc:title>8 x 4</dc:title>
</cp:coreProperties>
</file>