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238C-AAC1-40C9-ACA7-7D072F4196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B9C6-D8DB-4346-A805-096960A209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26D-113E-4169-BB0E-7529BB8C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4E5-BA86-42AB-B560-ED57E787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AC9-7750-4A92-8054-2D983AC68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D15-133C-4830-A34C-99142ADE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9BD5-C68F-4BFE-91BF-D571B89A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5E69-70C3-4A53-BE46-7F408909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3F5-0C3A-4A4E-815B-6DA3C3A3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AE9F-EC00-4B34-A487-AD84D7A6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463-B409-476E-9FCD-9B5A5001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9DF5-7E34-496D-A680-8137420E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0D2C-7804-4209-B21C-63BC92AF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A70-BD3B-4ED8-B8B3-611CF371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82D8-AB2B-4659-B39B-EF5D5C8B0DD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 les priorités opératoires (avec parenthè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8 × (5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4 × (8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[3 × (9 – 5)] × 2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56:07Z</dcterms:modified>
  <cp:revision>32</cp:revision>
  <dc:subject/>
  <dc:title>8 x 4</dc:title>
</cp:coreProperties>
</file>