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442-5DD8-4B43-9CC0-1F9B6710146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908-72B2-4465-B969-80FA9FF320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3AD-1E88-4C9A-AAB2-EB2D9A21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C11E-5838-419B-913C-347E387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88F3-F1EE-4D2E-8F1E-EC73457D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EA8-627E-4C50-96B6-D20939EB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19C-8C46-4281-9D6E-CBC60235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4A9-5B20-4D29-83BE-A3831384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49C-539D-48E0-BC2A-F30FD5BF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3011-1F6A-4760-AF06-8DBDE400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B5E0-2E5A-4F09-B06C-D0DEA223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2C5-0F49-4DDA-935B-4555476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4E0-B85B-4E11-A143-7DEE1E45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B873-F305-40CA-BB25-67E0C482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6DCE-FF0D-43C3-8645-16E7AA52E23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200" spc="-1" strike="noStrike">
                <a:solidFill>
                  <a:srgbClr val="ff0000"/>
                </a:solidFill>
                <a:latin typeface="Arial"/>
              </a:rPr>
              <a:t>Nombres relatif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et repé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6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7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7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7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7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7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8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8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8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8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8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8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8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8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8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8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9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9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9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9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9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9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9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9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0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0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0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0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1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11" name="Connecteur droit 9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necteur droit 101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E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316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18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20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22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3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24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5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26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27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28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9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30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31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32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33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34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35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36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37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38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39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40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41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42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43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44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5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6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7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48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49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50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1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2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3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4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5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6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7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58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59" name="Connecteur droit 52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onnecteur droit 53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ordonnées du point F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59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61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63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65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6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67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68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69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70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71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72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73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74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75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76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77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79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81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82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83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84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85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86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87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8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89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0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91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92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93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4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5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6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7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8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99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0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01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102" name="Connecteur droit 52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onnecteur droit 53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380880" y="3357720"/>
                <a:ext cx="30974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5883120" y="3357720"/>
                <a:ext cx="25225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17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19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20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21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22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24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26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27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28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9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30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32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33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34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35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36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37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38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39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40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1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42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43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44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45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46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47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48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49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0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1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52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53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54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5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6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7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8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59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0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1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62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687240" y="2786040"/>
                <a:ext cx="233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5560920" y="4714920"/>
                <a:ext cx="287820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ordonnée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71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173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75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77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8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79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0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81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2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83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4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85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6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87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8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89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0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91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2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93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4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95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96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97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98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99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0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1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2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03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04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05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6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7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8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09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0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1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2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13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14" name="Connecteur droit 57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onnecteur droit 59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abscisse du point D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19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221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222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223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24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26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7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28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29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30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1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32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33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34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35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36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37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38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39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40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1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42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43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44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45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46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47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48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49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250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1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2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3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54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255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256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7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8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59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0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1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2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3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264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9T22:20:33Z</dcterms:modified>
  <cp:revision>43</cp:revision>
  <dc:subject/>
  <dc:title>8 x 4</dc:title>
</cp:coreProperties>
</file>