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0572-5C52-44C3-BEAC-EA3A56C789A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CF13-A342-437C-ACAD-09922BA3D8B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219B-FCFE-45C7-94B3-447F94367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B7B3-4C40-47CE-9976-19959608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8165-8DCA-45C1-9655-60B6626CA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1A2B-F9A2-42F7-9C8B-A71B88780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76E1-88B2-4DF6-BED1-A3771FB0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36CC-8D36-4561-89EE-1F6A9966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EDF0-16D5-49BD-8D40-93B89658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D24C-9F1D-4BC8-9DBD-D435F9B1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C7A8-1EF5-458B-A57A-C59CE396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2757-909A-4F7F-8ECC-DA17290B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8FC7-2392-4E31-8C12-D68D383B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CFDF-DD9B-456B-8271-E5031E98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D8B0-A5FD-4C1D-8D0F-397A4144B2A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357120" y="3143160"/>
            <a:ext cx="85726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Initiation au calcul litté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Développements et factoris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571680" y="1714680"/>
            <a:ext cx="814356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évelopper le produit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6"/>
              <p:cNvSpPr txBox="1"/>
              <p:nvPr/>
            </p:nvSpPr>
            <p:spPr>
              <a:xfrm>
                <a:off x="1143000" y="3227400"/>
                <a:ext cx="678960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71680" y="1714680"/>
            <a:ext cx="814356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évelopper le produit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6"/>
              <p:cNvSpPr txBox="1"/>
              <p:nvPr/>
            </p:nvSpPr>
            <p:spPr>
              <a:xfrm>
                <a:off x="1143000" y="3227400"/>
                <a:ext cx="678960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571680" y="1714680"/>
            <a:ext cx="814356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évelopper le produit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6"/>
              <p:cNvSpPr txBox="1"/>
              <p:nvPr/>
            </p:nvSpPr>
            <p:spPr>
              <a:xfrm>
                <a:off x="2235240" y="3227400"/>
                <a:ext cx="460368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571680" y="1714680"/>
            <a:ext cx="814356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actoriser la différenc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2408400" y="3227400"/>
                <a:ext cx="425916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571680" y="1714680"/>
            <a:ext cx="814356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actoriser la somm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6"/>
              <p:cNvSpPr txBox="1"/>
              <p:nvPr/>
            </p:nvSpPr>
            <p:spPr>
              <a:xfrm>
                <a:off x="2292480" y="3343320"/>
                <a:ext cx="4489200" cy="16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71680" y="1714680"/>
            <a:ext cx="814356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évelopper le produit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2235240" y="3227400"/>
                <a:ext cx="460368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571680" y="1714680"/>
            <a:ext cx="814356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évelopper le produit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6"/>
              <p:cNvSpPr txBox="1"/>
              <p:nvPr/>
            </p:nvSpPr>
            <p:spPr>
              <a:xfrm>
                <a:off x="2235240" y="3227400"/>
                <a:ext cx="460368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71680" y="1714680"/>
            <a:ext cx="814356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actoriser la somm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6"/>
              <p:cNvSpPr txBox="1"/>
              <p:nvPr/>
            </p:nvSpPr>
            <p:spPr>
              <a:xfrm>
                <a:off x="2349360" y="3343320"/>
                <a:ext cx="4373640" cy="16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571680" y="1714680"/>
            <a:ext cx="814356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actoriser la différenc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6"/>
              <p:cNvSpPr txBox="1"/>
              <p:nvPr/>
            </p:nvSpPr>
            <p:spPr>
              <a:xfrm>
                <a:off x="2351160" y="3227400"/>
                <a:ext cx="437364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71680" y="1714680"/>
            <a:ext cx="814356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évelopper le produit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6"/>
              <p:cNvSpPr txBox="1"/>
              <p:nvPr/>
            </p:nvSpPr>
            <p:spPr>
              <a:xfrm>
                <a:off x="2178000" y="3227400"/>
                <a:ext cx="471960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9-03-12T21:19:00Z</dcterms:modified>
  <cp:revision>33</cp:revision>
  <dc:subject/>
  <dc:title>8 x 4</dc:title>
</cp:coreProperties>
</file>