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DBB2-C9CF-41D8-AC7D-C388C24BAA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81B0-1605-498F-8E20-FAA5094C5E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DA1A-A810-4F74-858B-11CD2561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2A5-C36D-4D84-AA76-E3732179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DEB-21D3-4FBD-80DE-E480F9C6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E6F-89B1-49BE-96AF-5F2B8B15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F20-EB69-4F4A-BB59-73FE2BB5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2393-41C6-491B-84FF-8B724013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A7B-C168-4D2B-8536-E8A6BBFD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D19D-EF44-4972-BF71-FB295DCD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3BD-8CEF-4A2E-A6FE-A75F0120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0AB-632C-4DDF-AA2D-A534B9A3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03C-FC2D-4A4C-823C-B6A133B7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FEF0-3F75-4E96-8BAE-0A3AA732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BD8B-5827-44E7-BBB3-62D59F5CC40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la so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de deux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21877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55609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1877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60920" y="1714680"/>
                <a:ext cx="126684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2130480" y="17146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1900080" y="1714680"/>
                <a:ext cx="1841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5504040" y="17146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ZoneTexte 8"/>
          <p:cNvSpPr/>
          <p:nvPr/>
        </p:nvSpPr>
        <p:spPr>
          <a:xfrm>
            <a:off x="4143240" y="30002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3:36Z</dcterms:modified>
  <cp:revision>39</cp:revision>
  <dc:subject/>
  <dc:title>8 x 4</dc:title>
</cp:coreProperties>
</file>