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EAFF-C950-4757-8905-8862F43A290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0778-8F0E-48FC-B023-679A819F2A8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E62A-7223-439B-9BAE-5A7A3CA94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AC42-1403-49E9-ACB5-46B62A69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F8AF-3A6B-499D-BE19-A53085DB4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19C8-7C7A-4ECB-865E-8CC0AF5B4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1795-875D-405E-AC4A-4593423A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119D-DBE9-42BC-A282-DCEB5756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7623-93A3-4661-9F4F-D81C82D1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78C5-7E6F-41FA-9FE3-3228EDEA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0FC6-A149-4E0D-95E8-70ED9DB8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D4D4-04B7-4AEC-82F3-AB53A8D4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F6C8-9D99-49FF-9B9D-55746667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2FCB-8B0E-465E-9946-4A2ABE41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96E5-EB07-48BE-8CB4-541A48D2544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Géométri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Angles et vocabula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oneTexte 7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1"/>
          <a:srcRect l="4388" t="3356" r="5703" b="12559"/>
          <a:stretch/>
        </p:blipFill>
        <p:spPr>
          <a:xfrm>
            <a:off x="642960" y="3143160"/>
            <a:ext cx="4786200" cy="2917800"/>
          </a:xfrm>
          <a:prstGeom prst="rect">
            <a:avLst/>
          </a:prstGeom>
          <a:ln w="0">
            <a:noFill/>
          </a:ln>
        </p:spPr>
      </p:pic>
      <p:cxnSp>
        <p:nvCxnSpPr>
          <p:cNvPr id="88" name="Connecteur droit avec flèche 10"/>
          <p:cNvCxnSpPr/>
          <p:nvPr/>
        </p:nvCxnSpPr>
        <p:spPr>
          <a:xfrm flipH="1" flipV="1">
            <a:off x="1071000" y="3642480"/>
            <a:ext cx="2858040" cy="3582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89" name="Connecteur droit avec flèche 12"/>
          <p:cNvCxnSpPr/>
          <p:nvPr/>
        </p:nvCxnSpPr>
        <p:spPr>
          <a:xfrm>
            <a:off x="4070880" y="4142880"/>
            <a:ext cx="429480" cy="14295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7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1"/>
          <a:srcRect l="12313" t="20834" r="10097" b="10709"/>
          <a:stretch/>
        </p:blipFill>
        <p:spPr>
          <a:xfrm>
            <a:off x="357120" y="3000240"/>
            <a:ext cx="5478480" cy="26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rcRect l="9292" t="3991" r="11065" b="6253"/>
          <a:stretch/>
        </p:blipFill>
        <p:spPr>
          <a:xfrm>
            <a:off x="357120" y="2768760"/>
            <a:ext cx="5143680" cy="3857400"/>
          </a:xfrm>
          <a:prstGeom prst="rect">
            <a:avLst/>
          </a:prstGeom>
          <a:ln w="0">
            <a:noFill/>
          </a:ln>
        </p:spPr>
      </p:pic>
      <p:sp>
        <p:nvSpPr>
          <p:cNvPr id="53" name="ZoneTexte 6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0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rcRect l="4388" t="3356" r="5703" b="12559"/>
          <a:stretch/>
        </p:blipFill>
        <p:spPr>
          <a:xfrm>
            <a:off x="642960" y="3143160"/>
            <a:ext cx="4786200" cy="2917800"/>
          </a:xfrm>
          <a:prstGeom prst="rect">
            <a:avLst/>
          </a:prstGeom>
          <a:ln w="0">
            <a:noFill/>
          </a:ln>
        </p:spPr>
      </p:pic>
      <p:cxnSp>
        <p:nvCxnSpPr>
          <p:cNvPr id="58" name="Connecteur droit avec flèche 12"/>
          <p:cNvCxnSpPr/>
          <p:nvPr/>
        </p:nvCxnSpPr>
        <p:spPr>
          <a:xfrm flipH="1" flipV="1">
            <a:off x="1071000" y="3642480"/>
            <a:ext cx="2858040" cy="3582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59" name="Connecteur droit avec flèche 13"/>
          <p:cNvCxnSpPr/>
          <p:nvPr/>
        </p:nvCxnSpPr>
        <p:spPr>
          <a:xfrm>
            <a:off x="4070880" y="4142880"/>
            <a:ext cx="429480" cy="14295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8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1"/>
          <a:srcRect l="7975" t="5841" r="10903" b="8443"/>
          <a:stretch/>
        </p:blipFill>
        <p:spPr>
          <a:xfrm>
            <a:off x="214200" y="2500200"/>
            <a:ext cx="5500800" cy="39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rcRect l="9292" t="3991" r="11065" b="6253"/>
          <a:stretch/>
        </p:blipFill>
        <p:spPr>
          <a:xfrm>
            <a:off x="357120" y="2768760"/>
            <a:ext cx="5143680" cy="3857400"/>
          </a:xfrm>
          <a:prstGeom prst="rect">
            <a:avLst/>
          </a:prstGeom>
          <a:ln w="0">
            <a:noFill/>
          </a:ln>
        </p:spPr>
      </p:pic>
      <p:sp>
        <p:nvSpPr>
          <p:cNvPr id="67" name="ZoneTexte 9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ZoneTexte 7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rcRect l="5557" t="7051" r="6943" b="8307"/>
          <a:stretch/>
        </p:blipFill>
        <p:spPr>
          <a:xfrm>
            <a:off x="285840" y="3000240"/>
            <a:ext cx="5500440" cy="31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oneTexte 8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rcRect l="7975" t="5841" r="10903" b="8443"/>
          <a:stretch/>
        </p:blipFill>
        <p:spPr>
          <a:xfrm>
            <a:off x="214200" y="2500200"/>
            <a:ext cx="5500800" cy="39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ZoneTexte 8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rcRect l="12313" t="20834" r="10097" b="10709"/>
          <a:stretch/>
        </p:blipFill>
        <p:spPr>
          <a:xfrm>
            <a:off x="357120" y="3000240"/>
            <a:ext cx="5478480" cy="26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ZoneTexte 7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1"/>
          <a:srcRect l="5557" t="7051" r="6943" b="8307"/>
          <a:stretch/>
        </p:blipFill>
        <p:spPr>
          <a:xfrm>
            <a:off x="285840" y="3000240"/>
            <a:ext cx="5500440" cy="3143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01-18T22:24:53Z</dcterms:modified>
  <cp:revision>41</cp:revision>
  <dc:subject/>
  <dc:title>8 x 4</dc:title>
</cp:coreProperties>
</file>