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F888-BABD-439D-8C45-6FC824AE45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9E3-5F91-403C-9CDB-5F729209C1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18FC-4B8C-4B1A-BAE3-A92E4CF9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168-7039-40FE-A6A4-5DD09B68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BFEB-107B-4349-AB38-37A8D433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2C9-7076-4FC5-9091-DEB07E15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D93-CCAC-4A62-83D0-19D5222B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E73-E779-426C-BCC1-C37DC742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9ECD-1395-4D82-BEE4-0A4D0C3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6298-30E5-4487-8966-9AA4D934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0E8-512A-4A32-9A80-02937854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B638-13BF-4F06-8F34-0C81A0D6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907-68DA-4631-80F0-74140341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490-69F6-4E5A-A5F1-6F4585D1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B0C2-5C0E-49DB-87C1-FA69CEB22830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3:16Z</dcterms:modified>
  <cp:revision>20</cp:revision>
  <dc:subject/>
  <dc:title>8 x 4</dc:title>
</cp:coreProperties>
</file>