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C126-B4CB-4E74-B35F-1136525814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896-57D6-409D-8F54-4213122486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B21B-2F10-459D-9CCE-FDB4A248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4DAE-A53B-4153-AC67-7ED2A70A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BB6-EAEC-424B-8365-E521A13E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B120-2AC6-4FC5-AF64-D107CBAE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446-F034-4232-8F0E-4E061E8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DD2C-B790-4964-99BA-7987E196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0D8-CFB4-493A-B8F9-8CBB0CE8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C52-5FE7-444C-908C-B2EB721C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DA7-8724-4C92-AB81-F14E1D85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87FB-3FAA-4EAF-8019-230C891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140-C9D6-48BF-8DF2-6BBD738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BB7-D2BE-43D5-8169-7881579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ADAF-6DB9-45D3-A54E-BD3E69301E8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Simplifications de f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avec les tab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10-05T17:02:57Z</dcterms:modified>
  <cp:revision>19</cp:revision>
  <dc:subject/>
  <dc:title>8 x 4</dc:title>
</cp:coreProperties>
</file>