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9671-65E3-461F-B6D0-6967CCF2C9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DD6A-0D93-46C9-8988-1F5DAFAF84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804-D89A-4308-9FEA-1F66C400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6B15-E97D-4FFF-838D-B9B93C96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21B-BCFF-49D9-95A0-35DBCDB1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968-866E-4267-95FE-B5DD07BA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B02-5551-43B5-8233-D2803ACE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796-35FA-4EE5-BD98-8D0E6C31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95A-0708-494E-AC4B-9AD0EB96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051-0D6F-4A50-8713-FAFC36F9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DDEA-4DD1-466A-B576-2007BF9D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9CED-AE2D-4D37-8576-FF3F7BBF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2E2-5A44-4C1E-A098-F27FBDB8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B67-C4B2-44E2-A2E8-E679505D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623D-80CA-4E2D-819E-FEF1A51C28A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ddition et soustrac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012680" y="2357280"/>
                <a:ext cx="71344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012680" y="2357280"/>
                <a:ext cx="713448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2:53:49Z</dcterms:modified>
  <cp:revision>44</cp:revision>
  <dc:subject/>
  <dc:title>8 x 4</dc:title>
</cp:coreProperties>
</file>