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CF72-3A84-4F97-AFF7-A7465DF001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F528-9741-4F1C-B0F3-7BBB5A1C57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1330-AA25-4720-90E4-D777487AC3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8D28-8DE4-4C8F-9F18-2573394D7B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DEF5-D673-4FE1-B784-7FDACCFA05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B697-0412-4D73-92D8-9A2019CAAE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D89B-F0D9-40CE-B310-F11E5D6808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927B-6C87-4E65-A416-6D5B8D6B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438-0FC9-4B33-87B7-19DB09F4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8DF-D46D-4876-A203-98B1C8E9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571F-2F0D-4EC2-A0B7-3100D664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0231-308C-4FEF-AFFF-D414FBD3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E61-BB9D-475B-9880-0F992B84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F81-2104-4BCE-8794-7DAE70A0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330-0F42-4709-A64E-22D70737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D23-992D-4D98-BD37-1A5FBB69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FA2-FEDE-4788-AD7A-DA579E8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8159-F887-4A92-8F22-C6D1F274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DFB-4880-44A0-B4A3-63E71887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107C-7022-4C55-B6CB-1D160D463F6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42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1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priorités de calc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triangles et droites remarqu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3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fractions (simplifications comparai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714400"/>
            <a:ext cx="857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roduit de 20 par la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ifférence de 5 et 3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9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3,15 × 101 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6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01,5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8,1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 3 et du produit 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e 2 par 5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7"/>
          <p:cNvSpPr/>
          <p:nvPr/>
        </p:nvSpPr>
        <p:spPr>
          <a:xfrm>
            <a:off x="857160" y="2857680"/>
            <a:ext cx="45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3,8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8,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508120" y="1000080"/>
                <a:ext cx="5540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1357200" y="4643280"/>
                <a:ext cx="801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3</m:t>
                        </m:r>
                      </m:num>
                      <m:den>
                        <m:r>
                          <m:t xml:space="preserve">0,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13,7 × 62,5 + 13,7 × 37,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1,32 × 18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 21,32 × 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50 – [3 × (4 + 5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12-07T20:04:08Z</dcterms:modified>
  <cp:revision>49</cp:revision>
  <dc:subject/>
  <dc:title>8 x 4</dc:title>
</cp:coreProperties>
</file>