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1C5D-9ED0-4F20-AC1F-1950B10EA6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DC1E-4E56-4F56-9F94-DF50A10D29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D1DB-568D-4078-931A-BD5A536F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EDC-260F-4FF8-8880-E8D1F9C3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5D5-68EE-4D82-8621-A27775E2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485-A22F-4DED-93E4-9D0D96D9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5A6-5BF6-4206-87FF-E2991AC2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E20-544E-4F5D-8B95-8C7AB91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01D-0937-4B33-8E10-DACDB679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6D8-66CE-4643-95AD-D1A32319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49A-663F-454E-9423-61750D8B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D00-7097-415A-B1C8-514107E1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A3D-D1E2-4DF1-BAB4-652A4574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8FA-C889-4F8E-A17F-56F8D036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0E94-358E-4100-849B-CDEBFE806A8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,87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82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98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82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7,237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18T08:39:42Z</dcterms:modified>
  <cp:revision>24</cp:revision>
  <dc:subject/>
  <dc:title>8 x 4</dc:title>
</cp:coreProperties>
</file>