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91CE-555B-4DCA-B3AB-2B2A1BEC58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35C1-518E-4D75-8E71-8F35184EEB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97C-64A0-4622-BB15-EEAC22CFC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7351-D3EE-43B7-B0DA-CEACEC9B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906-4EF5-4D61-BC83-B2677A90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D2B-D3B9-4EDB-AC29-C4795C48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BFE-E324-4F2B-ACB9-1472C136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AF0-A4E3-49D4-92C9-E3E853AE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F51-C275-49F1-81CF-767FB197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AA6-A5E2-41E8-9136-AAA2FAB0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010-3A63-40D6-BBA8-876D44F4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899-0F98-4F08-B1AE-C302B656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C3D-7B66-4DB7-8F84-69DD9DF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64A-CD86-46C4-83D7-607ECCE6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B994-8EF2-4CD8-836A-9E7462911D6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Géométri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ngles dans un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rcRect l="0" t="10385" r="3849" b="11771"/>
          <a:stretch/>
        </p:blipFill>
        <p:spPr>
          <a:xfrm>
            <a:off x="857160" y="2214720"/>
            <a:ext cx="4357800" cy="373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5929200" y="2617920"/>
                <a:ext cx="25718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5900760" y="2643120"/>
                <a:ext cx="2628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9" name="Picture 8" descr=""/>
          <p:cNvPicPr/>
          <p:nvPr/>
        </p:nvPicPr>
        <p:blipFill>
          <a:blip r:embed="rId1"/>
          <a:srcRect l="2176" t="6733" r="6252" b="10184"/>
          <a:stretch/>
        </p:blipFill>
        <p:spPr>
          <a:xfrm>
            <a:off x="785880" y="2071800"/>
            <a:ext cx="47862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3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5900760" y="2643120"/>
                <a:ext cx="2628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Picture 8" descr=""/>
          <p:cNvPicPr/>
          <p:nvPr/>
        </p:nvPicPr>
        <p:blipFill>
          <a:blip r:embed="rId1"/>
          <a:srcRect l="2176" t="6733" r="6252" b="10184"/>
          <a:stretch/>
        </p:blipFill>
        <p:spPr>
          <a:xfrm>
            <a:off x="785880" y="2071800"/>
            <a:ext cx="47862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rcRect l="0" t="12706" r="0" b="11019"/>
          <a:stretch/>
        </p:blipFill>
        <p:spPr>
          <a:xfrm>
            <a:off x="357120" y="2643120"/>
            <a:ext cx="7264440" cy="27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Object 6"/>
              <p:cNvSpPr txBox="1"/>
              <p:nvPr/>
            </p:nvSpPr>
            <p:spPr>
              <a:xfrm>
                <a:off x="5843520" y="2643120"/>
                <a:ext cx="2743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rcRect l="0" t="10385" r="3849" b="11771"/>
          <a:stretch/>
        </p:blipFill>
        <p:spPr>
          <a:xfrm>
            <a:off x="857160" y="2214720"/>
            <a:ext cx="4357800" cy="3735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5929200" y="2585880"/>
                <a:ext cx="2571840" cy="10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rcRect l="0" t="12706" r="0" b="11019"/>
          <a:stretch/>
        </p:blipFill>
        <p:spPr>
          <a:xfrm>
            <a:off x="357120" y="2643120"/>
            <a:ext cx="7264440" cy="278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5843520" y="2643120"/>
                <a:ext cx="27432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1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10-01-21T14:49:46Z</dcterms:modified>
  <cp:revision>36</cp:revision>
  <dc:subject/>
  <dc:title>8 x 4</dc:title>
</cp:coreProperties>
</file>