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1AFDE-2AA1-4C14-9B05-F700DAB13D9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EC133-9D2D-495E-8950-9DC6FC1C736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7AF5-D66C-4AA4-ADC1-4831E4FA2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DEAC-80CD-4EA2-A1A9-420211F3A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184F-69B0-4C68-88E5-70C516B41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19AF-F906-4987-A49D-EA8954561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D1BC-13BC-4A09-B4AA-0602FE544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231D-9B14-4C0F-9EDE-C2287C629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D6BC-FEF5-4BDE-90AF-B4BEC6B66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F9AE-D741-4EB4-84E7-514B21BD0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A84B-BB45-4EBC-9D26-9F05F0543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B38D-4D0B-45DE-A872-6B069A9FA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7539-6B39-4DFF-8B95-929C162CA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F1BF-6DCE-4FC6-A438-72978105B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E0225-747F-4B3D-96B3-FDB533CEFEC8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1571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800" spc="-1" strike="noStrike">
                <a:solidFill>
                  <a:srgbClr val="ff0000"/>
                </a:solidFill>
                <a:latin typeface="Arial"/>
              </a:rPr>
              <a:t>Calcul mental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0" y="3571920"/>
            <a:ext cx="91440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Calculer en respecta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les priorités opératoi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800" spc="-1" strike="noStrike">
                <a:solidFill>
                  <a:srgbClr val="000000"/>
                </a:solidFill>
                <a:latin typeface="Arial"/>
              </a:rPr>
              <a:t>30 – [3 × (4 + 3)]</a:t>
            </a:r>
            <a:endParaRPr b="0" lang="en-US" sz="7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0000"/>
                </a:solidFill>
                <a:latin typeface="Arial"/>
              </a:rPr>
              <a:t>5 × 6 – 3 × 8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3429000" y="1714680"/>
            <a:ext cx="345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ff0000"/>
                </a:solidFill>
                <a:latin typeface="Arial"/>
              </a:rPr>
              <a:t>FI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"/>
          <p:cNvSpPr/>
          <p:nvPr/>
        </p:nvSpPr>
        <p:spPr>
          <a:xfrm>
            <a:off x="2500200" y="3643200"/>
            <a:ext cx="471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Posez les sty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5840" y="2492280"/>
            <a:ext cx="85723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800" spc="-1" strike="noStrike">
                <a:solidFill>
                  <a:srgbClr val="000000"/>
                </a:solidFill>
                <a:latin typeface="Arial"/>
              </a:rPr>
              <a:t>9 × (3 + 5)</a:t>
            </a:r>
            <a:endParaRPr b="0" lang="en-US" sz="7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0000"/>
                </a:solidFill>
                <a:latin typeface="Arial"/>
              </a:rPr>
              <a:t>4 + 4 × 7 – 1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800" spc="-1" strike="noStrike">
                <a:solidFill>
                  <a:srgbClr val="000000"/>
                </a:solidFill>
                <a:latin typeface="Arial"/>
              </a:rPr>
              <a:t>(3 + 4) × (9 – 2)</a:t>
            </a:r>
            <a:endParaRPr b="0" lang="en-US" sz="7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800" spc="-1" strike="noStrike">
                <a:solidFill>
                  <a:srgbClr val="000000"/>
                </a:solidFill>
                <a:latin typeface="Arial"/>
              </a:rPr>
              <a:t>9 × (3 + 5)</a:t>
            </a:r>
            <a:endParaRPr b="0" lang="en-US" sz="7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0000"/>
                </a:solidFill>
                <a:latin typeface="Arial"/>
              </a:rPr>
              <a:t>4 + 4 × 7 – 1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800" spc="-1" strike="noStrike">
                <a:solidFill>
                  <a:srgbClr val="000000"/>
                </a:solidFill>
                <a:latin typeface="Arial"/>
              </a:rPr>
              <a:t>(3 + 4) × (9 – 2)</a:t>
            </a:r>
            <a:endParaRPr b="0" lang="en-US" sz="7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0000"/>
                </a:solidFill>
                <a:latin typeface="Arial"/>
              </a:rPr>
              <a:t>5 × 6 – 3 × 8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800" spc="-1" strike="noStrike">
                <a:solidFill>
                  <a:srgbClr val="000000"/>
                </a:solidFill>
                <a:latin typeface="Arial"/>
              </a:rPr>
              <a:t>40 – [3 × (4 + 3)]</a:t>
            </a:r>
            <a:endParaRPr b="0" lang="en-US" sz="7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9T21:06:10Z</dcterms:created>
  <dc:creator>bayle</dc:creator>
  <dc:description/>
  <dc:language>en-US</dc:language>
  <cp:lastModifiedBy>Raphaël</cp:lastModifiedBy>
  <dcterms:modified xsi:type="dcterms:W3CDTF">2008-09-11T17:12:16Z</dcterms:modified>
  <cp:revision>36</cp:revision>
  <dc:subject/>
  <dc:title>8 x 4</dc:title>
</cp:coreProperties>
</file>