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1F8D-4D8C-4C96-8B0B-D76B919196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BD62-E96F-4498-B188-EB96596A5C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1943-3337-4CED-A916-75DC5C64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BCDD-DA7E-4D59-AB31-A750FA4C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71D-15F2-4DA5-86A4-D6042328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0B4-4469-41EC-8E52-64809C49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20C-E8E3-4EA9-95C7-82BB5636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B73-FF51-4BC4-8578-4EC2A165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D1B-E451-468F-B890-2580CA6D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06A-3A2B-427F-A767-83DE5B55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3FE-A190-44F1-B380-184EFDC9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D96-ED91-4879-A35E-9C38541C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7DF-95FB-4F0C-9E50-17494F25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0D4-0A17-4641-B5CC-AC74C38A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50E7-4129-48F4-8D5C-D465568FBD1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et opé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ddi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357200" y="2357280"/>
                <a:ext cx="64454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1012680" y="2357280"/>
                <a:ext cx="713592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357200" y="2357280"/>
                <a:ext cx="644364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1069920" y="2357280"/>
                <a:ext cx="7020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28T12:47:56Z</dcterms:modified>
  <cp:revision>42</cp:revision>
  <dc:subject/>
  <dc:title>8 x 4</dc:title>
</cp:coreProperties>
</file>