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CF9B-757D-48A4-B41F-665121611B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90B0-943C-4F9B-9BD1-BF5E85BE3B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AF4-A850-4C57-87C9-752663DA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AE07-3D27-4438-A0CE-1048E8C4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892-F6A2-45DA-9747-1A2D4D92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926-7F82-4AFA-97B3-5D5AB16E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EC6B-2032-401E-AD86-14D650F3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896-936B-4ADE-9D57-21FCD53E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A87-6B7B-4687-80B8-8703FFA6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0AC5-357F-43F3-95C7-AC715B08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0FE-9C06-4CA6-A348-E5CC5BD0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7DE-9F33-488C-8129-325579AC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43A9-D272-4922-A11A-B18AE425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3C2-A304-45F3-A97E-B3CA5A99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294D-315B-4F28-B76A-852D3A1736D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Triangles et droites remarqu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85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89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8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10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6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73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81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14T05:36:28Z</dcterms:modified>
  <cp:revision>30</cp:revision>
  <dc:subject/>
  <dc:title>8 x 4</dc:title>
</cp:coreProperties>
</file>