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4B09-02F3-42CE-921B-87D1E104EA9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27EC-643C-46F6-89F0-B5A967E7B24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805A-1233-4FCF-AF8A-B10A215B2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69B6-2D44-44EC-9BD2-0EA520B3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3C0D-B18B-4048-B433-4947EA49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0441-C77B-4319-A169-D420A86E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A5F7-0178-40F4-B58E-BF322209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1B37-467D-450D-AF00-BCF1DAE9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63EB-D330-438E-8D35-8AAA7C18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06D5-CA43-4676-B5B4-40A982C3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C4C3-62DC-4D59-9FC2-BDF9520A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3E64-72A8-4E4B-BD36-15C8BEEB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FB35-1E73-4648-A21F-70DA607D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0DF3-1BD1-44E0-95AB-8D1607DF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6953-EBD3-47DE-B1E7-3236C537B8A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omparaison de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compléter par &lt; ou &gt;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6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8"/>
              <p:cNvSpPr txBox="1"/>
              <p:nvPr/>
            </p:nvSpPr>
            <p:spPr>
              <a:xfrm>
                <a:off x="5313240" y="2428920"/>
                <a:ext cx="17290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6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8"/>
              <p:cNvSpPr txBox="1"/>
              <p:nvPr/>
            </p:nvSpPr>
            <p:spPr>
              <a:xfrm>
                <a:off x="5313240" y="2428920"/>
                <a:ext cx="17290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8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6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8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8"/>
              <p:cNvSpPr txBox="1"/>
              <p:nvPr/>
            </p:nvSpPr>
            <p:spPr>
              <a:xfrm>
                <a:off x="5141880" y="2428920"/>
                <a:ext cx="20732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6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8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6"/>
              <p:cNvSpPr txBox="1"/>
              <p:nvPr/>
            </p:nvSpPr>
            <p:spPr>
              <a:xfrm>
                <a:off x="2130480" y="2428920"/>
                <a:ext cx="13809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8"/>
              <p:cNvSpPr txBox="1"/>
              <p:nvPr/>
            </p:nvSpPr>
            <p:spPr>
              <a:xfrm>
                <a:off x="5141880" y="2428920"/>
                <a:ext cx="20750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6"/>
              <p:cNvSpPr txBox="1"/>
              <p:nvPr/>
            </p:nvSpPr>
            <p:spPr>
              <a:xfrm>
                <a:off x="2189160" y="2428920"/>
                <a:ext cx="12654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8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8"/>
              <p:cNvSpPr txBox="1"/>
              <p:nvPr/>
            </p:nvSpPr>
            <p:spPr>
              <a:xfrm>
                <a:off x="5141880" y="2428920"/>
                <a:ext cx="20732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8"/>
              <p:cNvSpPr txBox="1"/>
              <p:nvPr/>
            </p:nvSpPr>
            <p:spPr>
              <a:xfrm>
                <a:off x="5141880" y="2428920"/>
                <a:ext cx="20732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10:57Z</dcterms:modified>
  <cp:revision>36</cp:revision>
  <dc:subject/>
  <dc:title>8 x 4</dc:title>
</cp:coreProperties>
</file>