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8169-9D91-427A-9959-1DF47F0BC1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54D0-8B5A-4E1B-9413-64A618FDC7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592-CD5D-4360-8232-014B8DD1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A9B-8AE0-406A-8B9A-C435AD56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A3B8-0197-433E-99AD-36EB85ED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98A-CFDF-4CD3-B1CA-63069E16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FCB-CA7C-474F-A790-65D2F97D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339-3177-4944-9EB3-CF3DE894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EB9-6922-420B-9F5A-16A53DA2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08B-8935-4294-A981-E76631AB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3A3B-BCA9-4CDB-A103-71C52D29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B89-39AC-4BEA-925F-C18B75EA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B2CF-8D8D-4A97-99BF-D5482ECD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A51-774C-4A4D-9A69-6778B092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CEC7-244D-4BD4-AB1B-BEACE3E1C4D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Organiser astucieusement une somme de deux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228564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691</a:t>
            </a:r>
            <a:r>
              <a:rPr b="0" lang="fr-FR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+ 28,6 + 43 + 309 + 57 + 1,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691</a:t>
            </a:r>
            <a:r>
              <a:rPr b="0" lang="fr-FR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500" spc="-1" strike="noStrike">
                <a:solidFill>
                  <a:srgbClr val="000000"/>
                </a:solidFill>
                <a:latin typeface="Arial"/>
              </a:rPr>
              <a:t>+ 28,6 + 43 + 309 + 57 + 1,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150 + 80 + 50 +70 + 20 +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5840" y="2357280"/>
            <a:ext cx="8501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250 + 80 + 50 +70 + 20 +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43 + 85 + 17 + 72 + 18 +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2357280"/>
            <a:ext cx="8429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63 + 85 + 17 + 52 + 18 + 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6,4</a:t>
            </a:r>
            <a:r>
              <a:rPr b="0" lang="fr-FR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+ 2,3 + 5,9 + 7,7 + 3,6 + 2,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6,4</a:t>
            </a:r>
            <a:r>
              <a:rPr b="0" lang="fr-FR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4600" spc="-1" strike="noStrike">
                <a:solidFill>
                  <a:srgbClr val="000000"/>
                </a:solidFill>
                <a:latin typeface="Arial"/>
              </a:rPr>
              <a:t>+ 2,3 + 5,9 + 7,7 + 3,6 + 2,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700" spc="-1" strike="noStrike">
                <a:solidFill>
                  <a:srgbClr val="000000"/>
                </a:solidFill>
                <a:latin typeface="Arial"/>
              </a:rPr>
              <a:t>260 + 50 + 40 +12,5 + 50 + 7,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01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700" spc="-1" strike="noStrike">
                <a:solidFill>
                  <a:srgbClr val="000000"/>
                </a:solidFill>
                <a:latin typeface="Arial"/>
              </a:rPr>
              <a:t>360 + 50 + 40 +12,5 + 50 + 7,5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2:24Z</dcterms:modified>
  <cp:revision>23</cp:revision>
  <dc:subject/>
  <dc:title>8 x 4</dc:title>
</cp:coreProperties>
</file>