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BBC-2AF3-400E-88DC-F6D06755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591-B870-4CC9-9AAF-9B26F8FA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CC3-A85F-4E91-BE0B-9419EAF0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38E-C073-4DB5-8BFE-51002AD9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F03-4829-42EA-8F50-55782A3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D94-6C01-4FD4-BEE8-3A336D9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F19-59A2-422E-A4AA-0F4B3101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5DC-D076-409C-9966-5B3BFAE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225-A6F3-4E57-9AC2-D35FA83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388-4BE2-4764-9FF0-88D8DF2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639-ADAF-4AFB-B19C-5A362E3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384-F71F-4596-BBD8-E1AFFED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F40-1DC1-4D40-8B67-6A7E52B2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" y="6203880"/>
            <a:ext cx="84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en d’élèves ont répondu à ce sond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02600" y="601488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le est la fréquence des élèves ayant vu 4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645000"/>
          <a:ext cx="3377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33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33240" y="433224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3573360"/>
          <a:ext cx="379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379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33600" y="4260960"/>
            <a:ext cx="84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3500280"/>
          <a:ext cx="373392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7339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3800" y="5052960"/>
            <a:ext cx="86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3429000"/>
          <a:ext cx="645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645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429000"/>
          <a:ext cx="2514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2514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20560" y="3971880"/>
            <a:ext cx="847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un nombre compris 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 et 25: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3429000"/>
          <a:ext cx="3009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3009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88880" y="404496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3429000"/>
          <a:ext cx="31240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29000"/>
                    <a:ext cx="3124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88160" y="526896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65530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00280"/>
                    <a:ext cx="6553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250920" y="5300640"/>
          <a:ext cx="85089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300640"/>
                    <a:ext cx="850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476360" y="4941720"/>
          <a:ext cx="623556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941720"/>
                    <a:ext cx="6235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8920" y="1523880"/>
            <a:ext cx="73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920" y="1523880"/>
            <a:ext cx="663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6T20:17:49Z</dcterms:modified>
  <cp:revision>21</cp:revision>
  <dc:subject/>
  <dc:title>Diapositive 1</dc:title>
</cp:coreProperties>
</file>