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B17A-AE67-4114-BFB9-AE32B96E66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7778-C1D0-4C4C-A7B4-661163CF66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F9EF-CE15-443C-8D55-80298B1EF79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63B7-1B33-4782-87F7-2F9D8FE1F5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FCC1-1240-4635-9388-F6BB6EAAD0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255F-3F4F-4D98-BFC1-1FF965FDE8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0F4B-EAE5-435A-933E-BD791D3CD0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C1F1-8A37-4F13-934D-FA2C824B1FA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C309-6A52-47BE-AA4D-FC77AA8733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6DCF-D095-4E9C-B44C-3BB0415264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3B3F-FD34-48C8-9E18-D45EA26CE5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FEFF-7D88-4A3E-97A4-E18AFEF68B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BA7A-1505-4327-8978-62A21E87CD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A3CE-8965-44F4-B850-3ECA52C4A9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BB20-9E9C-45EE-8052-EB552D6214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DE09-3A0D-43A8-B904-E82C38AA3D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E9C1-B4C0-41FC-A822-F5F2340B6F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AED1-CA2A-4804-9C7A-CDC8BC1245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7034-BDEB-4E5B-845A-227C37505B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969E-DCD8-4D46-9228-1C7FDA2B2B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C9D8-7D7E-4B3C-94C1-9074AA496C9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9749-7609-4064-A9C3-999EE62CF6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A25B-C51A-4C79-87F3-C77FEDEC23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59D6-C93C-4296-9AA9-413AF4BDDA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8C18-5C7C-48FC-A90E-E04086B625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8269-A215-483A-A2B6-59CCCB89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76EA-DCD2-4EFA-86D5-B4284867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B15D-F21B-46D9-8B4A-36B34975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DE5F-E7AF-4C24-88B1-F054BD16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8B03-B4DD-4D60-AF44-E2FE4E42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4440-6DA1-464F-BDF3-01659F96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9700-624B-4630-9BCA-2A64E9D4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1F80-B98A-42F3-95DB-059C73D9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A363-17AE-437C-BABC-525F7078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8379-4642-4CE9-9CBB-DAABEFA6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3253-507E-4F07-9504-A5710FCE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4675-FFDE-4798-8ABF-D67EECF3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31DA-933F-490B-B925-DB2876A8729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317160" y="1379520"/>
            <a:ext cx="57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une fonction linéair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87280" y="2205000"/>
          <a:ext cx="5848560" cy="115884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2320"/>
                <a:gridCol w="14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 Box 46"/>
          <p:cNvSpPr/>
          <p:nvPr/>
        </p:nvSpPr>
        <p:spPr>
          <a:xfrm>
            <a:off x="303120" y="3971880"/>
            <a:ext cx="59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 est l’antécédent de 30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8"/>
          <p:cNvSpPr/>
          <p:nvPr/>
        </p:nvSpPr>
        <p:spPr>
          <a:xfrm>
            <a:off x="303480" y="1379520"/>
            <a:ext cx="575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f une fonction linéair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87280" y="2205000"/>
          <a:ext cx="5848560" cy="115884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2320"/>
                <a:gridCol w="14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519120" y="3900600"/>
            <a:ext cx="59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 est l’antécédent de 1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26"/>
          <p:cNvGraphicFramePr/>
          <p:nvPr/>
        </p:nvGraphicFramePr>
        <p:xfrm>
          <a:off x="2484360" y="2492280"/>
          <a:ext cx="32130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492280"/>
                    <a:ext cx="3213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27"/>
          <p:cNvGraphicFramePr/>
          <p:nvPr/>
        </p:nvGraphicFramePr>
        <p:xfrm>
          <a:off x="1835280" y="3645000"/>
          <a:ext cx="467352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645000"/>
                    <a:ext cx="46735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26"/>
          <p:cNvGraphicFramePr/>
          <p:nvPr/>
        </p:nvGraphicFramePr>
        <p:xfrm>
          <a:off x="2124000" y="2781360"/>
          <a:ext cx="36324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781360"/>
                    <a:ext cx="36324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27"/>
          <p:cNvGraphicFramePr/>
          <p:nvPr/>
        </p:nvGraphicFramePr>
        <p:xfrm>
          <a:off x="1258920" y="4221000"/>
          <a:ext cx="546084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4221000"/>
                    <a:ext cx="54608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Object 26"/>
          <p:cNvGraphicFramePr/>
          <p:nvPr/>
        </p:nvGraphicFramePr>
        <p:xfrm>
          <a:off x="2627280" y="1916280"/>
          <a:ext cx="3213000" cy="77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916280"/>
                    <a:ext cx="3213000" cy="77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27"/>
          <p:cNvGraphicFramePr/>
          <p:nvPr/>
        </p:nvGraphicFramePr>
        <p:xfrm>
          <a:off x="2050920" y="3284640"/>
          <a:ext cx="4445280" cy="27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284640"/>
                    <a:ext cx="444528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27"/>
          <p:cNvGraphicFramePr/>
          <p:nvPr/>
        </p:nvGraphicFramePr>
        <p:xfrm>
          <a:off x="2700360" y="1268280"/>
          <a:ext cx="3213000" cy="53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268280"/>
                    <a:ext cx="321300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Object 37"/>
          <p:cNvGraphicFramePr/>
          <p:nvPr/>
        </p:nvGraphicFramePr>
        <p:xfrm>
          <a:off x="2627280" y="1268280"/>
          <a:ext cx="3619440" cy="53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268280"/>
                    <a:ext cx="361944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5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17760" cy="5038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6"/>
          <p:cNvSpPr/>
          <p:nvPr/>
        </p:nvSpPr>
        <p:spPr>
          <a:xfrm>
            <a:off x="5868360" y="3429000"/>
            <a:ext cx="12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cc0000"/>
                </a:solidFill>
                <a:latin typeface="Times New Roman"/>
              </a:rPr>
              <a:t>y=3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2"/>
          <p:cNvSpPr/>
          <p:nvPr/>
        </p:nvSpPr>
        <p:spPr>
          <a:xfrm>
            <a:off x="339840" y="1523880"/>
            <a:ext cx="769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a fonction linéaire définie pa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33"/>
          <p:cNvGraphicFramePr/>
          <p:nvPr/>
        </p:nvGraphicFramePr>
        <p:xfrm>
          <a:off x="2484360" y="2492280"/>
          <a:ext cx="32130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492280"/>
                    <a:ext cx="3213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34"/>
          <p:cNvSpPr/>
          <p:nvPr/>
        </p:nvSpPr>
        <p:spPr>
          <a:xfrm>
            <a:off x="1274760" y="3933720"/>
            <a:ext cx="574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r l’image de 2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6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4214880" cy="50403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27"/>
          <p:cNvSpPr/>
          <p:nvPr/>
        </p:nvSpPr>
        <p:spPr>
          <a:xfrm>
            <a:off x="5129280" y="2820960"/>
            <a:ext cx="139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cc0000"/>
                </a:solidFill>
                <a:latin typeface="Times New Roman"/>
              </a:rPr>
              <a:t>y=-2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87280" y="2205000"/>
          <a:ext cx="5848560" cy="115884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2320"/>
                <a:gridCol w="14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 Box 43"/>
          <p:cNvSpPr/>
          <p:nvPr/>
        </p:nvSpPr>
        <p:spPr>
          <a:xfrm>
            <a:off x="896040" y="3971880"/>
            <a:ext cx="538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image de 5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est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15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87280" y="2205000"/>
          <a:ext cx="5848560" cy="115884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2320"/>
                <a:gridCol w="14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43"/>
          <p:cNvSpPr/>
          <p:nvPr/>
        </p:nvSpPr>
        <p:spPr>
          <a:xfrm>
            <a:off x="606960" y="390060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antécédent de 30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est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10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187280" y="2205000"/>
          <a:ext cx="5848560" cy="115884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2320"/>
                <a:gridCol w="14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43"/>
          <p:cNvSpPr/>
          <p:nvPr/>
        </p:nvSpPr>
        <p:spPr>
          <a:xfrm>
            <a:off x="1764360" y="4076640"/>
            <a:ext cx="527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antécédent de 15 est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8"/>
          <p:cNvSpPr/>
          <p:nvPr/>
        </p:nvSpPr>
        <p:spPr>
          <a:xfrm>
            <a:off x="353880" y="1523880"/>
            <a:ext cx="769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a fonction linéaire définie pa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29"/>
          <p:cNvGraphicFramePr/>
          <p:nvPr/>
        </p:nvGraphicFramePr>
        <p:xfrm>
          <a:off x="2124000" y="2781360"/>
          <a:ext cx="36324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781360"/>
                    <a:ext cx="36324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30"/>
          <p:cNvSpPr/>
          <p:nvPr/>
        </p:nvSpPr>
        <p:spPr>
          <a:xfrm>
            <a:off x="520560" y="4548240"/>
            <a:ext cx="469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r l’image de 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353880" y="1523880"/>
            <a:ext cx="769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a fonction linéaire définie pa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27"/>
          <p:cNvGraphicFramePr/>
          <p:nvPr/>
        </p:nvGraphicFramePr>
        <p:xfrm>
          <a:off x="2556000" y="2565360"/>
          <a:ext cx="32130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565360"/>
                    <a:ext cx="3213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28"/>
          <p:cNvSpPr/>
          <p:nvPr/>
        </p:nvSpPr>
        <p:spPr>
          <a:xfrm>
            <a:off x="375840" y="3900600"/>
            <a:ext cx="62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r un antécédent de 1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330840" y="2708280"/>
            <a:ext cx="881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e fonction linéaire tel que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(3)=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’expression de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8"/>
          <p:cNvSpPr/>
          <p:nvPr/>
        </p:nvSpPr>
        <p:spPr>
          <a:xfrm>
            <a:off x="331560" y="3068640"/>
            <a:ext cx="872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une fonction linéaire tel que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(-1)=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’expression de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8" descr=""/>
          <p:cNvPicPr/>
          <p:nvPr/>
        </p:nvPicPr>
        <p:blipFill>
          <a:blip r:embed="rId1"/>
          <a:stretch/>
        </p:blipFill>
        <p:spPr>
          <a:xfrm>
            <a:off x="0" y="1268280"/>
            <a:ext cx="4146480" cy="5427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9"/>
          <p:cNvSpPr/>
          <p:nvPr/>
        </p:nvSpPr>
        <p:spPr>
          <a:xfrm>
            <a:off x="4624560" y="2171880"/>
            <a:ext cx="441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’é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 cette droi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8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3502080" cy="5038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9"/>
          <p:cNvSpPr/>
          <p:nvPr/>
        </p:nvSpPr>
        <p:spPr>
          <a:xfrm>
            <a:off x="4624560" y="2171880"/>
            <a:ext cx="441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’é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 cette droi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9"/>
          <p:cNvSpPr/>
          <p:nvPr/>
        </p:nvSpPr>
        <p:spPr>
          <a:xfrm>
            <a:off x="317160" y="1379520"/>
            <a:ext cx="57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une fonction linéair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2205000"/>
          <a:ext cx="5848560" cy="115884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2320"/>
                <a:gridCol w="14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115"/>
          <p:cNvSpPr/>
          <p:nvPr/>
        </p:nvSpPr>
        <p:spPr>
          <a:xfrm>
            <a:off x="449280" y="3828960"/>
            <a:ext cx="51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’image de 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2-25T05:18:47Z</dcterms:modified>
  <cp:revision>28</cp:revision>
  <dc:subject/>
  <dc:title>Diapositive 1</dc:title>
</cp:coreProperties>
</file>