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93C-D400-4D17-9583-5D84870450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EDA8-66B0-444E-BC9D-93359F7ED6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77F-E394-46FD-9C37-499BD6AE1C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4E76-360E-4FAF-A535-2BC2D2B3FC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4DFA-E76C-490A-A0C6-FFBB365E20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85C-25F1-410D-B96D-3B0C1FCDA7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E25F-7768-4F74-86AB-9B441DA108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20CA-0E7C-4D47-8B32-F421EB003B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0DCE-073D-41F1-9B7A-F361A6E9D1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C600-5DAE-47D4-B761-0F89CFD975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134B-A3B9-4C77-872C-157F4BF42A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E781-8153-4724-8E18-9C26158EA3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7D0-8A83-48AC-AD2E-46CA50004B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07B-F8C5-4639-8D25-2C6890A22B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4A4-29A3-4AD5-9938-F72E817A4B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A9E9-87C8-4AA7-A249-C65DA99811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A13-07D3-40A3-BEBE-F55B071603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591-C1B7-4DA8-98F0-8D03FA7544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4D9A-D6C7-41F2-8329-587537FE14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F25D-8F75-4E9C-8413-3C7B829372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771-9856-47D0-87EB-BC9D247FA0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A6B-9F0B-4507-A3EC-78D02B35F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015-81EE-4D11-BE60-9EC8F7BFFC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9AA-F3B4-425C-9E8F-0AD2005599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8B96-CE75-48C9-94F6-FCEC3ED03A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41B-9383-41FB-AC74-A7905A44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4DE-A984-4AFC-AB8F-0D5370F4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E1D-2E0D-4498-9FD6-2CEDD11D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82C-B4F2-404C-B927-CC95DD72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544-FB20-4017-9C5B-BD497F12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C89-7AC6-44E9-8189-D9542B7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DF0-5E30-4CCF-86BE-8941ABA8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F8A-1E57-40F6-B249-C5BDA68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9AD-EA48-48C1-8AA0-5DD485E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B05-F7DB-422B-8C34-9542F627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C5C-149E-40F9-B2A6-975F908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AD7-8E4F-451D-BE66-1B6C18C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954-399B-47A1-ACDA-6EE1636EA8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692360" y="2465280"/>
            <a:ext cx="51609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79640" y="2825640"/>
            <a:ext cx="4773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4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05680" cy="3924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4"/>
          <p:cNvSpPr/>
          <p:nvPr/>
        </p:nvSpPr>
        <p:spPr>
          <a:xfrm>
            <a:off x="25200" y="580536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5724360" y="5877000"/>
          <a:ext cx="9399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877000"/>
                    <a:ext cx="939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5"/>
          <p:cNvGraphicFramePr/>
          <p:nvPr/>
        </p:nvGraphicFramePr>
        <p:xfrm>
          <a:off x="7380360" y="587700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87700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3052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4"/>
          <p:cNvSpPr/>
          <p:nvPr/>
        </p:nvSpPr>
        <p:spPr>
          <a:xfrm>
            <a:off x="19800" y="5445000"/>
            <a:ext cx="80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580000" y="5516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5516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7380360" y="551664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516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01948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4"/>
          <p:cNvGraphicFramePr/>
          <p:nvPr/>
        </p:nvGraphicFramePr>
        <p:xfrm>
          <a:off x="3780000" y="5732640"/>
          <a:ext cx="200628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732640"/>
                    <a:ext cx="2006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238720" cy="48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5312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4"/>
          <p:cNvGraphicFramePr/>
          <p:nvPr/>
        </p:nvGraphicFramePr>
        <p:xfrm>
          <a:off x="3451320" y="6054840"/>
          <a:ext cx="24382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1320" y="6054840"/>
                    <a:ext cx="24382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3053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3"/>
          <p:cNvGraphicFramePr/>
          <p:nvPr/>
        </p:nvGraphicFramePr>
        <p:xfrm>
          <a:off x="7308720" y="1916280"/>
          <a:ext cx="1079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916280"/>
                    <a:ext cx="1079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114800" cy="428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4"/>
          <p:cNvGraphicFramePr/>
          <p:nvPr/>
        </p:nvGraphicFramePr>
        <p:xfrm>
          <a:off x="3457440" y="6054840"/>
          <a:ext cx="24256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7440" y="6054840"/>
                    <a:ext cx="24256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3840" cy="451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3641760" y="6093000"/>
          <a:ext cx="205740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6093000"/>
                    <a:ext cx="20574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979640" y="1268280"/>
            <a:ext cx="516240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4"/>
          <p:cNvGraphicFramePr/>
          <p:nvPr/>
        </p:nvGraphicFramePr>
        <p:xfrm>
          <a:off x="3708360" y="5805360"/>
          <a:ext cx="20192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805360"/>
                    <a:ext cx="2019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77360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4"/>
          <p:cNvGraphicFramePr/>
          <p:nvPr/>
        </p:nvGraphicFramePr>
        <p:xfrm>
          <a:off x="3714840" y="5805360"/>
          <a:ext cx="20066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4840" y="5805360"/>
                    <a:ext cx="2006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30524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7380360" y="184464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184464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2124000" y="2695680"/>
            <a:ext cx="5019840" cy="41623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1011600" y="1557360"/>
            <a:ext cx="71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7"/>
          <p:cNvGraphicFramePr/>
          <p:nvPr/>
        </p:nvGraphicFramePr>
        <p:xfrm>
          <a:off x="6227640" y="1557360"/>
          <a:ext cx="10796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1079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979640" y="2028960"/>
            <a:ext cx="5238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2943360"/>
            <a:ext cx="435276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627280" y="316224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2571840"/>
            <a:ext cx="411480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95640" y="2343240"/>
            <a:ext cx="453384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18:15:30Z</dcterms:modified>
  <cp:revision>27</cp:revision>
  <dc:subject/>
  <dc:title>Diapositive 1</dc:title>
</cp:coreProperties>
</file>