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87E4-F835-4EA0-A235-E52950993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1969-6B76-4C1C-9921-3B38F7335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2854-4BC9-47EA-8026-D724E462B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45A2-4F3E-42FF-B376-7DE28D08B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DE65-6EAA-4A6F-90F2-FC0449EE8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EF96-DC39-40CA-A5E7-F9295A026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3C9A-FF08-4CF5-B43D-A24A5D661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5297-B5E3-4445-9E79-E5D78433F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B42A-66DF-4FDC-9539-7E995ACB9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3E2F-EEFD-4E03-9BD0-F3156765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B2FB-2103-4F50-98C8-9FCEAB2E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6583-0E33-4D3A-9844-0B1C8AF4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A0F92-4705-4081-B54E-4F114EF3D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851280" y="1989000"/>
          <a:ext cx="2628720" cy="88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1989000"/>
                    <a:ext cx="262872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3924360" y="4076640"/>
          <a:ext cx="2324160" cy="88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4076640"/>
                    <a:ext cx="232416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3000">
    <p:cover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1" dur="20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564000" y="2133720"/>
          <a:ext cx="316224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2133720"/>
                    <a:ext cx="316224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3479760" y="4076640"/>
          <a:ext cx="3187800" cy="77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79760" y="4076640"/>
                    <a:ext cx="318780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8" dur="10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708360" y="2133720"/>
          <a:ext cx="26798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2133720"/>
                    <a:ext cx="26798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3635280" y="4149720"/>
          <a:ext cx="262908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35280" y="4149720"/>
                    <a:ext cx="26290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3000">
    <p:cover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5" dur="20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1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155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155" fill="hold"/>
                                        <p:tgtEl>
                                          <p:spTgt spid="1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1155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1155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780000" y="1557360"/>
          <a:ext cx="295884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1557360"/>
                    <a:ext cx="295884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3780000" y="3645000"/>
          <a:ext cx="2654280" cy="170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3645000"/>
                    <a:ext cx="265428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0" dur="5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492360" y="2060640"/>
          <a:ext cx="37720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2060640"/>
                    <a:ext cx="37720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3348000" y="4221000"/>
          <a:ext cx="386100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4221000"/>
                    <a:ext cx="386100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7" dur="5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492360" y="1844640"/>
          <a:ext cx="3632400" cy="110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1844640"/>
                    <a:ext cx="363240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3276720" y="4149720"/>
          <a:ext cx="414000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4149720"/>
                    <a:ext cx="41400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4" dur="5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523880" y="1397160"/>
          <a:ext cx="6096240" cy="42004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104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s diviseurs de 42 sont </a:t>
                      </a:r>
                      <a:r>
                        <a:rPr b="0" lang="en-US" sz="4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, 2, 3, 6, 7, 14, 21, 4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4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s diviseurs de 48 sont </a:t>
                      </a:r>
                      <a:r>
                        <a:rPr b="0" lang="en-US" sz="4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, 2, 3, 4, 6, 8, 12, 16, 24, 4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1" dur="10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3203640" y="1989000"/>
          <a:ext cx="450828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989000"/>
                    <a:ext cx="450828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3348000" y="4149720"/>
          <a:ext cx="37465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4149720"/>
                    <a:ext cx="37465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8" dur="5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476360" y="981000"/>
          <a:ext cx="6095880" cy="1224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haut: SUJET 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1403280" y="3716280"/>
          <a:ext cx="6096240" cy="1368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bas: SUJET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132000" y="2205000"/>
          <a:ext cx="45212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2205000"/>
                    <a:ext cx="45212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3132000" y="4221000"/>
          <a:ext cx="454680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2000" y="4221000"/>
                    <a:ext cx="454680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5" dur="5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395280" y="1397160"/>
          <a:ext cx="8497800" cy="4063680"/>
        </p:xfrm>
        <a:graphic>
          <a:graphicData uri="http://schemas.openxmlformats.org/drawingml/2006/table">
            <a:tbl>
              <a:tblPr/>
              <a:tblGrid>
                <a:gridCol w="1655640"/>
                <a:gridCol w="684216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484360" y="1989000"/>
          <a:ext cx="5651640" cy="88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989000"/>
                    <a:ext cx="565164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2771640" y="4005360"/>
          <a:ext cx="5016600" cy="88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71640" y="4005360"/>
                    <a:ext cx="501660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2" dur="5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50920" y="1397160"/>
          <a:ext cx="8642160" cy="4063680"/>
        </p:xfrm>
        <a:graphic>
          <a:graphicData uri="http://schemas.openxmlformats.org/drawingml/2006/table">
            <a:tbl>
              <a:tblPr/>
              <a:tblGrid>
                <a:gridCol w="1657080"/>
                <a:gridCol w="698508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908000" y="1916280"/>
          <a:ext cx="6832800" cy="88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916280"/>
                    <a:ext cx="683280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2195640" y="4076640"/>
          <a:ext cx="6222960" cy="88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95640" y="4076640"/>
                    <a:ext cx="622296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10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203640" y="2060640"/>
          <a:ext cx="430524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2060640"/>
                    <a:ext cx="430524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3203640" y="4149720"/>
          <a:ext cx="4279680" cy="77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4149720"/>
                    <a:ext cx="427968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6" dur="5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523880" y="1397160"/>
          <a:ext cx="628812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68000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3132000" y="2060640"/>
          <a:ext cx="45594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2060640"/>
                    <a:ext cx="45594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3203640" y="4149720"/>
          <a:ext cx="452124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4149720"/>
                    <a:ext cx="45212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3" dur="5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427640" y="1700280"/>
          <a:ext cx="149832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1700280"/>
                    <a:ext cx="149832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4356000" y="3573360"/>
          <a:ext cx="1511280" cy="170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3573360"/>
                    <a:ext cx="151128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" dur="10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067280" y="2133720"/>
          <a:ext cx="23619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2133720"/>
                    <a:ext cx="23619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3995640" y="4149720"/>
          <a:ext cx="273060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5640" y="4149720"/>
                    <a:ext cx="27306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" dur="10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284720" y="1844640"/>
          <a:ext cx="1765080" cy="110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844640"/>
                    <a:ext cx="176508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3851280" y="4149720"/>
          <a:ext cx="245124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4149720"/>
                    <a:ext cx="245124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" dur="10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ne tous les diviseurs de 4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ne tous les diviseurs de 48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3000">
    <p:cover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20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067280" y="1989000"/>
          <a:ext cx="233676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1989000"/>
                    <a:ext cx="233676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995640" y="4149720"/>
          <a:ext cx="204480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5640" y="4149720"/>
                    <a:ext cx="20448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0" dur="10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3635280" y="2060640"/>
          <a:ext cx="27561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2060640"/>
                    <a:ext cx="27561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3635280" y="4292640"/>
          <a:ext cx="275616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35280" y="4292640"/>
                    <a:ext cx="27561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7" dur="10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995640" y="1844640"/>
          <a:ext cx="2768760" cy="88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1844640"/>
                    <a:ext cx="276876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3995640" y="4076640"/>
          <a:ext cx="2463840" cy="88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5640" y="4076640"/>
                    <a:ext cx="246384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" dur="10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5-26T18:36:17Z</dcterms:modified>
  <cp:revision>18</cp:revision>
  <dc:subject/>
  <dc:title>Diapositive 1</dc:title>
</cp:coreProperties>
</file>