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199E-A7CF-4A1E-B352-4A483C9FCC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ED63-5FC9-4BC6-B62A-BAA5C4CA7B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CCF3-4571-4221-9C70-C3C0C477AC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D2AC-6FC3-4BCF-87D7-04248B9ECC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515F-7D4F-49A0-9685-55F83DDC94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537-8804-4E81-9B99-7E78F7DBFD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63D9-07A3-4928-9E52-FC94AD6593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8CC9-2575-425A-BD8F-4855D98337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CA1E-DD5F-45E6-A1D7-B59A102B2E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F82C-3605-4B2A-A548-456951E5ED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00C4-84F2-45E1-8FB7-AADF62AB4B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F03D-A9D8-4B2B-B1E4-8B26D16F5F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994A-70EC-473C-8567-15B30FE89E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175D-4E11-4265-A296-CD30FAE5C8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D888-8EE8-4079-9F87-994FA3621E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F34C-0DD9-44E6-B23D-0AE161CE1D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45AB-B954-4F5C-8F4E-88E68EF0F5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4ED1-2779-4191-A3F1-83993EEDFE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93EE-C834-49A9-9392-D702E0569E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4AC0-48A4-40D7-8FA6-9E21CD407C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9DBF-62A9-4B0B-A169-133D56D8F9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41AF-A668-404E-9A37-A2ACB82759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3F3B-4DA7-4953-A3CC-35F998181B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4BCA-C8DA-4F08-B2DF-213B412D53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5402-AC53-4300-B730-9930644A98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90A8-4149-46BE-A97E-CA54D82C26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C9A-231E-4378-A49A-B475DC40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560-0880-4899-A112-E2360F17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25A-473E-465B-A2CA-16441E5E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F67-8B4D-4F2C-8334-0E723B69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00A-A456-4A5E-9953-BED1F012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9E7-DDD0-491A-AA86-567D2C09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EDC-668E-47DA-AD67-FC5E47E8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FD3-86A2-4A7E-BFEC-553D51D3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0BB-DC6A-45C4-8F1D-9C436CB2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626-D469-4F88-8DFE-A5882828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4CE-EA4B-4912-B45B-649D6E69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D85-C4BD-4F9A-B582-BF0AD1BB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DFDF-6817-4677-A021-AC32D344A46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3635280" y="2133720"/>
          <a:ext cx="34419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34419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8"/>
          <p:cNvGraphicFramePr/>
          <p:nvPr/>
        </p:nvGraphicFramePr>
        <p:xfrm>
          <a:off x="3419640" y="4149720"/>
          <a:ext cx="34542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4542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13532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2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8"/>
          <p:cNvGraphicFramePr/>
          <p:nvPr/>
        </p:nvGraphicFramePr>
        <p:xfrm>
          <a:off x="4427640" y="2492280"/>
          <a:ext cx="1752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492280"/>
                    <a:ext cx="1752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1"/>
          <p:cNvGraphicFramePr/>
          <p:nvPr/>
        </p:nvGraphicFramePr>
        <p:xfrm>
          <a:off x="4427640" y="4581360"/>
          <a:ext cx="172692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581360"/>
                    <a:ext cx="1726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7"/>
          <p:cNvGraphicFramePr/>
          <p:nvPr/>
        </p:nvGraphicFramePr>
        <p:xfrm>
          <a:off x="3924360" y="1916280"/>
          <a:ext cx="22860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16280"/>
                    <a:ext cx="22860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8"/>
          <p:cNvGraphicFramePr/>
          <p:nvPr/>
        </p:nvGraphicFramePr>
        <p:xfrm>
          <a:off x="3851280" y="4005360"/>
          <a:ext cx="21844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1844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397160"/>
          <a:ext cx="7632720" cy="4063680"/>
        </p:xfrm>
        <a:graphic>
          <a:graphicData uri="http://schemas.openxmlformats.org/drawingml/2006/table">
            <a:tbl>
              <a:tblPr/>
              <a:tblGrid>
                <a:gridCol w="1873080"/>
                <a:gridCol w="5759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+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-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10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397160"/>
          <a:ext cx="820908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337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5"/>
          <p:cNvGraphicFramePr/>
          <p:nvPr/>
        </p:nvGraphicFramePr>
        <p:xfrm>
          <a:off x="2195640" y="1989000"/>
          <a:ext cx="59814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981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20"/>
          <p:cNvGraphicFramePr/>
          <p:nvPr/>
        </p:nvGraphicFramePr>
        <p:xfrm>
          <a:off x="2195640" y="4076640"/>
          <a:ext cx="59562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5956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0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2050920" y="1916280"/>
          <a:ext cx="679464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679464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0"/>
          <p:cNvGraphicFramePr/>
          <p:nvPr/>
        </p:nvGraphicFramePr>
        <p:xfrm>
          <a:off x="1835280" y="4005360"/>
          <a:ext cx="70610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005360"/>
                    <a:ext cx="7061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1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1"/>
          <p:cNvGraphicFramePr/>
          <p:nvPr/>
        </p:nvGraphicFramePr>
        <p:xfrm>
          <a:off x="2050920" y="1989000"/>
          <a:ext cx="67438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7438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2195640" y="4076640"/>
          <a:ext cx="62989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989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56404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5"/>
          <p:cNvGraphicFramePr/>
          <p:nvPr/>
        </p:nvGraphicFramePr>
        <p:xfrm>
          <a:off x="2195640" y="1989000"/>
          <a:ext cx="52956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295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8"/>
          <p:cNvGraphicFramePr/>
          <p:nvPr/>
        </p:nvGraphicFramePr>
        <p:xfrm>
          <a:off x="2111400" y="4076640"/>
          <a:ext cx="53211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1400" y="4076640"/>
                    <a:ext cx="5321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1397160"/>
          <a:ext cx="7704000" cy="4063680"/>
        </p:xfrm>
        <a:graphic>
          <a:graphicData uri="http://schemas.openxmlformats.org/drawingml/2006/table">
            <a:tbl>
              <a:tblPr/>
              <a:tblGrid>
                <a:gridCol w="1727280"/>
                <a:gridCol w="597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5"/>
          <p:cNvGraphicFramePr/>
          <p:nvPr/>
        </p:nvGraphicFramePr>
        <p:xfrm>
          <a:off x="2627280" y="1989000"/>
          <a:ext cx="52070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5207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1"/>
          <p:cNvGraphicFramePr/>
          <p:nvPr/>
        </p:nvGraphicFramePr>
        <p:xfrm>
          <a:off x="2627280" y="4149720"/>
          <a:ext cx="51562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149720"/>
                    <a:ext cx="5156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5"/>
          <p:cNvGraphicFramePr/>
          <p:nvPr/>
        </p:nvGraphicFramePr>
        <p:xfrm>
          <a:off x="1979640" y="1916280"/>
          <a:ext cx="6946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22"/>
          <p:cNvGraphicFramePr/>
          <p:nvPr/>
        </p:nvGraphicFramePr>
        <p:xfrm>
          <a:off x="1979640" y="4005360"/>
          <a:ext cx="69469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0536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397160"/>
          <a:ext cx="8785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9"/>
          <p:cNvGraphicFramePr/>
          <p:nvPr/>
        </p:nvGraphicFramePr>
        <p:xfrm>
          <a:off x="2124000" y="1557360"/>
          <a:ext cx="6840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6840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0"/>
          <p:cNvGraphicFramePr/>
          <p:nvPr/>
        </p:nvGraphicFramePr>
        <p:xfrm>
          <a:off x="2050920" y="3716280"/>
          <a:ext cx="684216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716280"/>
                    <a:ext cx="68421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1397160"/>
          <a:ext cx="8281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624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1979640" y="1989000"/>
          <a:ext cx="63500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89000"/>
                    <a:ext cx="6350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9"/>
          <p:cNvGraphicFramePr/>
          <p:nvPr/>
        </p:nvGraphicFramePr>
        <p:xfrm>
          <a:off x="1922400" y="3933720"/>
          <a:ext cx="64645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3933720"/>
                    <a:ext cx="6464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20"/>
          <p:cNvGraphicFramePr/>
          <p:nvPr/>
        </p:nvGraphicFramePr>
        <p:xfrm>
          <a:off x="2124000" y="1844640"/>
          <a:ext cx="6566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844640"/>
                    <a:ext cx="6566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1"/>
          <p:cNvGraphicFramePr/>
          <p:nvPr/>
        </p:nvGraphicFramePr>
        <p:xfrm>
          <a:off x="1979640" y="4076640"/>
          <a:ext cx="68961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76640"/>
                    <a:ext cx="6896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17"/>
          <p:cNvGraphicFramePr/>
          <p:nvPr/>
        </p:nvGraphicFramePr>
        <p:xfrm>
          <a:off x="4140360" y="1916280"/>
          <a:ext cx="208260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16280"/>
                    <a:ext cx="20826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8"/>
          <p:cNvGraphicFramePr/>
          <p:nvPr/>
        </p:nvGraphicFramePr>
        <p:xfrm>
          <a:off x="4211640" y="4005360"/>
          <a:ext cx="2070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05360"/>
                    <a:ext cx="2070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067280" y="1916280"/>
          <a:ext cx="25146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25146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3924360" y="4076640"/>
          <a:ext cx="267948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679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2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851280" y="1773360"/>
          <a:ext cx="2489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773360"/>
                    <a:ext cx="2489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851280" y="3933720"/>
          <a:ext cx="22734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933720"/>
                    <a:ext cx="2273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3995640" y="1989000"/>
          <a:ext cx="2400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3989520" y="4005360"/>
          <a:ext cx="24127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4005360"/>
                    <a:ext cx="24127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17"/>
          <p:cNvGraphicFramePr/>
          <p:nvPr/>
        </p:nvGraphicFramePr>
        <p:xfrm>
          <a:off x="4067280" y="1989000"/>
          <a:ext cx="234936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49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8"/>
          <p:cNvGraphicFramePr/>
          <p:nvPr/>
        </p:nvGraphicFramePr>
        <p:xfrm>
          <a:off x="3851280" y="4149720"/>
          <a:ext cx="23623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362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17"/>
          <p:cNvGraphicFramePr/>
          <p:nvPr/>
        </p:nvGraphicFramePr>
        <p:xfrm>
          <a:off x="4140360" y="1989000"/>
          <a:ext cx="19810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89000"/>
                    <a:ext cx="19810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8"/>
          <p:cNvGraphicFramePr/>
          <p:nvPr/>
        </p:nvGraphicFramePr>
        <p:xfrm>
          <a:off x="4140360" y="4076640"/>
          <a:ext cx="1981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076640"/>
                    <a:ext cx="1981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5T20:15:17Z</dcterms:modified>
  <cp:revision>22</cp:revision>
  <dc:subject/>
  <dc:title>Diapositive 1</dc:title>
</cp:coreProperties>
</file>