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F98-6F06-4A5B-B68B-F6E3C6B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B5A-5D94-431B-A227-FB216C8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E1C-19F1-462D-93EC-3D13E62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8B3-2C2B-4DE9-839E-6529DC12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DF8-F8E6-442B-A092-221E91A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0E9-015E-4ECB-8596-F53F837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419-E7C7-4595-BDFF-65A22040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992-F3D2-442D-A57C-0ED9E3BE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900-370F-4C82-9B22-E0B2816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5BD-89F7-4620-B4FE-5E784B1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79C-F826-4265-95E4-68184A9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76A-08F5-42D8-A1C0-C8F038E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773-8703-49C3-894E-FDEFAA6D5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880" y="1787400"/>
            <a:ext cx="78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à l’aide de symbo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520" y="12841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EF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4364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1341360"/>
            <a:ext cx="54338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41128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58640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26836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16560" cy="39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268360" y="5156280"/>
          <a:ext cx="45849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584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0160" cy="449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91240" y="587700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86320" cy="484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9960" y="602136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07080" cy="450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6000" y="5734080"/>
            <a:ext cx="90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 droite (d) est l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édiatric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u segment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89600" y="2003400"/>
            <a:ext cx="71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71640" y="3933720"/>
          <a:ext cx="410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410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464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35960" y="59500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FG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4520" y="1355760"/>
            <a:ext cx="76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2637000"/>
            <a:ext cx="5757840" cy="403992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86400" cy="3814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16560" cy="39668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710160" cy="44942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2014560"/>
            <a:ext cx="4486320" cy="4843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0708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1427040"/>
            <a:ext cx="925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 représente la droite (d) pour le segment [AB]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33:38Z</dcterms:modified>
  <cp:revision>27</cp:revision>
  <dc:subject/>
  <dc:title>Diapositive 1</dc:title>
</cp:coreProperties>
</file>