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E33C-2698-4E32-AB23-6BB70E45D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D7D7-2ABA-4ED3-95CB-0EED7453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8F0F-FCCF-4357-8CE5-3ACDF1D5B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1492-8A6A-477D-A94F-41F5C2AA0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25A7-9147-499F-98EC-2EC21373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5444-C2CA-491D-AE6E-E31B0032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50AC-414C-4693-B547-BFA750B1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DEEC-BC11-49B8-A8F3-AC421F2F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2781-6EBD-4AB0-BBB9-C88CAA58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311E-F631-48B5-8AC0-1788A9AB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87BA-14FF-49F9-BB7A-CE131B53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1089-1556-4134-BD40-4837E996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D5C0-172B-42C2-9229-F56CB6047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76720" y="1916280"/>
          <a:ext cx="388620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916280"/>
                    <a:ext cx="38862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276720" y="4005360"/>
          <a:ext cx="3886200" cy="88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005360"/>
                    <a:ext cx="38862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20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780000" y="1989000"/>
          <a:ext cx="265428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989000"/>
                    <a:ext cx="26542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635280" y="3933720"/>
          <a:ext cx="240048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3933720"/>
                    <a:ext cx="24004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851280" y="1989000"/>
          <a:ext cx="266688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989000"/>
                    <a:ext cx="266688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851280" y="4005360"/>
          <a:ext cx="264168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005360"/>
                    <a:ext cx="26416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23880" y="1397160"/>
          <a:ext cx="693576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53276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203640" y="2205000"/>
          <a:ext cx="51688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2205000"/>
                    <a:ext cx="5168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348000" y="4149720"/>
          <a:ext cx="48769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149720"/>
                    <a:ext cx="4876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492360" y="1628640"/>
          <a:ext cx="3175200" cy="17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628640"/>
                    <a:ext cx="317520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564000" y="3573360"/>
          <a:ext cx="281916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3573360"/>
                    <a:ext cx="281916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203640" y="1989000"/>
          <a:ext cx="438156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989000"/>
                    <a:ext cx="43815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851280" y="3500280"/>
          <a:ext cx="2844720" cy="175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3500280"/>
                    <a:ext cx="284472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348000" y="1989000"/>
          <a:ext cx="389880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989000"/>
                    <a:ext cx="389880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348000" y="4149720"/>
          <a:ext cx="37339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149720"/>
                    <a:ext cx="3733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95280" y="1413000"/>
          <a:ext cx="828036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66722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124000" y="2060640"/>
          <a:ext cx="61214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060640"/>
                    <a:ext cx="61214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2050920" y="4149720"/>
          <a:ext cx="650268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4149720"/>
                    <a:ext cx="65026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10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50920" y="1341360"/>
          <a:ext cx="806616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645804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050920" y="1844640"/>
          <a:ext cx="570240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844640"/>
                    <a:ext cx="570240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2000160" y="4076640"/>
          <a:ext cx="614700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00160" y="4076640"/>
                    <a:ext cx="61470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10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68360" y="1484280"/>
          <a:ext cx="792144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631332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195640" y="2133720"/>
          <a:ext cx="60451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2133720"/>
                    <a:ext cx="60451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268360" y="4149720"/>
          <a:ext cx="4864320" cy="88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4149720"/>
                    <a:ext cx="48643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10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50920" y="1397160"/>
          <a:ext cx="7993080" cy="4063680"/>
        </p:xfrm>
        <a:graphic>
          <a:graphicData uri="http://schemas.openxmlformats.org/drawingml/2006/table">
            <a:tbl>
              <a:tblPr/>
              <a:tblGrid>
                <a:gridCol w="1728720"/>
                <a:gridCol w="62643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195640" y="1773360"/>
          <a:ext cx="5676840" cy="162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773360"/>
                    <a:ext cx="5676840" cy="16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2195640" y="3573360"/>
          <a:ext cx="5676840" cy="162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3573360"/>
                    <a:ext cx="567684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1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95280" y="1397160"/>
          <a:ext cx="7848720" cy="4063680"/>
        </p:xfrm>
        <a:graphic>
          <a:graphicData uri="http://schemas.openxmlformats.org/drawingml/2006/table">
            <a:tbl>
              <a:tblPr/>
              <a:tblGrid>
                <a:gridCol w="1728720"/>
                <a:gridCol w="612000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484360" y="2060640"/>
          <a:ext cx="556272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060640"/>
                    <a:ext cx="55627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2411280" y="4149720"/>
          <a:ext cx="530856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4149720"/>
                    <a:ext cx="53085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10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24000" y="1397160"/>
          <a:ext cx="7296120" cy="4063680"/>
        </p:xfrm>
        <a:graphic>
          <a:graphicData uri="http://schemas.openxmlformats.org/drawingml/2006/table">
            <a:tbl>
              <a:tblPr/>
              <a:tblGrid>
                <a:gridCol w="1800000"/>
                <a:gridCol w="5496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340000" y="1989000"/>
          <a:ext cx="480060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989000"/>
                    <a:ext cx="480060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2340000" y="4149720"/>
          <a:ext cx="500364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149720"/>
                    <a:ext cx="500364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276720" y="2133720"/>
          <a:ext cx="37465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133720"/>
                    <a:ext cx="3746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348000" y="4149720"/>
          <a:ext cx="34416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149720"/>
                    <a:ext cx="3441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211640" y="1628640"/>
          <a:ext cx="1727280" cy="17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628640"/>
                    <a:ext cx="172728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284720" y="3573360"/>
          <a:ext cx="171432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573360"/>
                    <a:ext cx="171432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924360" y="1989000"/>
          <a:ext cx="267948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989000"/>
                    <a:ext cx="267948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643280" y="3573360"/>
          <a:ext cx="1003320" cy="175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3573360"/>
                    <a:ext cx="100332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067280" y="2060640"/>
          <a:ext cx="21463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060640"/>
                    <a:ext cx="21463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3995640" y="4005360"/>
          <a:ext cx="22226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005360"/>
                    <a:ext cx="22226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419640" y="2060640"/>
          <a:ext cx="33019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060640"/>
                    <a:ext cx="3301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492360" y="4149720"/>
          <a:ext cx="32385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4149720"/>
                    <a:ext cx="32385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708360" y="1916280"/>
          <a:ext cx="281952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1916280"/>
                    <a:ext cx="28195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3708360" y="3860640"/>
          <a:ext cx="2882880" cy="8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3860640"/>
                    <a:ext cx="288288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851280" y="1916280"/>
          <a:ext cx="285732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916280"/>
                    <a:ext cx="28573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924360" y="4076640"/>
          <a:ext cx="2336760" cy="8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076640"/>
                    <a:ext cx="233676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5-20T21:13:20Z</dcterms:modified>
  <cp:revision>22</cp:revision>
  <dc:subject/>
  <dc:title>Diapositive 1</dc:title>
</cp:coreProperties>
</file>