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CD6-59D2-46E9-98C4-FCB0F6FF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C3C-DB8E-44B2-839F-BF1F7145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85C-9F95-409C-A077-E224C513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294-7D09-40C7-9BAC-A935D9EC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461-D1F7-4068-B060-E61D2488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783-ED80-4F6F-985D-2DD81F6A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340-15DB-4460-AF8D-716884C0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F9F-2652-488F-B1C9-523E177C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6F0-70C0-41D3-94AE-A997C8EB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89F-25D4-4B83-8DB1-DF7844D1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135-62DE-4C10-9FE0-010B61F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7C3-B913-4818-A993-1C98B574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BC93-3986-4033-B1D9-D6E7CF038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628640"/>
          <a:ext cx="39495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28640"/>
                    <a:ext cx="3949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48000" y="3573360"/>
          <a:ext cx="39625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39625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13064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95640" y="4149720"/>
          <a:ext cx="2374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95640" y="2060640"/>
          <a:ext cx="270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0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24360" y="4149720"/>
          <a:ext cx="2793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780000" y="2060640"/>
          <a:ext cx="2958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958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635280" y="4149720"/>
          <a:ext cx="2933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48000" y="2060640"/>
          <a:ext cx="3861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61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49236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51280" y="1628640"/>
          <a:ext cx="2654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628640"/>
                    <a:ext cx="2654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645000"/>
          <a:ext cx="2603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645000"/>
                    <a:ext cx="2603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067280" y="1557360"/>
          <a:ext cx="2552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552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95640" y="3645000"/>
          <a:ext cx="25401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645000"/>
                    <a:ext cx="25401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03640" y="1989000"/>
          <a:ext cx="4394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94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059280" y="4005360"/>
          <a:ext cx="45846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005360"/>
                    <a:ext cx="45846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76720" y="1773360"/>
          <a:ext cx="3898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73360"/>
                    <a:ext cx="3898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64000" y="3860640"/>
          <a:ext cx="347976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860640"/>
                    <a:ext cx="347976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24360" y="1628640"/>
          <a:ext cx="2857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628640"/>
                    <a:ext cx="2857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924360" y="3573360"/>
          <a:ext cx="24382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2438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11640" y="1557360"/>
          <a:ext cx="19558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557360"/>
                    <a:ext cx="1955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40360" y="3645000"/>
          <a:ext cx="19303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645000"/>
                    <a:ext cx="1930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797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97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4149720"/>
          <a:ext cx="3492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149720"/>
                    <a:ext cx="349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348000" y="2060640"/>
          <a:ext cx="3822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22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419640" y="4149720"/>
          <a:ext cx="389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4720" y="2060640"/>
          <a:ext cx="1422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84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84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14640" y="2060640"/>
          <a:ext cx="243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4640" y="2060640"/>
                    <a:ext cx="243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362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62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429080" y="1628640"/>
          <a:ext cx="14986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1628640"/>
                    <a:ext cx="14986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416480" y="3645000"/>
          <a:ext cx="14731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6480" y="3645000"/>
                    <a:ext cx="14731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0048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048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84720" y="3645000"/>
          <a:ext cx="13968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645000"/>
                    <a:ext cx="1396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060800" y="1989000"/>
          <a:ext cx="26798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0800" y="1989000"/>
                    <a:ext cx="26798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017960" y="4005360"/>
          <a:ext cx="26668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960" y="4005360"/>
                    <a:ext cx="2666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241880" y="1773360"/>
          <a:ext cx="19684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773360"/>
                    <a:ext cx="19684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408560" y="3860640"/>
          <a:ext cx="179064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8560" y="3860640"/>
                    <a:ext cx="17906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857840" y="1628640"/>
          <a:ext cx="99036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628640"/>
                    <a:ext cx="9903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59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02:35:19Z</dcterms:modified>
  <cp:revision>23</cp:revision>
  <dc:subject/>
  <dc:title>Diapositive 1</dc:title>
</cp:coreProperties>
</file>