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A2C7-5673-41D9-AA1B-42815B1D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E010-AAA3-4DD1-A83E-F2A7CED0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59F0-7103-48A9-9575-D046FD9D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C6EE-A92B-4E94-B044-FF677C99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2832-E5E2-4210-93C8-63811F23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92D3-E972-4CCE-8C09-9410253B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F253-580B-479F-99E1-C1FD294B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EBF3-D080-416A-8F3D-F2628F4E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C403-8E83-418B-BA8F-65DE3C6C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FDAB-8333-4E11-A2B4-50FA526F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E2F2-F63A-411C-88EA-72746B95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3617-9516-4CCF-9771-46D1292C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91FC-8310-40E6-A460-C8DCA8775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9120" y="1596960"/>
            <a:ext cx="606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f la fonction définie pa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132000" y="2565360"/>
          <a:ext cx="308628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565360"/>
                    <a:ext cx="3086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952560" y="4260960"/>
            <a:ext cx="486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l’image de -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9120" y="1596960"/>
            <a:ext cx="606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f la fonction définie pa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195640" y="2421000"/>
          <a:ext cx="41400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421000"/>
                    <a:ext cx="4140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260360" y="4076640"/>
            <a:ext cx="469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l’image de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449640" y="4332240"/>
            <a:ext cx="74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3 par la fonction f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232920" y="4405320"/>
            <a:ext cx="84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antécédent de 5 par la fonction f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902520" y="4437000"/>
            <a:ext cx="764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-2 par la fonction f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1471680"/>
            <a:ext cx="3786120" cy="5386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194360" y="2387520"/>
            <a:ext cx="396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0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1428840"/>
            <a:ext cx="3772080" cy="5429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482000" y="2460600"/>
            <a:ext cx="408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2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1457280"/>
            <a:ext cx="3757680" cy="5400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049280" y="2604960"/>
            <a:ext cx="519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antécédent de 3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-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2960" y="1340640"/>
            <a:ext cx="888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f une fonction. On considère le tableau de val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a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252360" y="4437000"/>
            <a:ext cx="86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’image de 3, par la fonction 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9280" y="1428840"/>
            <a:ext cx="3772080" cy="5429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952440" y="2349360"/>
            <a:ext cx="519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antécédent de 5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-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340000" y="1413000"/>
          <a:ext cx="377172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413000"/>
                    <a:ext cx="37717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692360" y="3284640"/>
          <a:ext cx="575316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3284640"/>
                    <a:ext cx="575316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911240" y="5373720"/>
            <a:ext cx="515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2 par f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203640" y="1773360"/>
          <a:ext cx="30859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773360"/>
                    <a:ext cx="30859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763640" y="2781360"/>
          <a:ext cx="53341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2781360"/>
                    <a:ext cx="5334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61280" y="4116240"/>
            <a:ext cx="84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imade de -2 par la fonction carré est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340000" y="1916280"/>
          <a:ext cx="4140000" cy="77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916280"/>
                    <a:ext cx="4140000" cy="77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763640" y="2924280"/>
          <a:ext cx="55501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2924280"/>
                    <a:ext cx="5550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2198520" y="4221000"/>
            <a:ext cx="515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3 par f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2960" y="1340640"/>
            <a:ext cx="888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f une fonction. On considère le tableau de val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a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31840" y="46213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4548240"/>
            <a:ext cx="867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 est l’antécédent de 5, par la fo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2960" y="1340640"/>
            <a:ext cx="888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f une fonction. On considère le tableau de val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a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60560" y="4332240"/>
            <a:ext cx="880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’image de -2, par la fonction 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1471680"/>
            <a:ext cx="3786120" cy="538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123440" y="1355760"/>
            <a:ext cx="50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la repré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ique de la fonction 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64920" y="2747880"/>
            <a:ext cx="445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re graphiquement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1471680"/>
            <a:ext cx="3786120" cy="5386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123440" y="1355760"/>
            <a:ext cx="50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la repré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ique de la fonction 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4920" y="2892600"/>
            <a:ext cx="445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re graphiquement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1471680"/>
            <a:ext cx="3786120" cy="5386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23440" y="1355760"/>
            <a:ext cx="50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la repré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ique de la fonction 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64920" y="3108240"/>
            <a:ext cx="433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re graphiquemen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antécédent de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1471680"/>
            <a:ext cx="3786120" cy="5386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23440" y="1355760"/>
            <a:ext cx="50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la repré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ique de la fonction 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64920" y="3108240"/>
            <a:ext cx="433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re graphiquemen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antécédent de 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9120" y="1596960"/>
            <a:ext cx="606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f la fonction définie pa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340000" y="2276640"/>
          <a:ext cx="377172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276640"/>
                    <a:ext cx="37717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052000" y="4508640"/>
            <a:ext cx="456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l’image d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8-13T06:24:13Z</dcterms:modified>
  <cp:revision>18</cp:revision>
  <dc:subject/>
  <dc:title>Diapositive 1</dc:title>
</cp:coreProperties>
</file>