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407-34B9-4756-970C-FA50BB99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084-C08B-4ADE-8EA2-028EBD6B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4C6-C5BB-4331-BD01-85E65382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093-995A-48DD-AFA9-4477D8E3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99D-C6D3-49BB-898C-820CE71B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2B7-0959-433A-B27B-09E8E2D6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0A6F-B3EB-4948-8505-CAD62488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9CBD-9A26-4623-801F-AA3300B3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BF5-78A6-4533-9372-693B494D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151E-6ACC-492F-A4EE-C4BEFB04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73A6-8C3B-48CA-8467-4AA42DA0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D8C4-0DAA-4074-94C7-0E0A7AF4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F9B6-D43B-4964-9A40-AD1CC9858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720" y="1413000"/>
            <a:ext cx="18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4360" y="2492280"/>
          <a:ext cx="763272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6327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3800" y="1413000"/>
            <a:ext cx="633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ris le résultat sous la for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659640" y="1341360"/>
          <a:ext cx="193032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1341360"/>
                    <a:ext cx="19303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979640" y="2637000"/>
          <a:ext cx="5256360" cy="23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2637000"/>
                    <a:ext cx="5256360" cy="23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965480" cy="4560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81040" y="6021360"/>
            <a:ext cx="66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 triangle PCB es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ctangle en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965840" cy="4560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51960" y="5950080"/>
            <a:ext cx="58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 triangle PIB es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ocèle e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937040" cy="386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268360" y="5156280"/>
          <a:ext cx="467388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5156280"/>
                    <a:ext cx="46738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1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4757760" cy="387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2556000" y="5156280"/>
          <a:ext cx="445752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5156280"/>
                    <a:ext cx="44575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1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059360" cy="392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124000" y="5156280"/>
          <a:ext cx="505476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5156280"/>
                    <a:ext cx="50547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1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5776920" cy="3984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59600" y="556416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s droites (d) et (d’) son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rallè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4965840" cy="4560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7640" y="1341360"/>
            <a:ext cx="774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nature du triangle PC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00360" y="2276640"/>
          <a:ext cx="4032360" cy="24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276640"/>
                    <a:ext cx="403236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2565360"/>
          <a:ext cx="889308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65360"/>
                    <a:ext cx="889308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2708280"/>
          <a:ext cx="914400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91440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93760" y="2637000"/>
          <a:ext cx="8628120" cy="23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2637000"/>
                    <a:ext cx="8628120" cy="23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10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0560" y="1308240"/>
            <a:ext cx="75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nature du triangle PI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4965840" cy="45608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2558880"/>
            <a:ext cx="5487840" cy="429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2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5333760" cy="434016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4470480" cy="432756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2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816960" cy="4702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3960" y="1341360"/>
            <a:ext cx="74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 peut-on dire des droites (d) et (d’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708360" y="2852640"/>
          <a:ext cx="172728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852640"/>
                    <a:ext cx="172728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047600" y="1413000"/>
            <a:ext cx="67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cris le résultat sous la forme d’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720" y="1413000"/>
            <a:ext cx="18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47640" y="2276640"/>
          <a:ext cx="590400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76640"/>
                    <a:ext cx="590400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6T18:40:31Z</dcterms:modified>
  <cp:revision>24</cp:revision>
  <dc:subject/>
  <dc:title>Diapositive 1</dc:title>
</cp:coreProperties>
</file>