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4B3-F157-403A-80FA-9B1DAB5BF2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96A4-884E-443B-AD19-3B93E900D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739-51DD-469A-A36B-AD33CBD3CD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231F-B7EB-4597-BD00-F0E0175E92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B8E-F369-42B5-BB26-775B783A25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83F-1EA5-441D-A1A9-4A754A55B1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1165-8121-495B-9EBA-2B8F4131F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C271-601B-4C08-B8C5-D2CC160685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5715-BAD5-4675-BC54-704C475D9F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9668-D94E-49B2-93FC-582EB2E7C6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F8A-2D35-4CCE-9CAF-5F493071DC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76D8-4548-49A2-B3BB-82EAF44050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014C-E704-43CD-9714-8A241A9FBA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80C-739D-43E1-BE92-90A740B93D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F0EA-D56C-476E-A5C3-059192D042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4A4B-B20B-4AB3-97BC-6DA86C0F16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CA6-CA52-4E01-B8F7-E85D446274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0FA-A85E-4AB5-9F85-53E78AF5F8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F766-E9B6-495C-A5FE-C7075D1914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9E6-DEE5-45D9-9DDF-E04F4A67BE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57A-FD8E-47A1-84DE-BAB56420FD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4BC-AC54-4F3B-85D0-1A5480F9E7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C34-44C3-48D1-B023-0B2B716EC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1DB-96AC-4471-9EC0-5DE65F4C60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3D5-F895-4110-8789-6E6C3CF53C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CF7-E02A-45C4-BAFE-1870351470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91A-EA6E-4857-BF01-F3637C04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A0A-A92E-47D6-A25D-4D7DECF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C45-21FC-43D1-A93A-413AB3C9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F53-5DEB-4247-8FC2-D7A34EA1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92E-33EA-4F7B-B7F1-AD7BB6F2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CA1-930B-414B-B475-9E43CE0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BAD-14DC-434B-9684-C79BB65A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92B-F56E-4A39-8D6B-615F3E0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170-C6BE-4C56-8E24-8FBEA91D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106-9DA4-4F23-8BAA-451CBF3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1A0-7990-48BE-96EE-8E4102B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155-9604-4F36-9A9A-622AABEC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0E7-012F-4E01-9D15-86D9C49305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716360" y="1557360"/>
          <a:ext cx="10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0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800600" y="3573360"/>
          <a:ext cx="97776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73360"/>
                    <a:ext cx="977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162320" y="1989000"/>
          <a:ext cx="24764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1989000"/>
                    <a:ext cx="2476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168800" y="4076640"/>
          <a:ext cx="24638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4076640"/>
                    <a:ext cx="2463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572000" y="1916280"/>
          <a:ext cx="5842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584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716360" y="4076640"/>
          <a:ext cx="57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76640"/>
                    <a:ext cx="57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286080" y="2054160"/>
          <a:ext cx="2997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4160"/>
                    <a:ext cx="2997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65640" y="4149720"/>
          <a:ext cx="2946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4149720"/>
                    <a:ext cx="2946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41964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419640" y="4149720"/>
          <a:ext cx="387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78200" y="1628640"/>
          <a:ext cx="26668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628640"/>
                    <a:ext cx="26668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30720" y="3573360"/>
          <a:ext cx="39240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0720" y="3573360"/>
                    <a:ext cx="3924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797280" y="1557360"/>
          <a:ext cx="29718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1557360"/>
                    <a:ext cx="2971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670200" y="3645000"/>
          <a:ext cx="32004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645000"/>
                    <a:ext cx="32004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427640" y="1557360"/>
          <a:ext cx="186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186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495680" y="3645000"/>
          <a:ext cx="1854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45000"/>
                    <a:ext cx="1854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151080" y="1989000"/>
          <a:ext cx="4140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989000"/>
                    <a:ext cx="4140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16240" y="414972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14972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151080" y="1773360"/>
          <a:ext cx="41022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73360"/>
                    <a:ext cx="4102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151080" y="3789360"/>
          <a:ext cx="4114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789360"/>
                    <a:ext cx="411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84760" y="1557360"/>
          <a:ext cx="26668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55736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68640" y="3573360"/>
          <a:ext cx="26416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3573360"/>
                    <a:ext cx="2641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348000" y="1989000"/>
          <a:ext cx="4191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191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305160" y="407664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407664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90800" y="1916280"/>
          <a:ext cx="2146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916280"/>
                    <a:ext cx="2146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4149720"/>
          <a:ext cx="2133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33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9"/>
          <p:cNvGraphicFramePr/>
          <p:nvPr/>
        </p:nvGraphicFramePr>
        <p:xfrm>
          <a:off x="3851280" y="2060640"/>
          <a:ext cx="186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186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0"/>
          <p:cNvGraphicFramePr/>
          <p:nvPr/>
        </p:nvGraphicFramePr>
        <p:xfrm>
          <a:off x="3924360" y="4149720"/>
          <a:ext cx="182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182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851280" y="2060640"/>
          <a:ext cx="2387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851280" y="4221000"/>
          <a:ext cx="2387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387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1628640"/>
          <a:ext cx="15112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5112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3573360"/>
          <a:ext cx="1473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473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438800" y="3645000"/>
          <a:ext cx="16635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3645000"/>
                    <a:ext cx="1663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564000" y="1557360"/>
          <a:ext cx="38606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3860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498840" y="3645000"/>
          <a:ext cx="38480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64500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995640" y="1989000"/>
          <a:ext cx="24512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51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067280" y="4149720"/>
          <a:ext cx="24890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489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211640" y="1773360"/>
          <a:ext cx="1981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81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211640" y="3789360"/>
          <a:ext cx="19940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199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8-29T16:21:25Z</dcterms:modified>
  <cp:revision>19</cp:revision>
  <dc:subject/>
  <dc:title>Diapositive 1</dc:title>
</cp:coreProperties>
</file>