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303-6631-4DA9-8C72-8C85450F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6A5-95E7-415F-A98B-9B75E0A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5D7-4F99-4EDC-8E9A-2AAB6793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DF3-ADD3-4043-A531-E6FDA29E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DFB-CFD5-4F7A-9E24-62956FBA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2D3-E0F4-4670-8578-2070BA3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F4B-9FB2-4036-830E-B8162FB8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1D9-F74C-4FEB-BF6B-668B5055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47E-1943-404C-9F2E-8BC8F0B4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C78-F6D1-45A2-9184-87DBFF9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C0A-D31E-41D1-9E0E-65F7AF4D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9AB-C9C2-4FD2-8A85-20F8EE4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8EE1-0A94-4DF5-8F07-781B46E1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67280" y="2060640"/>
          <a:ext cx="1701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01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51280" y="4221000"/>
          <a:ext cx="17780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17780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03640" y="1628640"/>
          <a:ext cx="43560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4356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64000" y="3573360"/>
          <a:ext cx="34797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34797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19640" y="2060640"/>
          <a:ext cx="387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03640" y="4149720"/>
          <a:ext cx="419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1397160"/>
          <a:ext cx="892980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738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54360" y="4221000"/>
          <a:ext cx="72896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4221000"/>
                    <a:ext cx="7289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68360" y="1484280"/>
          <a:ext cx="46101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484280"/>
                    <a:ext cx="461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5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5 et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6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, 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3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11 et 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133720"/>
          <a:ext cx="2933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5128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0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5,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2436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924360" y="4076640"/>
          <a:ext cx="2870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870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067280" y="1557360"/>
          <a:ext cx="2197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197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3573360"/>
          <a:ext cx="19051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905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4036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57720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9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48000" y="1989000"/>
          <a:ext cx="4610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610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276720" y="4149720"/>
          <a:ext cx="46227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6227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3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211640" y="4076640"/>
          <a:ext cx="1739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0:56:10Z</dcterms:modified>
  <cp:revision>20</cp:revision>
  <dc:subject/>
  <dc:title>Diapositive 1</dc:title>
</cp:coreProperties>
</file>