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14A-3D12-4BA6-A54E-652E048A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824-D4BD-4AA4-B033-48C41EF1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AD4-6009-445C-B908-A0196DB1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EF9-10F8-4C17-9AAF-71674C1B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EBD5-8BFC-497F-935D-D5DAB6A5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B40-72F5-4E37-8A22-38C011BC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F6E-CFA9-4D51-9456-6B8D34EE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D76-EBEE-44B6-B60A-96F2D53A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C27-24DA-4C54-B49C-DE7774D9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1AC-C2CE-4666-8A9F-C8581C1E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A36-EC7E-4771-A8AA-07E98D0C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064E-39C3-4375-86A2-4734D2A1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3996-1C88-474E-9B94-B1449891D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218200" cy="4697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9040" y="1413000"/>
            <a:ext cx="82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quadrilatère ANB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894120" cy="4694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1080" y="1284120"/>
            <a:ext cx="77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s sont les coordonnées du point 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01488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774520" y="5661000"/>
            <a:ext cx="40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D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 l’hypotén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51480" y="546084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DE² = DC² + CE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1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02520" y="566100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st l’hypotén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645000" cy="4240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916360" y="5661000"/>
            <a:ext cx="32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P² = RT² + TP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616200" cy="379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268360" y="5168880"/>
          <a:ext cx="4712040" cy="16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68880"/>
                    <a:ext cx="47120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02640" cy="398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2340000" y="5168880"/>
          <a:ext cx="4825800" cy="16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5168880"/>
                    <a:ext cx="482580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1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080" y="1139760"/>
            <a:ext cx="890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E est un triangle rectangle en C, quelle est 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otén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3592" r="0" b="0"/>
          <a:stretch/>
        </p:blipFill>
        <p:spPr>
          <a:xfrm>
            <a:off x="1547640" y="1268280"/>
            <a:ext cx="6356520" cy="4559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6000" y="5891040"/>
            <a:ext cx="48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ngle         mesure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65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35280" y="5950080"/>
          <a:ext cx="1008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5950080"/>
                    <a:ext cx="1008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1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938920" cy="415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1640" y="5386320"/>
            <a:ext cx="44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ngle      mesure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41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3080" y="6021360"/>
            <a:ext cx="57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 75+64=139 et 180-139=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92360" y="5445000"/>
          <a:ext cx="52056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5445000"/>
                    <a:ext cx="5205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218200" cy="469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42160" y="5950080"/>
            <a:ext cx="46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NBM est un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ct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0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894120" cy="4694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80" y="5805360"/>
            <a:ext cx="89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coordonnées de A sont 1; 2. On note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(1;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10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5040" y="134136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E est un triangle rectangle en C, éc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015240" cy="41148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2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4200" y="1139760"/>
            <a:ext cx="88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TP est un triangle rectangle en T, quelle est 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hypotén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261792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1341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TP est un triangle rectangle en T, éc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2529000"/>
            <a:ext cx="4128840" cy="43290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6218280" cy="41245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3592" r="0" b="0"/>
          <a:stretch/>
        </p:blipFill>
        <p:spPr>
          <a:xfrm>
            <a:off x="1619280" y="2298600"/>
            <a:ext cx="6356160" cy="455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9040" y="1484280"/>
            <a:ext cx="72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mesure de l’angle       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56360" y="1484280"/>
          <a:ext cx="1008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6360" y="1484280"/>
                    <a:ext cx="1008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453000" cy="451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1240" y="1355760"/>
            <a:ext cx="65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mesure de l’angle 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227640" y="1413000"/>
          <a:ext cx="52092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413000"/>
                    <a:ext cx="5209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2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8T01:11:39Z</dcterms:modified>
  <cp:revision>23</cp:revision>
  <dc:subject/>
  <dc:title>Diapositive 1</dc:title>
</cp:coreProperties>
</file>