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3C79-228C-45E9-83B5-3F011A750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F970-4098-4670-84E4-DE00FFDE8B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931-C791-41FD-A36C-DDF15F8A5E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7C7-77F1-46DD-8629-D5ED331E1B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B817-7E57-43DE-86E6-9A7A2FB8CC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D31-BBEE-4ECA-BE1D-B886396BD0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355-3933-43FA-8FC0-FE3F21CF34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9CE6-77F5-4299-A466-2E94A2FECE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665-A915-47BD-A0EF-D34089030F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E2E-9FE3-43FA-B906-830D31CBBD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B20C-3327-44E8-BC25-28AACF4754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A737-C43C-41C5-A65A-481915AD29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D5A-669E-4BF4-B900-818DE6EAA3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FC0A-F0E0-441E-A33E-067A0FC4D4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68DB-9C1C-4BBF-A4CB-7BE0912C4C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482-A6BB-4D61-A70E-8BA2E01D12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6CBC-AAD4-4881-84F8-242A15650C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8273-772D-45FE-A701-2D120311B4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94A-8FC5-4BAF-A65F-B02D7A801B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507-071A-4387-8C70-4FEB91A23C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441A-0B44-47A1-9D96-9266C302F3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1C04-B041-497C-A0CA-FFFB7A03F3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C07-62A6-4DE5-B6E9-BEA35FE031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007B-A803-4291-96CC-A30268598F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6DCA-10FE-4A79-ABB0-63670B7AB6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A88-2C3D-416E-9064-B55398E529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3E3-3223-45E8-AE37-258AF097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51D-5C83-4B24-8B52-5EFB9EF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E4B-8743-4D17-8A06-ED48B5F1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E8F-9981-47AF-81CC-73FCD62A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ED7-5B4F-44C9-8FA6-A5CD310B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085-1DC7-4E66-80B1-A0440041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2CE-FF14-4EBB-91F0-3C7A57C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7E1-9AEF-4DE8-BD0E-C0C685D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937-57C8-467D-A428-5EAA034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5D1-FCBF-41AF-B6C3-7C685B1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D88-304F-4F4E-9CB2-E8BF5EE0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DF5-5279-4EED-908B-3A40DC9F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A8AF-F987-4E03-99AC-4C3BFBC5D0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140360" y="1413000"/>
          <a:ext cx="1655640" cy="20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13000"/>
                    <a:ext cx="1655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211640" y="3500280"/>
          <a:ext cx="1471680" cy="186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00280"/>
                    <a:ext cx="147168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284720" y="3429000"/>
          <a:ext cx="1655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429000"/>
                    <a:ext cx="1655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284720" y="1413000"/>
          <a:ext cx="165564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413000"/>
                    <a:ext cx="1655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140360" y="1484280"/>
          <a:ext cx="158400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84280"/>
                    <a:ext cx="1584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211640" y="3500280"/>
          <a:ext cx="1584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00280"/>
                    <a:ext cx="1584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924360" y="1557360"/>
          <a:ext cx="24480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2448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3500280"/>
          <a:ext cx="262404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00280"/>
                    <a:ext cx="262404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348000" y="1484280"/>
          <a:ext cx="338472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3384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635280" y="3357720"/>
          <a:ext cx="3048120" cy="20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357720"/>
                    <a:ext cx="304812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924360" y="1557360"/>
          <a:ext cx="26636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2663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3500280"/>
          <a:ext cx="2681280" cy="18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6812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995640" y="1484280"/>
          <a:ext cx="25923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25923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924360" y="3429000"/>
          <a:ext cx="279864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429000"/>
                    <a:ext cx="27986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492360" y="1484280"/>
          <a:ext cx="295128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2951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492360" y="3500280"/>
          <a:ext cx="300060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500280"/>
                    <a:ext cx="30006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203640" y="1413000"/>
          <a:ext cx="331308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13000"/>
                    <a:ext cx="33130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76720" y="3500280"/>
          <a:ext cx="324000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0280"/>
                    <a:ext cx="32400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348000" y="1484280"/>
          <a:ext cx="316872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31687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419640" y="3500280"/>
          <a:ext cx="308736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00280"/>
                    <a:ext cx="308736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419640" y="1484280"/>
          <a:ext cx="3097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097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564000" y="3645000"/>
          <a:ext cx="2808360" cy="17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645000"/>
                    <a:ext cx="280836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6"/>
          <p:cNvGraphicFramePr/>
          <p:nvPr/>
        </p:nvGraphicFramePr>
        <p:xfrm>
          <a:off x="3780000" y="3716280"/>
          <a:ext cx="276372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16280"/>
                    <a:ext cx="276372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7"/>
          <p:cNvGraphicFramePr/>
          <p:nvPr/>
        </p:nvGraphicFramePr>
        <p:xfrm>
          <a:off x="3564000" y="1484280"/>
          <a:ext cx="316872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484280"/>
                    <a:ext cx="31687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851280" y="1484280"/>
          <a:ext cx="259236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259236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3573360"/>
          <a:ext cx="2592360" cy="17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259236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284720" y="1557360"/>
          <a:ext cx="140472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140472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356000" y="3500280"/>
          <a:ext cx="1584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00280"/>
                    <a:ext cx="1584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211640" y="1484280"/>
          <a:ext cx="208908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8908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356000" y="3573360"/>
          <a:ext cx="1511280" cy="18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3203640" y="1700280"/>
          <a:ext cx="432108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00280"/>
                    <a:ext cx="43210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3276720" y="3716280"/>
          <a:ext cx="382896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38289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3851280" y="1557360"/>
          <a:ext cx="302436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557360"/>
                    <a:ext cx="302436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780000" y="3500280"/>
          <a:ext cx="2952720" cy="19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00280"/>
                    <a:ext cx="295272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995640" y="1484280"/>
          <a:ext cx="144000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144000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851280" y="3500280"/>
          <a:ext cx="1657440" cy="19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16574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211640" y="1413000"/>
          <a:ext cx="16984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16984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3573360"/>
          <a:ext cx="1439640" cy="17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43964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356000" y="1484280"/>
          <a:ext cx="15112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484280"/>
                    <a:ext cx="15112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427640" y="3500280"/>
          <a:ext cx="1512720" cy="18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500280"/>
                    <a:ext cx="15127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1-31T19:49:03Z</dcterms:modified>
  <cp:revision>21</cp:revision>
  <dc:subject/>
  <dc:title>Diapositive 1</dc:title>
</cp:coreProperties>
</file>