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432B-AF28-4402-856F-A842BCC19D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AD8-1E6F-425E-B60A-2930A869C7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05C-5B9B-4E14-89E2-51271F0D77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9CB-DA86-4B65-A3C3-209FF29FA6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86A1-FB97-4A3B-ACE4-730923DA50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29D0-E605-41AF-A2FD-3762B56E1B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15B-2694-4F89-A8D3-195E4668A1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38C-D7DC-47CA-85F6-AD3E762A84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7D3C-B1F8-4211-BFCC-C9DFA6E0B1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552-D27D-4832-BAC2-D05709E408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FAEA-02C9-4B29-A565-46A4CB67DA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E210-FE3C-422B-9A6C-4B6F5F881A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EA7-2814-4589-95B8-B42339B88A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81C-D345-4082-B205-21AC30937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BF4-657F-4E68-8999-D767195145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B833-9E2D-4215-8F43-282691342A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79C-557A-4AD1-93CB-9598769558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2A5-7A0C-4BCC-88F8-E226C9CE76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EDD-ECD3-46D5-B6BB-849F73D19D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A51-2CB9-48A2-97FF-C9C8944DCB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66D-7346-4619-AE64-64DAF6F930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9A2-801C-4B41-8953-BAAC3DC4E5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C2F3-EA7C-4270-B874-9471538727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7F6-D3C5-4E69-BD63-D97E346AB7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634-95B6-4455-8140-EAC3AA8F7C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759-F386-4228-99D4-44401766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2B3-DE2E-4CC7-9E7B-74D66690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DE6-AE67-4425-8668-3823BD4B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784-BA05-4F48-8258-48B7E115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CC1-D425-41C4-B046-069D1A1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691-84FF-4F98-BD24-57FB4FE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593-20CD-423D-85D8-8E55AF0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426-C69E-4DB0-B638-772F4B7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F87-C9E7-4C84-84EC-DBEE9132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8DD-B838-437E-B5C7-C66548D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07E-218D-471D-A462-1C072A2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5F7-EE5F-41A0-A32B-232CE1F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182-C4A8-4E15-A862-1829C6122A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1"/>
          <p:cNvSpPr/>
          <p:nvPr/>
        </p:nvSpPr>
        <p:spPr>
          <a:xfrm>
            <a:off x="158760" y="5413320"/>
            <a:ext cx="93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demi-pension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1"/>
          <p:cNvSpPr/>
          <p:nvPr/>
        </p:nvSpPr>
        <p:spPr>
          <a:xfrm>
            <a:off x="272880" y="5484960"/>
            <a:ext cx="89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3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5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7"/>
          <p:cNvSpPr/>
          <p:nvPr/>
        </p:nvSpPr>
        <p:spPr>
          <a:xfrm>
            <a:off x="1527840" y="5629320"/>
            <a:ext cx="61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n’ont vu aucun fil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1980720" y="558972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4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37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38"/>
          <p:cNvSpPr/>
          <p:nvPr/>
        </p:nvSpPr>
        <p:spPr>
          <a:xfrm>
            <a:off x="231840" y="59166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pacif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grand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6"/>
          <p:cNvSpPr/>
          <p:nvPr/>
        </p:nvSpPr>
        <p:spPr>
          <a:xfrm>
            <a:off x="158760" y="5987880"/>
            <a:ext cx="82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arct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petit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4"/>
          <p:cNvSpPr/>
          <p:nvPr/>
        </p:nvSpPr>
        <p:spPr>
          <a:xfrm>
            <a:off x="1116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3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27"/>
          <p:cNvSpPr/>
          <p:nvPr/>
        </p:nvSpPr>
        <p:spPr>
          <a:xfrm>
            <a:off x="90000" y="584532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 4ans, une fille mesur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 cm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1557360"/>
          <a:ext cx="828216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520"/>
                <a:gridCol w="993600"/>
                <a:gridCol w="993600"/>
                <a:gridCol w="128304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58"/>
          <p:cNvSpPr/>
          <p:nvPr/>
        </p:nvSpPr>
        <p:spPr>
          <a:xfrm>
            <a:off x="344160" y="4836960"/>
            <a:ext cx="64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ont exter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628640"/>
          <a:ext cx="8281800" cy="286704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107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9"/>
          <p:cNvSpPr/>
          <p:nvPr/>
        </p:nvSpPr>
        <p:spPr>
          <a:xfrm>
            <a:off x="344160" y="4979880"/>
            <a:ext cx="87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mi-pensionnaire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84280"/>
          <a:ext cx="828180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8"/>
          <p:cNvSpPr/>
          <p:nvPr/>
        </p:nvSpPr>
        <p:spPr>
          <a:xfrm>
            <a:off x="1301040" y="4653000"/>
            <a:ext cx="66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7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9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900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5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9"/>
          <p:cNvSpPr/>
          <p:nvPr/>
        </p:nvSpPr>
        <p:spPr>
          <a:xfrm>
            <a:off x="231840" y="5987880"/>
            <a:ext cx="82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n’ont vu aucun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8"/>
          <p:cNvSpPr/>
          <p:nvPr/>
        </p:nvSpPr>
        <p:spPr>
          <a:xfrm>
            <a:off x="104328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4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30"/>
          <p:cNvSpPr/>
          <p:nvPr/>
        </p:nvSpPr>
        <p:spPr>
          <a:xfrm>
            <a:off x="377280" y="6060960"/>
            <a:ext cx="83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grand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9"/>
          <p:cNvSpPr/>
          <p:nvPr/>
        </p:nvSpPr>
        <p:spPr>
          <a:xfrm>
            <a:off x="303840" y="591660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petit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28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0"/>
          <p:cNvSpPr/>
          <p:nvPr/>
        </p:nvSpPr>
        <p:spPr>
          <a:xfrm>
            <a:off x="303120" y="5772240"/>
            <a:ext cx="82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taillle d’une fille de 4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153"/>
          <p:cNvSpPr/>
          <p:nvPr/>
        </p:nvSpPr>
        <p:spPr>
          <a:xfrm>
            <a:off x="199440" y="5556240"/>
            <a:ext cx="87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 en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16T17:17:05Z</dcterms:modified>
  <cp:revision>20</cp:revision>
  <dc:subject/>
  <dc:title>Diapositive 1</dc:title>
</cp:coreProperties>
</file>