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9723-84DE-42AD-923C-73980243B8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E5A6-CDA3-4495-8F51-FD1AEAD500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EDB8-6E50-4456-892F-83892F14E3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437D-0706-4625-975B-83B955B08F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3EBC-2452-43DC-944C-6502C87545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CA8D-928C-4CFD-9DC0-206EADE1FF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0D43-898A-45D7-981E-F9B90BBA31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4A49-27A7-40E7-8CC5-0C12AEDBD1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17DD-36E4-484D-B575-2973FBBF56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2AF9-13E2-43E3-86EF-55CA851B98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585A-992A-4B27-B70E-49E167E598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BB0E-453A-4726-A7E0-C782D23264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EDA0-EF1E-4A13-A02D-30B3C16B50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1C90-79CC-4DA5-B0C3-CD601382BC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1D8D-7DBD-481F-A530-F3B81B7530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3108-A413-4FE4-AEA9-2D46A91454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2EF1-1A9E-4646-B503-14373F9060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2F3B-100B-4A37-97A4-DD6E1DDA63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FE48-41EB-4D04-A659-B448897CE4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F1D1-B712-4118-815A-9F60F44A7C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F83E-655D-4617-8A1B-37FA7AD0BB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6B84-0F50-469A-91A7-E655009CF4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CC29-E5F8-4F9F-A6DC-BCA7EF791F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F282-F0C2-4B15-9EDD-738B5B4E10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4A27-4066-49B2-99C9-5109694E23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3B8-CD82-47F4-8FF3-B610C4FE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88D-7A7B-4574-AD4F-30E102DC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46E-4F67-446F-B641-A688F892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706-9518-424C-8678-3B0AC10C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9C2-D63B-4987-A3AD-68E89596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D38-2E81-4471-81FA-9DA8FAB1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170-EF80-4D04-88B1-917EC920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A6C-4E77-4A29-9462-F69925ED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FA2-A30F-426C-AF7D-3DFF2A16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8B2-783E-484E-A16D-EEB1D4B3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3FB-A369-41DE-A97C-47538F1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0B8-1F98-4C35-8A3B-B4EC388A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F207-FA5C-44DF-98A2-43578FFC7C8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rectang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9131040" cy="41050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arr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4260960" cy="43927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erc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895640" cy="46098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310680" y="1557360"/>
            <a:ext cx="4077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rectang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2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9131040" cy="41050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341640" y="1557360"/>
            <a:ext cx="3582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arr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4260960" cy="43927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erc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895640" cy="46098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1-16T20:21:25Z</dcterms:modified>
  <cp:revision>20</cp:revision>
  <dc:subject/>
  <dc:title>Diapositive 1</dc:title>
</cp:coreProperties>
</file>