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869B-A9DE-444C-BE64-84148101BB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9518-12E8-447F-ADD3-EA1765CF42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6233-A8F8-49A1-862F-53A7CED8B7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543C-5547-4B86-9A07-AB8F790310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34E1-7156-40B2-8A65-168C1B4C8B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BA1D-29FB-4151-8123-36F08D5967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31BA-BDC0-4A00-A05F-3EE3BF3A75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EE55-05D1-49B5-8A31-6C639AE2DD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A642-3EB7-442E-BBC1-363B9278B8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EABC-B772-40F4-A38B-4E7E806BA6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E0F8-165C-4D0C-B25F-EB70BE60DF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10FD-E7D5-4054-917A-83E9D7C1FE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2718-EC7C-41B1-9FD8-DA74263C93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7EAE-A8BA-4935-B309-5B7BBF7B4B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BE52-015D-4FC2-B1F4-D9C8881762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33E6-32C0-438F-AD31-656E220AEF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757D-BBE6-4DD5-B4CC-19AD84AF55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B0CD-7281-4FE1-8040-6F9E6D9448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3B6F-D77E-4AA6-9540-A7178E74C7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2CFE-EFE2-417E-B6C7-693B819237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65D2-4FF0-40DB-ADF3-F971F20B1C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915F-50FB-41A6-BAD2-863623BB8E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E273-4212-4058-BAAF-BC1F93C02A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5627-0DDF-4C05-96D8-5396A1F787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9F79-0F0B-4202-8BA8-C93E0F7A53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0B39-F2C2-4C47-A1E6-5274D504A0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044-B70F-463F-8B83-225B7A5C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028-D561-4AA3-A0C1-23EB25E5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E6E-35B0-488B-B802-8239DD9A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DFB-EA90-42E7-9F74-AD44672B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C08-1966-4E77-A3B8-3E616B59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A7C-5B3E-429F-847B-A17B7DF3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C21-F1ED-429B-AA72-9B9C99F2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ECD-03D6-4766-9382-16740B73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AD3-7E1F-43AB-B2EC-90079D87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662-40DC-4218-B3E9-C0C11937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F7D-BFE2-449F-9E23-E13B1DD7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8FE-7DDA-4531-970D-2954EDC2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21EE-220D-4E31-A799-63351EAFF5A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5440" y="1484280"/>
            <a:ext cx="919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2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ZoneTexte 3"/>
          <p:cNvSpPr/>
          <p:nvPr/>
        </p:nvSpPr>
        <p:spPr>
          <a:xfrm>
            <a:off x="307800" y="2060640"/>
            <a:ext cx="807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8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69840" y="2421000"/>
            <a:ext cx="8005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perpendiculaires  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5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ZoneTexte 3"/>
          <p:cNvSpPr/>
          <p:nvPr/>
        </p:nvSpPr>
        <p:spPr>
          <a:xfrm>
            <a:off x="102960" y="2060640"/>
            <a:ext cx="8994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est à la fois un carré et un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s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est à la fois un rectangle et un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s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2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Texte 5"/>
          <p:cNvSpPr/>
          <p:nvPr/>
        </p:nvSpPr>
        <p:spPr>
          <a:xfrm>
            <a:off x="580320" y="2205000"/>
            <a:ext cx="824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quadrilatère est une figure qui a 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quatre côté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quadrilatère est une figure qui 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7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ZoneTexte 5"/>
          <p:cNvSpPr/>
          <p:nvPr/>
        </p:nvSpPr>
        <p:spPr>
          <a:xfrm>
            <a:off x="295200" y="1989000"/>
            <a:ext cx="895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est une figure qui a quatr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ngles droi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rectangle est un quadrilatère qui a 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quatre angles droi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4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ZoneTexte 5"/>
          <p:cNvSpPr/>
          <p:nvPr/>
        </p:nvSpPr>
        <p:spPr>
          <a:xfrm>
            <a:off x="223920" y="2060640"/>
            <a:ext cx="892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rectangle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1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ZoneTexte 3"/>
          <p:cNvSpPr/>
          <p:nvPr/>
        </p:nvSpPr>
        <p:spPr>
          <a:xfrm>
            <a:off x="44280" y="2421000"/>
            <a:ext cx="9368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rectangle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longueur et qui se coupent en 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les diagonales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erpendiculaires et qui  se coupent 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ZoneTexte 3"/>
          <p:cNvSpPr/>
          <p:nvPr/>
        </p:nvSpPr>
        <p:spPr>
          <a:xfrm>
            <a:off x="41760" y="2205000"/>
            <a:ext cx="864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losange est un quadrilatère qui a 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quatre 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est une figure qui a quatr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5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oneTexte 1"/>
          <p:cNvSpPr/>
          <p:nvPr/>
        </p:nvSpPr>
        <p:spPr>
          <a:xfrm>
            <a:off x="27720" y="1125360"/>
            <a:ext cx="9202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nsign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ur chaque diapositive seront notées deux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hrases. Une sera VRAI et l’autre FAUSSE.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u noteras sur ta feuille l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oposition qui te paraîtra VRA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ZoneTexte 3"/>
          <p:cNvSpPr/>
          <p:nvPr/>
        </p:nvSpPr>
        <p:spPr>
          <a:xfrm>
            <a:off x="294480" y="2060640"/>
            <a:ext cx="861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losange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2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ZoneTexte 3"/>
          <p:cNvSpPr/>
          <p:nvPr/>
        </p:nvSpPr>
        <p:spPr>
          <a:xfrm>
            <a:off x="44280" y="2421000"/>
            <a:ext cx="9368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qui se coupent en 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losange a les diagonales 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perpendiculaires et qui  se coupent en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ZoneTexte 3"/>
          <p:cNvSpPr/>
          <p:nvPr/>
        </p:nvSpPr>
        <p:spPr>
          <a:xfrm>
            <a:off x="307800" y="2060640"/>
            <a:ext cx="807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carré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6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oneTexte 3"/>
          <p:cNvSpPr/>
          <p:nvPr/>
        </p:nvSpPr>
        <p:spPr>
          <a:xfrm>
            <a:off x="69840" y="2421000"/>
            <a:ext cx="8005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carré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longueur et perpendiculaires  en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3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ZoneTexte 3"/>
          <p:cNvSpPr/>
          <p:nvPr/>
        </p:nvSpPr>
        <p:spPr>
          <a:xfrm>
            <a:off x="102960" y="2060640"/>
            <a:ext cx="8994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est à la fois un carré et un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s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carré est à la fois un rectangle et un 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los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0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ZoneTexte 5"/>
          <p:cNvSpPr/>
          <p:nvPr/>
        </p:nvSpPr>
        <p:spPr>
          <a:xfrm>
            <a:off x="580320" y="2205000"/>
            <a:ext cx="824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quadrilatère est une figure qui 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côté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quadrilatère est une figure qui 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295200" y="1989000"/>
            <a:ext cx="895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est une figure qui a quatr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ngles droi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est un quadrilatère qui 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angles droi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ZoneTexte 5"/>
          <p:cNvSpPr/>
          <p:nvPr/>
        </p:nvSpPr>
        <p:spPr>
          <a:xfrm>
            <a:off x="223920" y="2060640"/>
            <a:ext cx="892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3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ZoneTexte 3"/>
          <p:cNvSpPr/>
          <p:nvPr/>
        </p:nvSpPr>
        <p:spPr>
          <a:xfrm>
            <a:off x="223560" y="2421000"/>
            <a:ext cx="9368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qui se coupent en 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les diagonales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erpendiculaires et qui  se coupent 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ZoneTexte 3"/>
          <p:cNvSpPr/>
          <p:nvPr/>
        </p:nvSpPr>
        <p:spPr>
          <a:xfrm>
            <a:off x="41760" y="2205000"/>
            <a:ext cx="864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est un quadrilatère qui 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est une figure qui a quatr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7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3"/>
          <p:cNvSpPr/>
          <p:nvPr/>
        </p:nvSpPr>
        <p:spPr>
          <a:xfrm>
            <a:off x="294480" y="2060640"/>
            <a:ext cx="861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3"/>
          <p:cNvSpPr/>
          <p:nvPr/>
        </p:nvSpPr>
        <p:spPr>
          <a:xfrm>
            <a:off x="44280" y="2421000"/>
            <a:ext cx="9368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qui se coupent en 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les diagonales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erpendiculaires et qui  se coupent 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1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5-06T19:39:54Z</dcterms:modified>
  <cp:revision>25</cp:revision>
  <dc:subject/>
  <dc:title>Diapositive 1</dc:title>
</cp:coreProperties>
</file>