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3924D-B4C1-42B2-BEFB-3F8FF4945F2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5B7B0-058E-4D5C-835A-4E399E68C37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6D3FA-D47F-4E7C-B5B6-363F7A7BEA5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7BEA7-EA2B-44E5-AA16-1E62CCA2339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A8646-A12D-4128-B484-81A5B3DF052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26720-67F2-4953-9E3C-C02F2A88CBA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8FFFC-8E5E-46AD-A149-E85E93B0F08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C3DAF-A9E9-4551-8015-BE4BC79E57A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3EF16-50AC-4D14-B61E-8EAE237769E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46C68-8061-479D-9768-D2323E6E865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DF393-40B8-4607-93EB-6C741E5E9C5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6F521-8A14-4029-A2D0-F9EF06EC9D2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AEEDA-0267-47F1-A036-82B585E9984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3A340-BF71-4676-97EA-D95DB4F65EC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A3FF0-7A8C-4BB9-B94B-E983E96C818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649AB-15CE-49DC-96DE-BF273C4DDDD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23F01-ED12-4EA6-B981-5FDC078B782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03FC3-8737-4B45-AC22-A814AC5ACDF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6CD95-9ECF-4D62-BDA8-90CE62B1D5D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C23AC-BF7E-40EE-BB76-D40F5CD6346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68EEB-7881-4350-B85F-DC863815173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A4989-ACAD-4B08-B2F8-6A37F49F8C7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17824-48A1-4674-9B37-AA72FD26418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07FF2-E469-4B77-BA48-41C780D08EC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86B7D-67E1-4CB1-BB29-67170C30259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0E0C-1CF3-4C0A-9B02-9CE9F9455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EBCA-5DA7-4D9A-AA92-5E9D90012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5588-B334-499E-BD32-0CA905101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1DE9-0DD9-4079-8680-2D3E74682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BB81-C5FF-4BCC-A014-E546A9647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3996-73CF-429B-B00B-F7F47F52F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0322-D1A3-4AFD-B7DC-AD6C5727D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888F-380F-4C5A-8988-15B282FC6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3366-9EA1-4723-906B-6F66D37EE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A6B1-4B61-4B47-874F-FDFBFE045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1ABB-6DD3-4B7F-8FDA-37E0EFE9F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B0F1-9E03-4E72-9E13-AB0221DBB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2281F-3D85-45A5-92F4-3BA54CB2F3F3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7"/>
          <p:cNvSpPr/>
          <p:nvPr/>
        </p:nvSpPr>
        <p:spPr>
          <a:xfrm>
            <a:off x="145440" y="1484280"/>
            <a:ext cx="8980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</a:rPr>
              <a:t>Activités mentales 6</a:t>
            </a:r>
            <a:r>
              <a:rPr b="1" lang="fr-FR" sz="66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1" lang="fr-FR" sz="66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2407320" y="4100400"/>
            <a:ext cx="473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imes New Roman"/>
              </a:rPr>
              <a:t>Prenez un stylo ble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8000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6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7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8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640"/>
                            </p:stCondLst>
                            <p:childTnLst>
                              <p:par>
                                <p:cTn id="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4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ZoneTexte 5"/>
          <p:cNvSpPr/>
          <p:nvPr/>
        </p:nvSpPr>
        <p:spPr>
          <a:xfrm>
            <a:off x="508320" y="2276640"/>
            <a:ext cx="87685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Une bibliothèque peut contenir 123 livres,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combien de livres peuvent contenir 4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bibliothèque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8000">
    <p:cover dir="r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7" dur="10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4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ZoneTexte 5"/>
          <p:cNvSpPr/>
          <p:nvPr/>
        </p:nvSpPr>
        <p:spPr>
          <a:xfrm>
            <a:off x="509400" y="2276640"/>
            <a:ext cx="8710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atre paquets contiennent 20 billes,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combien de billes y’a-t-il dans un paque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8000">
    <p:cover dir="r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4" dur="10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4"/>
          <p:cNvSpPr/>
          <p:nvPr/>
        </p:nvSpPr>
        <p:spPr>
          <a:xfrm>
            <a:off x="3566880" y="549360"/>
            <a:ext cx="245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On s’arrê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2484720" y="2276640"/>
            <a:ext cx="465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osez votre stylo ble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2125080" y="4149720"/>
            <a:ext cx="513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renez votre stylo </a:t>
            </a:r>
            <a:r>
              <a:rPr b="0" lang="fr-FR" sz="4000" spc="-1" strike="noStrike">
                <a:solidFill>
                  <a:srgbClr val="cc0000"/>
                </a:solidFill>
                <a:latin typeface="Times New Roman"/>
              </a:rPr>
              <a:t>rou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8000">
    <p:cover dir="r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155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3" dur="1155" fill="hold"/>
                                        <p:tgtEl>
                                          <p:spTgt spid="8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4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5" dur="115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" dur="115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155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1155" fill="hold"/>
                                        <p:tgtEl>
                                          <p:spTgt spid="8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" dur="1155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" dur="1155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155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" dur="1155" fill="hold"/>
                                        <p:tgtEl>
                                          <p:spTgt spid="8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7" dur="1155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9" dur="1155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4"/>
          <p:cNvSpPr/>
          <p:nvPr/>
        </p:nvSpPr>
        <p:spPr>
          <a:xfrm>
            <a:off x="2050200" y="2155680"/>
            <a:ext cx="496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cc0000"/>
                </a:solidFill>
                <a:latin typeface="Comic Sans MS"/>
              </a:rPr>
              <a:t>CORREC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8000">
    <p:cover dir="r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3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3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3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33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Object 4"/>
          <p:cNvGraphicFramePr/>
          <p:nvPr/>
        </p:nvGraphicFramePr>
        <p:xfrm>
          <a:off x="1692360" y="1916280"/>
          <a:ext cx="5616360" cy="94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1916280"/>
                    <a:ext cx="5616360" cy="9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8000">
    <p:cover dir="r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39" dur="5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Object 4"/>
          <p:cNvGraphicFramePr/>
          <p:nvPr/>
        </p:nvGraphicFramePr>
        <p:xfrm>
          <a:off x="1979640" y="1916280"/>
          <a:ext cx="4568760" cy="203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1916280"/>
                    <a:ext cx="4568760" cy="20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8000">
    <p:cover dir="r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46" dur="5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Object 4"/>
          <p:cNvGraphicFramePr/>
          <p:nvPr/>
        </p:nvGraphicFramePr>
        <p:xfrm>
          <a:off x="2340000" y="2637000"/>
          <a:ext cx="4200480" cy="112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0000" y="2637000"/>
                    <a:ext cx="4200480" cy="11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8000">
    <p:cover dir="r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3" dur="5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Object 4"/>
          <p:cNvGraphicFramePr/>
          <p:nvPr/>
        </p:nvGraphicFramePr>
        <p:xfrm>
          <a:off x="2484360" y="2060640"/>
          <a:ext cx="4751640" cy="127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2060640"/>
                    <a:ext cx="4751640" cy="12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8000">
    <p:cover dir="r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0" dur="5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Object 4"/>
          <p:cNvGraphicFramePr/>
          <p:nvPr/>
        </p:nvGraphicFramePr>
        <p:xfrm>
          <a:off x="1835280" y="1916280"/>
          <a:ext cx="4824360" cy="230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1916280"/>
                    <a:ext cx="4824360" cy="23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8000">
    <p:cover dir="r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7" dur="5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ZoneTexte 3"/>
          <p:cNvSpPr/>
          <p:nvPr/>
        </p:nvSpPr>
        <p:spPr>
          <a:xfrm>
            <a:off x="2554200" y="2781360"/>
            <a:ext cx="4191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ON NE SAIT PAS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8000">
    <p:cover dir="r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4" dur="5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9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27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ZoneTexte 5"/>
          <p:cNvSpPr/>
          <p:nvPr/>
        </p:nvSpPr>
        <p:spPr>
          <a:xfrm>
            <a:off x="271440" y="2205000"/>
            <a:ext cx="866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Une boîte de biscuit coûte 245F, combien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coûtent 3 boîtes de biscui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8000">
    <p:cover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1" dur="10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0" name="Object 4"/>
          <p:cNvGraphicFramePr/>
          <p:nvPr/>
        </p:nvGraphicFramePr>
        <p:xfrm>
          <a:off x="1979640" y="2637000"/>
          <a:ext cx="5499000" cy="119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637000"/>
                    <a:ext cx="5499000" cy="119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8000">
    <p:cover dir="r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1" dur="5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" name="Object 4"/>
          <p:cNvGraphicFramePr/>
          <p:nvPr/>
        </p:nvGraphicFramePr>
        <p:xfrm>
          <a:off x="1619280" y="2924280"/>
          <a:ext cx="5319720" cy="93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2924280"/>
                    <a:ext cx="5319720" cy="93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8000">
    <p:cover dir="r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8" dur="5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" name="Object 4"/>
          <p:cNvGraphicFramePr/>
          <p:nvPr/>
        </p:nvGraphicFramePr>
        <p:xfrm>
          <a:off x="1258920" y="2708280"/>
          <a:ext cx="6481800" cy="113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2708280"/>
                    <a:ext cx="6481800" cy="113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8000">
    <p:cover dir="r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5" dur="5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2" name="Object 4"/>
          <p:cNvGraphicFramePr/>
          <p:nvPr/>
        </p:nvGraphicFramePr>
        <p:xfrm>
          <a:off x="2340000" y="2924280"/>
          <a:ext cx="4307040" cy="100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0000" y="2924280"/>
                    <a:ext cx="4307040" cy="100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8000">
    <p:cover dir="r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02" dur="5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4"/>
          <p:cNvSpPr/>
          <p:nvPr/>
        </p:nvSpPr>
        <p:spPr>
          <a:xfrm>
            <a:off x="1095480" y="1751400"/>
            <a:ext cx="750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808080"/>
                </a:solidFill>
                <a:latin typeface="Times New Roman"/>
              </a:rPr>
              <a:t>Compter le nombre de réponses juste et écrire votre note sur 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8000">
    <p:cover dir="r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ZoneTexte 5"/>
          <p:cNvSpPr/>
          <p:nvPr/>
        </p:nvSpPr>
        <p:spPr>
          <a:xfrm>
            <a:off x="268920" y="2133720"/>
            <a:ext cx="7945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Cinq pommes coûtent 550F, combie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coûtent  deux  pomme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8000">
    <p:cover dir="r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8" dur="10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ZoneTexte 5"/>
          <p:cNvSpPr/>
          <p:nvPr/>
        </p:nvSpPr>
        <p:spPr>
          <a:xfrm>
            <a:off x="32760" y="1628640"/>
            <a:ext cx="8767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Trois enfants vident 2 bouteilles d’eau par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jour, combien de bouteilles d’eau sera 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nécessaire pour 9 enfants par jour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8000">
    <p:cover dir="r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5" dur="10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ZoneTexte 5"/>
          <p:cNvSpPr/>
          <p:nvPr/>
        </p:nvSpPr>
        <p:spPr>
          <a:xfrm>
            <a:off x="32760" y="1628640"/>
            <a:ext cx="8767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Trois enfants vident 2 bouteilles d’eau par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jour, combien de bouteilles d’eau sera 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nécessaire pour 4 jour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8000">
    <p:cover dir="r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2" dur="10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ZoneTexte 5"/>
          <p:cNvSpPr/>
          <p:nvPr/>
        </p:nvSpPr>
        <p:spPr>
          <a:xfrm>
            <a:off x="435600" y="2133720"/>
            <a:ext cx="80157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our faire un gâteau pour 4 personnes,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il faut 300g de beurr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lle quantité de beurre faut-il pour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faire un gâteau pour 6 personne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8000">
    <p:cover dir="r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9" dur="10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ZoneTexte 5"/>
          <p:cNvSpPr/>
          <p:nvPr/>
        </p:nvSpPr>
        <p:spPr>
          <a:xfrm>
            <a:off x="289800" y="2205000"/>
            <a:ext cx="775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Un enfant mesure 95cm à 1an, quelle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sera sa taille à 2 an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8000">
    <p:cover dir="r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ZoneTexte 5"/>
          <p:cNvSpPr/>
          <p:nvPr/>
        </p:nvSpPr>
        <p:spPr>
          <a:xfrm>
            <a:off x="506160" y="2276640"/>
            <a:ext cx="78282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Un champs de 10m² peut contenir 15 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lantes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Combien de plantes pourra contenir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un champs de 30m²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8000">
    <p:cover dir="r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3" dur="10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ZoneTexte 5"/>
          <p:cNvSpPr/>
          <p:nvPr/>
        </p:nvSpPr>
        <p:spPr>
          <a:xfrm>
            <a:off x="395280" y="2349360"/>
            <a:ext cx="18576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ZoneTexte 5"/>
          <p:cNvSpPr/>
          <p:nvPr/>
        </p:nvSpPr>
        <p:spPr>
          <a:xfrm>
            <a:off x="499680" y="2276640"/>
            <a:ext cx="81115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Une voiture consomme 10L pour faire 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100 km, combien de km fait-elle avec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30L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8000">
    <p:cover dir="r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0" dur="10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02:38:06Z</dcterms:created>
  <dc:creator>JESS</dc:creator>
  <dc:description/>
  <dc:language>en-US</dc:language>
  <cp:lastModifiedBy>Valued Packard Bell Customer</cp:lastModifiedBy>
  <dcterms:modified xsi:type="dcterms:W3CDTF">2012-03-30T21:21:38Z</dcterms:modified>
  <cp:revision>28</cp:revision>
  <dc:subject/>
  <dc:title>Diapositive 1</dc:title>
</cp:coreProperties>
</file>