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4CD4-5205-45EE-A450-E14CC260D7F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3AE0-F2B3-4421-83FC-D8F7C8EB3DC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C4AD-3275-42E7-A65A-462B71DD26E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45F1-85E3-406C-9284-3BFF8F5DEC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EC7F-7E5E-4608-AF89-B698A85377E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4CD0-6168-45D9-B506-D537CF39825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2A17-7FE7-46D8-9AAA-D921F084797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CA04-E917-40C4-9E5B-48EF437861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6F4A-A8B0-4113-9870-C8C2B01122D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AAEB-E33E-4DDA-AC86-C4903C1C98D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F080-D1B8-464C-8071-6C67EE02988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808D-0D8A-4F3D-9D41-DFF7C13F81C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6F4F-97FF-4858-B81D-E501B0B706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1D17-1D24-419D-A53C-FB370F09B1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0B73-CFED-40D3-A996-B6BC911777C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A43E-8767-4FA9-A6FD-2B8D3AF4E86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549C-12CA-43B6-908C-12CEFFBF9EE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84F0-1550-47C6-BF00-236700A9ECC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A80A-51B0-4654-9B23-535B15DCC29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01DD-088A-4D77-9FDD-6027F2AC526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8B1A-5876-467B-A0EA-89817C05BA4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406A-CEC8-491F-B12B-F4BB0357624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ABF6-991E-4670-865E-C72AAE7842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4D47-0755-42CE-BF11-F4419F21DCD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8938-FD4B-435F-B966-114CD5E07CD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4B89-AEEF-43E6-BA0D-90B67615690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5BB7-7A4C-48C3-B55D-7C9881D8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2351-2D1D-46C9-B032-51540073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07C2-5B20-4067-863D-0614FC123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2195-09EE-4E19-843D-D0D0E567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2886-8341-49A7-B82F-0C782458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8275-00D9-4211-AAFB-D1692E10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A096-66AD-4351-B1EA-4E31BBAB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00DE-BF32-407C-AC16-390AA9E5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896E-514F-46AE-A6D1-2D7622FA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9EA1-C505-4B98-98A3-89D50049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73C4-A813-4A37-9A82-45562008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5884-8CA0-476E-AAF3-CE8037C2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CA54-1788-4D90-A7C5-1537B42229E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17"/>
          <p:cNvGraphicFramePr/>
          <p:nvPr/>
        </p:nvGraphicFramePr>
        <p:xfrm>
          <a:off x="4427640" y="2060640"/>
          <a:ext cx="17269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060640"/>
                    <a:ext cx="1726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8"/>
          <p:cNvGraphicFramePr/>
          <p:nvPr/>
        </p:nvGraphicFramePr>
        <p:xfrm>
          <a:off x="4356000" y="4149720"/>
          <a:ext cx="13590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4149720"/>
                    <a:ext cx="1359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17"/>
          <p:cNvGraphicFramePr/>
          <p:nvPr/>
        </p:nvGraphicFramePr>
        <p:xfrm>
          <a:off x="4356000" y="2133720"/>
          <a:ext cx="17020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2133720"/>
                    <a:ext cx="1702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8"/>
          <p:cNvGraphicFramePr/>
          <p:nvPr/>
        </p:nvGraphicFramePr>
        <p:xfrm>
          <a:off x="4211640" y="4292640"/>
          <a:ext cx="17906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292640"/>
                    <a:ext cx="1790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17"/>
          <p:cNvGraphicFramePr/>
          <p:nvPr/>
        </p:nvGraphicFramePr>
        <p:xfrm>
          <a:off x="4356000" y="2133720"/>
          <a:ext cx="17146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2133720"/>
                    <a:ext cx="17146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8"/>
          <p:cNvGraphicFramePr/>
          <p:nvPr/>
        </p:nvGraphicFramePr>
        <p:xfrm>
          <a:off x="4140360" y="4149720"/>
          <a:ext cx="16761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4149720"/>
                    <a:ext cx="1676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15"/>
          <p:cNvGraphicFramePr/>
          <p:nvPr/>
        </p:nvGraphicFramePr>
        <p:xfrm>
          <a:off x="3851280" y="2060640"/>
          <a:ext cx="28573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60640"/>
                    <a:ext cx="2857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6"/>
          <p:cNvGraphicFramePr/>
          <p:nvPr/>
        </p:nvGraphicFramePr>
        <p:xfrm>
          <a:off x="3924360" y="4221000"/>
          <a:ext cx="28702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221000"/>
                    <a:ext cx="28702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3780000" y="2060640"/>
          <a:ext cx="28447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060640"/>
                    <a:ext cx="28447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6"/>
          <p:cNvGraphicFramePr/>
          <p:nvPr/>
        </p:nvGraphicFramePr>
        <p:xfrm>
          <a:off x="3780000" y="4149720"/>
          <a:ext cx="28699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149720"/>
                    <a:ext cx="2869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15"/>
          <p:cNvGraphicFramePr/>
          <p:nvPr/>
        </p:nvGraphicFramePr>
        <p:xfrm>
          <a:off x="3780000" y="2060640"/>
          <a:ext cx="27684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060640"/>
                    <a:ext cx="2768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16"/>
          <p:cNvGraphicFramePr/>
          <p:nvPr/>
        </p:nvGraphicFramePr>
        <p:xfrm>
          <a:off x="3851280" y="4221000"/>
          <a:ext cx="281952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221000"/>
                    <a:ext cx="281952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15"/>
          <p:cNvGraphicFramePr/>
          <p:nvPr/>
        </p:nvGraphicFramePr>
        <p:xfrm>
          <a:off x="3851280" y="2060640"/>
          <a:ext cx="28954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60640"/>
                    <a:ext cx="2895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16"/>
          <p:cNvGraphicFramePr/>
          <p:nvPr/>
        </p:nvGraphicFramePr>
        <p:xfrm>
          <a:off x="3780000" y="4149720"/>
          <a:ext cx="29080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149720"/>
                    <a:ext cx="2908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Object 15"/>
          <p:cNvGraphicFramePr/>
          <p:nvPr/>
        </p:nvGraphicFramePr>
        <p:xfrm>
          <a:off x="3708360" y="2060640"/>
          <a:ext cx="2882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060640"/>
                    <a:ext cx="2882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6"/>
          <p:cNvGraphicFramePr/>
          <p:nvPr/>
        </p:nvGraphicFramePr>
        <p:xfrm>
          <a:off x="3708360" y="4149720"/>
          <a:ext cx="25272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149720"/>
                    <a:ext cx="25272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Object 15"/>
          <p:cNvGraphicFramePr/>
          <p:nvPr/>
        </p:nvGraphicFramePr>
        <p:xfrm>
          <a:off x="3780000" y="2060640"/>
          <a:ext cx="28699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060640"/>
                    <a:ext cx="2869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6"/>
          <p:cNvGraphicFramePr/>
          <p:nvPr/>
        </p:nvGraphicFramePr>
        <p:xfrm>
          <a:off x="3995640" y="4149720"/>
          <a:ext cx="28321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149720"/>
                    <a:ext cx="2832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Object 15"/>
          <p:cNvGraphicFramePr/>
          <p:nvPr/>
        </p:nvGraphicFramePr>
        <p:xfrm>
          <a:off x="3708360" y="1989000"/>
          <a:ext cx="2882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989000"/>
                    <a:ext cx="2882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6"/>
          <p:cNvGraphicFramePr/>
          <p:nvPr/>
        </p:nvGraphicFramePr>
        <p:xfrm>
          <a:off x="3708360" y="4149720"/>
          <a:ext cx="32511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149720"/>
                    <a:ext cx="3251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15"/>
          <p:cNvGraphicFramePr/>
          <p:nvPr/>
        </p:nvGraphicFramePr>
        <p:xfrm>
          <a:off x="3708360" y="2060640"/>
          <a:ext cx="28195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060640"/>
                    <a:ext cx="2819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16"/>
          <p:cNvGraphicFramePr/>
          <p:nvPr/>
        </p:nvGraphicFramePr>
        <p:xfrm>
          <a:off x="3851280" y="4149720"/>
          <a:ext cx="24512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149720"/>
                    <a:ext cx="2451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Object 15"/>
          <p:cNvGraphicFramePr/>
          <p:nvPr/>
        </p:nvGraphicFramePr>
        <p:xfrm>
          <a:off x="3995640" y="2060640"/>
          <a:ext cx="28069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2060640"/>
                    <a:ext cx="2806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16"/>
          <p:cNvGraphicFramePr/>
          <p:nvPr/>
        </p:nvGraphicFramePr>
        <p:xfrm>
          <a:off x="3564000" y="4221000"/>
          <a:ext cx="328932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4221000"/>
                    <a:ext cx="328932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Object 15"/>
          <p:cNvGraphicFramePr/>
          <p:nvPr/>
        </p:nvGraphicFramePr>
        <p:xfrm>
          <a:off x="3708360" y="2060640"/>
          <a:ext cx="28447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060640"/>
                    <a:ext cx="28447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16"/>
          <p:cNvGraphicFramePr/>
          <p:nvPr/>
        </p:nvGraphicFramePr>
        <p:xfrm>
          <a:off x="3635280" y="4149720"/>
          <a:ext cx="27939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4149720"/>
                    <a:ext cx="2793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Object 28"/>
          <p:cNvGraphicFramePr/>
          <p:nvPr/>
        </p:nvGraphicFramePr>
        <p:xfrm>
          <a:off x="4284720" y="2060640"/>
          <a:ext cx="172728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060640"/>
                    <a:ext cx="1727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29"/>
          <p:cNvGraphicFramePr/>
          <p:nvPr/>
        </p:nvGraphicFramePr>
        <p:xfrm>
          <a:off x="4356000" y="4149720"/>
          <a:ext cx="17654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4149720"/>
                    <a:ext cx="1765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17"/>
          <p:cNvGraphicFramePr/>
          <p:nvPr/>
        </p:nvGraphicFramePr>
        <p:xfrm>
          <a:off x="4284720" y="2060640"/>
          <a:ext cx="17143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060640"/>
                    <a:ext cx="1714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18"/>
          <p:cNvGraphicFramePr/>
          <p:nvPr/>
        </p:nvGraphicFramePr>
        <p:xfrm>
          <a:off x="4140360" y="4149720"/>
          <a:ext cx="17269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4149720"/>
                    <a:ext cx="1726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15"/>
          <p:cNvGraphicFramePr/>
          <p:nvPr/>
        </p:nvGraphicFramePr>
        <p:xfrm>
          <a:off x="4356000" y="2133720"/>
          <a:ext cx="16765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2133720"/>
                    <a:ext cx="1676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16"/>
          <p:cNvGraphicFramePr/>
          <p:nvPr/>
        </p:nvGraphicFramePr>
        <p:xfrm>
          <a:off x="4067280" y="4149720"/>
          <a:ext cx="17269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4149720"/>
                    <a:ext cx="1726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15"/>
          <p:cNvGraphicFramePr/>
          <p:nvPr/>
        </p:nvGraphicFramePr>
        <p:xfrm>
          <a:off x="4140360" y="2060640"/>
          <a:ext cx="18032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060640"/>
                    <a:ext cx="1803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6"/>
          <p:cNvGraphicFramePr/>
          <p:nvPr/>
        </p:nvGraphicFramePr>
        <p:xfrm>
          <a:off x="4067280" y="4221000"/>
          <a:ext cx="179064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4221000"/>
                    <a:ext cx="179064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17"/>
          <p:cNvGraphicFramePr/>
          <p:nvPr/>
        </p:nvGraphicFramePr>
        <p:xfrm>
          <a:off x="4356000" y="2133720"/>
          <a:ext cx="17528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2133720"/>
                    <a:ext cx="17528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18"/>
          <p:cNvGraphicFramePr/>
          <p:nvPr/>
        </p:nvGraphicFramePr>
        <p:xfrm>
          <a:off x="4643280" y="4149720"/>
          <a:ext cx="13845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4149720"/>
                    <a:ext cx="13845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17"/>
          <p:cNvGraphicFramePr/>
          <p:nvPr/>
        </p:nvGraphicFramePr>
        <p:xfrm>
          <a:off x="4427640" y="1989000"/>
          <a:ext cx="172692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989000"/>
                    <a:ext cx="17269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18"/>
          <p:cNvGraphicFramePr/>
          <p:nvPr/>
        </p:nvGraphicFramePr>
        <p:xfrm>
          <a:off x="4284720" y="4221000"/>
          <a:ext cx="17272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221000"/>
                    <a:ext cx="17272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Object 17"/>
          <p:cNvGraphicFramePr/>
          <p:nvPr/>
        </p:nvGraphicFramePr>
        <p:xfrm>
          <a:off x="4356000" y="2060640"/>
          <a:ext cx="1739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2060640"/>
                    <a:ext cx="1739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9"/>
          <p:cNvGraphicFramePr/>
          <p:nvPr/>
        </p:nvGraphicFramePr>
        <p:xfrm>
          <a:off x="4211640" y="4149720"/>
          <a:ext cx="18162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149720"/>
                    <a:ext cx="18162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2-17T19:59:28Z</dcterms:modified>
  <cp:revision>15</cp:revision>
  <dc:subject/>
  <dc:title>Diapositive 1</dc:title>
</cp:coreProperties>
</file>