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2684-767B-476D-B28B-A7CDE26195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CD92-A381-49FE-A05A-D488A881B4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BB63-E0EC-4D23-9BC1-7D75D7C5E9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29FC-91BF-4D65-BC34-CC6E9CD713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B7D6-6333-41E2-80E5-35D3F328D7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254F-EE9B-47D5-8F6D-95F5B9F33D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2463-8435-4665-811B-27CDC75956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31C4-51FC-4C67-9662-2E8110805B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9117-88A3-416E-8900-6B30668D17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045F-9E82-4FB0-8CD2-272C484B4D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0A38-5A71-441F-8600-E2DF72BF8C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2FD5-FABA-44EC-BA06-DA26526524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56D7-8494-47CC-B3C6-500739D2DC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6B98-C0B9-4323-8150-E8CF7A9701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EF44-7D5F-4C9A-A07B-0FF341689B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246A-3B5F-4A19-AEB4-AB733CA08C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0EAF-03DF-465F-A60F-424DA8A158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E3B1-3581-44FF-8555-E6F27DEC01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DE44-6E66-46C7-80FE-03F8025203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137F-726A-4050-BD15-D08B4D9898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FFB9-3F4A-4627-8191-F661D8CFDA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F819-3DBA-4706-9C47-A22E0D960A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F44C-BB1C-4A59-A903-FC34D67A76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EF0D-0056-4872-A2F5-8FDD7ABBE4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29E6-D86E-4CAF-B710-9326D296D9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18B6-5055-4F9F-85C6-0FEAEEDFF5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295-89E4-4F79-8EBF-EE0539FD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A7F-BA64-436B-8FCE-45A7BD18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58C-B7C4-4EB5-B6D2-0CA63F56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11F-5712-47F4-8CF8-2E62D5AF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7D1-58FB-4D95-B1CC-5D4739D9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372-873E-44E7-9450-77385923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5D0-E7B5-4F54-A75E-77791BA4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498-6FF2-4010-8E13-7A4EE22A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D57-4C0B-41C5-B671-45CA1E66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DCB-4C60-4E25-94B3-A85E7ECF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F7F-3DC9-4D57-A5DD-4586B73C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F05-69CF-4711-A358-7A6D2129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5EE7-3A02-42A2-8129-48CEFDA9FB2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9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854600" cy="50562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8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950240" cy="50371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3552840" cy="50436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357520" cy="4957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7"/>
          <p:cNvSpPr/>
          <p:nvPr/>
        </p:nvSpPr>
        <p:spPr>
          <a:xfrm>
            <a:off x="1043640" y="6156360"/>
            <a:ext cx="69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isocèle en 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6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799400" cy="4708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7"/>
          <p:cNvSpPr/>
          <p:nvPr/>
        </p:nvSpPr>
        <p:spPr>
          <a:xfrm>
            <a:off x="827640" y="5950080"/>
            <a:ext cx="74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n 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902200" cy="5068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7"/>
          <p:cNvSpPr/>
          <p:nvPr/>
        </p:nvSpPr>
        <p:spPr>
          <a:xfrm>
            <a:off x="951120" y="6321600"/>
            <a:ext cx="66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équilatér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7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888240" cy="5038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8"/>
          <p:cNvSpPr/>
          <p:nvPr/>
        </p:nvSpPr>
        <p:spPr>
          <a:xfrm>
            <a:off x="360" y="6156360"/>
            <a:ext cx="9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t isocèle en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1116360" y="6156360"/>
            <a:ext cx="66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équilatér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8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5084640" cy="503892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3640" y="2492280"/>
            <a:ext cx="88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à vue d’œil, la nature des triang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uiva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5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769000" cy="5038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756360" y="6156360"/>
            <a:ext cx="74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n B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6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888240" cy="5040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7"/>
          <p:cNvSpPr/>
          <p:nvPr/>
        </p:nvSpPr>
        <p:spPr>
          <a:xfrm>
            <a:off x="720" y="6156360"/>
            <a:ext cx="94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t isocèle en 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854600" cy="505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900360" y="6156360"/>
            <a:ext cx="66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équilatér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6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950240" cy="5037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7"/>
          <p:cNvSpPr/>
          <p:nvPr/>
        </p:nvSpPr>
        <p:spPr>
          <a:xfrm>
            <a:off x="735840" y="6060960"/>
            <a:ext cx="74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n 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6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3552840" cy="5043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7"/>
          <p:cNvSpPr/>
          <p:nvPr/>
        </p:nvSpPr>
        <p:spPr>
          <a:xfrm>
            <a:off x="592920" y="5987880"/>
            <a:ext cx="69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isocèle en 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357520" cy="49579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99400" cy="47084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902200" cy="50688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6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888240" cy="50389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8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5084640" cy="50389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8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769000" cy="50389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8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888240" cy="50403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10T19:28:24Z</dcterms:modified>
  <cp:revision>18</cp:revision>
  <dc:subject/>
  <dc:title>Diapositive 1</dc:title>
</cp:coreProperties>
</file>