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F5F8-B67F-4328-9C07-C47BC254FB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636D-663E-4E67-8B90-9CB1069C4A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056-036C-4371-A15D-62F080A6C8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839-7D76-4757-9E46-38A2728BE1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12B-3695-4CB6-964D-3986963638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C66-006A-41F2-89F2-AE8F990016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B69-21E0-46B7-BD82-CFB22D06F0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1571-8AB6-4CA2-A4BC-3C9822373F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E27-BEE8-4E70-B30F-A75D9C6E98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9D5-3F91-4160-8C3B-74162ADA68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D0AA-A4A9-44DE-A9A6-2A865D722B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92B7-E2BA-459E-9E6D-07531ED925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5FDE-9F79-4C3F-A612-3A4AA0C192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1A3-6DB8-470D-8AB3-0090061ED8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2E8-6ABD-4730-BB0C-3175B699EE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112-5B54-487B-92D2-49B2DC8BA2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705-0BFA-42C4-A38F-4FD085A841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3AD-E09A-4782-9F88-115D330BB5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6C7C-A1B6-4276-B92B-FB975A6163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AEF-5256-4559-83B8-010E28C341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040C-57EA-44EA-9BDB-168DE47C38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6EEC-1EEB-4000-B205-660BF25F15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21F-F08C-42BA-9DF1-6CD2EF03F0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F2EA-C607-495A-92EF-02F8FEB76E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238-36DC-4075-8184-17CF70DD65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CE3-23CB-4D2D-97A1-FCE3B695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BBF-B6C1-41C7-9889-A9D52C0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31D-22D9-4507-B4F4-22920A9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226-E26B-4B86-AF9D-C84D19C4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F83-CE17-4B6C-811E-E8F6C3E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ADA-8DBC-4886-883B-121E9FE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4B6-B41F-4FAD-8701-043C8FC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C4F-44E5-4127-9E98-5D2AA7C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592-742E-44C4-9CE9-3B63287B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1D0-16C9-44FE-A42A-09E9DBB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D92-6531-4766-953A-9A435A3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ACA-D386-4802-B15D-597A0DE0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C56-DA10-466B-96F4-1A64A9FA2A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02"/>
          <p:cNvSpPr/>
          <p:nvPr/>
        </p:nvSpPr>
        <p:spPr>
          <a:xfrm>
            <a:off x="42480" y="5589720"/>
            <a:ext cx="90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5"/>
          <p:cNvSpPr/>
          <p:nvPr/>
        </p:nvSpPr>
        <p:spPr>
          <a:xfrm>
            <a:off x="376200" y="5556240"/>
            <a:ext cx="72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1662120" y="6156360"/>
            <a:ext cx="569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5"/>
          <p:cNvSpPr/>
          <p:nvPr/>
        </p:nvSpPr>
        <p:spPr>
          <a:xfrm>
            <a:off x="1662480" y="5589720"/>
            <a:ext cx="60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65"/>
          <p:cNvSpPr/>
          <p:nvPr/>
        </p:nvSpPr>
        <p:spPr>
          <a:xfrm>
            <a:off x="1591200" y="5516640"/>
            <a:ext cx="63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65"/>
          <p:cNvSpPr/>
          <p:nvPr/>
        </p:nvSpPr>
        <p:spPr>
          <a:xfrm>
            <a:off x="2052000" y="5516640"/>
            <a:ext cx="53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74"/>
          <p:cNvSpPr/>
          <p:nvPr/>
        </p:nvSpPr>
        <p:spPr>
          <a:xfrm>
            <a:off x="634680" y="5556240"/>
            <a:ext cx="59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54"/>
          <p:cNvSpPr/>
          <p:nvPr/>
        </p:nvSpPr>
        <p:spPr>
          <a:xfrm>
            <a:off x="1736280" y="5373720"/>
            <a:ext cx="54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06"/>
          <p:cNvSpPr/>
          <p:nvPr/>
        </p:nvSpPr>
        <p:spPr>
          <a:xfrm>
            <a:off x="726120" y="55166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65"/>
          <p:cNvSpPr/>
          <p:nvPr/>
        </p:nvSpPr>
        <p:spPr>
          <a:xfrm>
            <a:off x="1520280" y="5516640"/>
            <a:ext cx="58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5"/>
          <p:cNvSpPr/>
          <p:nvPr/>
        </p:nvSpPr>
        <p:spPr>
          <a:xfrm>
            <a:off x="1025280" y="5484960"/>
            <a:ext cx="47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5"/>
          <p:cNvSpPr/>
          <p:nvPr/>
        </p:nvSpPr>
        <p:spPr>
          <a:xfrm>
            <a:off x="1086120" y="5516640"/>
            <a:ext cx="65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65"/>
          <p:cNvSpPr/>
          <p:nvPr/>
        </p:nvSpPr>
        <p:spPr>
          <a:xfrm>
            <a:off x="2124720" y="5589720"/>
            <a:ext cx="52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5"/>
          <p:cNvSpPr/>
          <p:nvPr/>
        </p:nvSpPr>
        <p:spPr>
          <a:xfrm>
            <a:off x="345600" y="5556240"/>
            <a:ext cx="84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63"/>
          <p:cNvSpPr/>
          <p:nvPr/>
        </p:nvSpPr>
        <p:spPr>
          <a:xfrm>
            <a:off x="201240" y="534024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3"/>
          <p:cNvSpPr/>
          <p:nvPr/>
        </p:nvSpPr>
        <p:spPr>
          <a:xfrm>
            <a:off x="1187280" y="5516640"/>
            <a:ext cx="75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 t-il de garçon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65"/>
          <p:cNvSpPr/>
          <p:nvPr/>
        </p:nvSpPr>
        <p:spPr>
          <a:xfrm>
            <a:off x="344880" y="5556240"/>
            <a:ext cx="81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65"/>
          <p:cNvSpPr/>
          <p:nvPr/>
        </p:nvSpPr>
        <p:spPr>
          <a:xfrm>
            <a:off x="345960" y="55562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65"/>
          <p:cNvSpPr/>
          <p:nvPr/>
        </p:nvSpPr>
        <p:spPr>
          <a:xfrm>
            <a:off x="561600" y="548496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6"/>
          <p:cNvSpPr/>
          <p:nvPr/>
        </p:nvSpPr>
        <p:spPr>
          <a:xfrm>
            <a:off x="879480" y="5484960"/>
            <a:ext cx="71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09T17:18:28Z</dcterms:modified>
  <cp:revision>20</cp:revision>
  <dc:subject/>
  <dc:title>Diapositive 1</dc:title>
</cp:coreProperties>
</file>