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958D-BD56-40D4-9038-0D53615E0E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6318-9F0F-445A-8C5F-95B1A022E3B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D02C-9C29-419B-B585-9BE430DFF9C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8BDC-FD66-41F2-A29B-E7C40197FDA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DFF9-82EC-427C-8082-3E1C35530FC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E20F-67DE-4FD4-848C-A1CE8112297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4B34-6A8B-45F6-B82B-A732DD9BBC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B192-335C-474A-82F1-9EAA929E3DC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8376-BAD7-4E5C-8F15-8D70BFF2031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239E-3F26-4355-8C06-EB8447E366D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C1C9-AD47-42E0-8164-86A8E81D1F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B522-03FD-4F9E-8CDE-95D0822ED3C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4930-143B-48E8-929F-5FD2AD6576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1A77-00DB-40A4-8AF1-47672F94358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7E50-9656-4627-A811-7D91D2F7B5D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DF7E-93C0-4341-93C5-6CE145ADE5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F245-8076-4D9C-9A45-E75CA4CA3EF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271D-4B01-424E-9C85-4D3EA34D61C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B5AB-057F-46F8-ACF7-CB1677A2BCD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2C3D-C490-4852-BCB2-F2424620CD7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7FF8-C4F9-497D-BB00-66FDA170AE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E8AE-EABB-46CB-BED1-ADFE2266D0F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15DA-57CE-4EC6-8064-B29F4422D8F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BFA8-AB93-4382-A485-126118D21F1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707B-C5E8-4FAC-ACB2-8B4C26139BA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74A8-9990-4592-88AC-21E6BA07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F95A-9F95-4CDB-A0B1-BD582BB5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645B-3784-4C00-A4D8-B08F65BA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7D30-7732-4BEE-906B-8DFFCF62D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7EE7-0723-49E2-9426-8D6F2C48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579E-288E-4EBE-B65D-A838DA51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0B6C-48C6-4B35-88C2-EA6279A8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698E-2894-4EDD-A883-67FC2B21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222E-240D-4830-958E-66F0E972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E0C5-976D-4091-961C-C9FA1429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EA8E-787F-42B4-B79C-B77E6FEB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2466-DDE6-4382-BD1A-62C5B85C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6CC9-D5E3-41D6-A274-2B9B5E4AE8C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4544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ZoneTexte 5"/>
          <p:cNvSpPr/>
          <p:nvPr/>
        </p:nvSpPr>
        <p:spPr>
          <a:xfrm>
            <a:off x="2151000" y="1773360"/>
            <a:ext cx="543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implifie la fraction par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28"/>
          <p:cNvGraphicFramePr/>
          <p:nvPr/>
        </p:nvGraphicFramePr>
        <p:xfrm>
          <a:off x="3708360" y="2492280"/>
          <a:ext cx="208764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492280"/>
                    <a:ext cx="208764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ZoneTexte 5"/>
          <p:cNvSpPr/>
          <p:nvPr/>
        </p:nvSpPr>
        <p:spPr>
          <a:xfrm>
            <a:off x="2151000" y="1773360"/>
            <a:ext cx="543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implifie la fraction par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Object 28"/>
          <p:cNvGraphicFramePr/>
          <p:nvPr/>
        </p:nvGraphicFramePr>
        <p:xfrm>
          <a:off x="4140360" y="2565360"/>
          <a:ext cx="1800000" cy="394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565360"/>
                    <a:ext cx="1800000" cy="39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Object 26"/>
          <p:cNvGraphicFramePr/>
          <p:nvPr/>
        </p:nvGraphicFramePr>
        <p:xfrm>
          <a:off x="250920" y="2205000"/>
          <a:ext cx="8569080" cy="32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205000"/>
                    <a:ext cx="856908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Object 26"/>
          <p:cNvGraphicFramePr/>
          <p:nvPr/>
        </p:nvGraphicFramePr>
        <p:xfrm>
          <a:off x="611280" y="2060640"/>
          <a:ext cx="8175600" cy="31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060640"/>
                    <a:ext cx="8175600" cy="31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26"/>
          <p:cNvGraphicFramePr/>
          <p:nvPr/>
        </p:nvGraphicFramePr>
        <p:xfrm>
          <a:off x="179280" y="2349360"/>
          <a:ext cx="8785440" cy="336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349360"/>
                    <a:ext cx="8785440" cy="336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26"/>
          <p:cNvGraphicFramePr/>
          <p:nvPr/>
        </p:nvGraphicFramePr>
        <p:xfrm>
          <a:off x="179280" y="1844640"/>
          <a:ext cx="8906040" cy="33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44640"/>
                    <a:ext cx="890604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Object 37"/>
          <p:cNvGraphicFramePr/>
          <p:nvPr/>
        </p:nvGraphicFramePr>
        <p:xfrm>
          <a:off x="179280" y="1989000"/>
          <a:ext cx="8785440" cy="340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8785440" cy="34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Object 15"/>
          <p:cNvGraphicFramePr/>
          <p:nvPr/>
        </p:nvGraphicFramePr>
        <p:xfrm>
          <a:off x="179280" y="2060640"/>
          <a:ext cx="8785440" cy="34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060640"/>
                    <a:ext cx="8785440" cy="34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ZoneTexte 5"/>
          <p:cNvSpPr/>
          <p:nvPr/>
        </p:nvSpPr>
        <p:spPr>
          <a:xfrm>
            <a:off x="2151000" y="1773360"/>
            <a:ext cx="543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implifie la fraction par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32"/>
          <p:cNvGraphicFramePr/>
          <p:nvPr/>
        </p:nvGraphicFramePr>
        <p:xfrm>
          <a:off x="3780000" y="2781360"/>
          <a:ext cx="183168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781360"/>
                    <a:ext cx="183168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Object 26"/>
          <p:cNvGraphicFramePr/>
          <p:nvPr/>
        </p:nvGraphicFramePr>
        <p:xfrm>
          <a:off x="179280" y="2205000"/>
          <a:ext cx="886788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205000"/>
                    <a:ext cx="886788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26"/>
          <p:cNvGraphicFramePr/>
          <p:nvPr/>
        </p:nvGraphicFramePr>
        <p:xfrm>
          <a:off x="250920" y="2349360"/>
          <a:ext cx="864216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349360"/>
                    <a:ext cx="864216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Object 26"/>
          <p:cNvGraphicFramePr/>
          <p:nvPr/>
        </p:nvGraphicFramePr>
        <p:xfrm>
          <a:off x="250920" y="2060640"/>
          <a:ext cx="8569080" cy="32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060640"/>
                    <a:ext cx="856908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Object 26"/>
          <p:cNvGraphicFramePr/>
          <p:nvPr/>
        </p:nvGraphicFramePr>
        <p:xfrm>
          <a:off x="468360" y="2349360"/>
          <a:ext cx="8015400" cy="32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49360"/>
                    <a:ext cx="801540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ZoneTexte 5"/>
          <p:cNvSpPr/>
          <p:nvPr/>
        </p:nvSpPr>
        <p:spPr>
          <a:xfrm>
            <a:off x="2151000" y="1773360"/>
            <a:ext cx="543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implifie la fraction par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28"/>
          <p:cNvGraphicFramePr/>
          <p:nvPr/>
        </p:nvGraphicFramePr>
        <p:xfrm>
          <a:off x="3635280" y="2492280"/>
          <a:ext cx="212580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492280"/>
                    <a:ext cx="212580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ZoneTexte 5"/>
          <p:cNvSpPr/>
          <p:nvPr/>
        </p:nvSpPr>
        <p:spPr>
          <a:xfrm>
            <a:off x="2151000" y="1773360"/>
            <a:ext cx="543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implifie la fraction par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26"/>
          <p:cNvGraphicFramePr/>
          <p:nvPr/>
        </p:nvGraphicFramePr>
        <p:xfrm>
          <a:off x="3708360" y="2565360"/>
          <a:ext cx="205092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565360"/>
                    <a:ext cx="205092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ZoneTexte 5"/>
          <p:cNvSpPr/>
          <p:nvPr/>
        </p:nvSpPr>
        <p:spPr>
          <a:xfrm>
            <a:off x="2151000" y="1773360"/>
            <a:ext cx="543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implifie la fraction par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Object 26"/>
          <p:cNvGraphicFramePr/>
          <p:nvPr/>
        </p:nvGraphicFramePr>
        <p:xfrm>
          <a:off x="3348000" y="2565360"/>
          <a:ext cx="208764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565360"/>
                    <a:ext cx="208764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ZoneTexte 5"/>
          <p:cNvSpPr/>
          <p:nvPr/>
        </p:nvSpPr>
        <p:spPr>
          <a:xfrm>
            <a:off x="2151000" y="1773360"/>
            <a:ext cx="543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implifie la fraction par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28"/>
          <p:cNvGraphicFramePr/>
          <p:nvPr/>
        </p:nvGraphicFramePr>
        <p:xfrm>
          <a:off x="3851280" y="2421000"/>
          <a:ext cx="216216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421000"/>
                    <a:ext cx="216216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ZoneTexte 5"/>
          <p:cNvSpPr/>
          <p:nvPr/>
        </p:nvSpPr>
        <p:spPr>
          <a:xfrm>
            <a:off x="2151000" y="1773360"/>
            <a:ext cx="543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implifie la fraction par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Object 28"/>
          <p:cNvGraphicFramePr/>
          <p:nvPr/>
        </p:nvGraphicFramePr>
        <p:xfrm>
          <a:off x="3780000" y="2492280"/>
          <a:ext cx="2160360" cy="42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492280"/>
                    <a:ext cx="2160360" cy="42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ZoneTexte 5"/>
          <p:cNvSpPr/>
          <p:nvPr/>
        </p:nvSpPr>
        <p:spPr>
          <a:xfrm>
            <a:off x="2151000" y="1773360"/>
            <a:ext cx="543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implifie la fraction par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28"/>
          <p:cNvGraphicFramePr/>
          <p:nvPr/>
        </p:nvGraphicFramePr>
        <p:xfrm>
          <a:off x="3492360" y="2565360"/>
          <a:ext cx="264024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565360"/>
                    <a:ext cx="264024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ZoneTexte 5"/>
          <p:cNvSpPr/>
          <p:nvPr/>
        </p:nvSpPr>
        <p:spPr>
          <a:xfrm>
            <a:off x="2142720" y="1773360"/>
            <a:ext cx="568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implifie la fraction par 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Object 39"/>
          <p:cNvGraphicFramePr/>
          <p:nvPr/>
        </p:nvGraphicFramePr>
        <p:xfrm>
          <a:off x="3492360" y="2565360"/>
          <a:ext cx="250056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565360"/>
                    <a:ext cx="250056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1-31T20:14:23Z</dcterms:modified>
  <cp:revision>20</cp:revision>
  <dc:subject/>
  <dc:title>Diapositive 1</dc:title>
</cp:coreProperties>
</file>