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E695-F751-43F6-9E24-4812452E3A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227-7450-42CB-9611-B11EEB60D1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20DD-E43A-4CC8-BDFF-E60433B780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DBB9-0C2D-4D52-9E8C-EC2DFEC098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D02-EE67-4E27-AFEB-B6DEA220C9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22CB-2615-47A8-8F1B-BEB5495D4F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2F6-A903-4AE6-944F-49DFD0A28D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1DA-8204-4551-8B2A-041C159B3F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D818-3009-4B45-A080-B3EF011B73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A89-16F7-4E21-9E19-614C7EE639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A3F8-E877-44F0-92AE-703050A0AD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56A-3BDC-4304-934E-A3E078A0A6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CBEF-C9EA-4341-8C80-B03920DD5B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8A5-F535-4420-91C6-D4CC2F42B3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4F16-F5DB-4FE5-9732-BD27CF4836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0B3F-60E8-4D45-AB22-EFB2C21AEF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504B-8B23-459A-9777-1010914E15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125-C439-4A02-BD1F-A37C478485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7BF-A6BC-41E1-8AE1-7B7EA1BD3A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71A-DA01-482A-A1C1-BC0CCA4B48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3D9-9BF9-4D1E-A730-C8214A7B34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EEC7-2BBE-4E0B-9BD9-FA7E1A4ED2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7C0-1B07-4EFE-8DF0-7F84A129FE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12A0-AE64-46A1-8ED6-776C5E0670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F149-CA98-4E16-B171-C6E6CA01D1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322-D8B1-4301-A4AB-D56F5E55EC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D67-3688-4246-9A62-2FD826D5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3D8-80AA-4A05-B45D-70332699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F77-19FA-4E3B-9521-90A064BA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57A-A159-4A03-BA01-724EAE1A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F4A-EC49-4E2F-BF11-EBE8025F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531-1732-4759-9465-1308E44B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3A4-9EA9-4867-8BFE-E575CFB3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327-7776-4478-89B8-15EE2061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026-4000-492C-8694-F126E1F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DC6-0D95-409E-9E7B-7FC1245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9E9-D9F1-4592-9C98-9D6D833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D00-E97C-4F7B-8C9E-1BB2281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0813-A73B-4637-BA53-497D088A5E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500720" y="213372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50072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427640" y="4149720"/>
          <a:ext cx="1295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284720" y="198900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8900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9"/>
          <p:cNvGraphicFramePr/>
          <p:nvPr/>
        </p:nvGraphicFramePr>
        <p:xfrm>
          <a:off x="4356000" y="4221000"/>
          <a:ext cx="1282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282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0836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85128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851280" y="198900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067280" y="4149720"/>
          <a:ext cx="208260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0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51280" y="2060640"/>
          <a:ext cx="276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6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24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780000" y="1989000"/>
          <a:ext cx="2755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755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708360" y="4149720"/>
          <a:ext cx="2718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18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635280" y="2060640"/>
          <a:ext cx="3187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187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708360" y="4149720"/>
          <a:ext cx="2781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00720" y="213372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427640" y="4149720"/>
          <a:ext cx="1346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46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643280" y="2133720"/>
          <a:ext cx="1333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1333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788000" y="4149720"/>
          <a:ext cx="1333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149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427640" y="2060640"/>
          <a:ext cx="135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5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2133720"/>
          <a:ext cx="1295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356000" y="4149720"/>
          <a:ext cx="13208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427640" y="206064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572000" y="4149720"/>
          <a:ext cx="10922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092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427640" y="1989000"/>
          <a:ext cx="1320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356000" y="4221000"/>
          <a:ext cx="13208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3208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2T18:23:47Z</dcterms:modified>
  <cp:revision>15</cp:revision>
  <dc:subject/>
  <dc:title>Diapositive 1</dc:title>
</cp:coreProperties>
</file>