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E094-4CD2-42CC-9387-1C2EE575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5B9B-089D-4B00-927D-66E4AD7F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DF45-301B-4098-B1EE-77FEA1AD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567B-4C67-441D-84EE-3481BAF0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C521-5140-4974-B2A3-915A8049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1228-4258-4AD3-95B9-6D23B09B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B653-8C2B-40E9-AB42-B81E6F06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AB8D-4457-4C6C-B477-81A2B204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DF9F-91C7-4788-9AEB-AAC84237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5432-6BF9-40CA-B584-2695D038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905F-CABC-4C68-A200-F3891C0B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8245-DD5D-4047-903D-196D1349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3FD7-2946-4927-8335-8141FF359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77280" y="5268960"/>
            <a:ext cx="709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a mesure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02720" cy="4692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1080" y="5950080"/>
            <a:ext cx="709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a mesure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619280" y="1268280"/>
            <a:ext cx="6143760" cy="4507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4880" y="5629320"/>
            <a:ext cx="836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et angle se nomme             ou           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427640" y="5589720"/>
          <a:ext cx="1562040" cy="85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5589720"/>
                    <a:ext cx="15620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516720" y="5589720"/>
          <a:ext cx="1409760" cy="850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6720" y="5589720"/>
                    <a:ext cx="14097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8459640" y="5589720"/>
          <a:ext cx="520920" cy="83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459640" y="5589720"/>
                    <a:ext cx="5209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763640" y="1268280"/>
            <a:ext cx="6143760" cy="4507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2360" y="5805360"/>
            <a:ext cx="79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sommet de cet angle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le poin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692360" y="1268280"/>
            <a:ext cx="6143400" cy="4507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20" y="5546880"/>
            <a:ext cx="920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côtés de cet angles sont les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demi-dro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[BA) et [BC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85320" y="5556240"/>
            <a:ext cx="86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et angle se nomme             ou             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140360" y="5589720"/>
          <a:ext cx="1600200" cy="85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360" y="5589720"/>
                    <a:ext cx="16002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372360" y="5589720"/>
          <a:ext cx="1523880" cy="850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72360" y="5589720"/>
                    <a:ext cx="152388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8458200" y="5734080"/>
          <a:ext cx="685800" cy="83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458200" y="5734080"/>
                    <a:ext cx="685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" y="5445000"/>
            <a:ext cx="798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sommet de cet angle est le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point 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-91440" y="5484960"/>
            <a:ext cx="900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côtés de cet angle sont les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demi-dro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[HG) et [HT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835280" y="2060640"/>
            <a:ext cx="6143400" cy="4506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80000" y="1341360"/>
            <a:ext cx="58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 un nom de cet ang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419800" cy="4019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03440" y="5484960"/>
            <a:ext cx="127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N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403440" y="5629320"/>
            <a:ext cx="10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O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70160" y="5373720"/>
            <a:ext cx="467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t angle mesure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90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02720" cy="4692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052360" y="5877000"/>
            <a:ext cx="49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t angle mesure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110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835280" y="2351160"/>
            <a:ext cx="6143400" cy="4506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17440" y="1341360"/>
            <a:ext cx="686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 est le sommet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835280" y="2205000"/>
            <a:ext cx="6143400" cy="4506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16360" y="1341360"/>
            <a:ext cx="69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s sont les côtés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80000" y="1341360"/>
            <a:ext cx="58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 un nom de cet ang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17440" y="1341360"/>
            <a:ext cx="686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 est le sommet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16360" y="1341360"/>
            <a:ext cx="69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s sont les côtés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419800" cy="4019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8920" y="52689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rapporteur est-il bien placé pour mesur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600" y="530064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rapporteur est-il bien placé pour mesur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8-09T16:16:32Z</dcterms:modified>
  <cp:revision>20</cp:revision>
  <dc:subject/>
  <dc:title>Diapositive 1</dc:title>
</cp:coreProperties>
</file>