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4EB-EAA2-48F5-A250-45934E54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D4D-BAEF-4604-9FBF-88573CD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1F5-CF76-497D-B975-4056B2AB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18A-3507-4B29-9D45-4FF56C6C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4C7-E962-4C88-8E87-42D0C08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69A-EC49-4224-8BFB-D1ABBFA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661-1F27-4214-9944-79FA5E9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3F8-45EF-426E-A51F-F70C5C9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635-46C0-4E48-AF6E-D05187A0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AA2-A69E-4C0F-9478-20626EF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B29-0665-4359-8ED6-FC2AE32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EDA-E802-4A8A-AF13-8205A19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2E3-133B-4B1E-B900-2D75512274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1164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284720" y="4221000"/>
          <a:ext cx="21844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21844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211640" y="198900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14036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472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284720" y="4149720"/>
          <a:ext cx="1778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778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08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9564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48000" y="2133720"/>
          <a:ext cx="3949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348000" y="4221000"/>
          <a:ext cx="3898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98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8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2060640"/>
          <a:ext cx="3632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48000" y="4221000"/>
          <a:ext cx="36702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6702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780000" y="1989000"/>
          <a:ext cx="3288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80000" y="4221000"/>
          <a:ext cx="3213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13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708360" y="2060640"/>
          <a:ext cx="3225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225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780000" y="4149720"/>
          <a:ext cx="3288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1164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46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84720" y="213372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133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414972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2133720"/>
          <a:ext cx="2197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21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95640" y="4221000"/>
          <a:ext cx="2108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108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567,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345, quel est le chiff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5,67 quel est le nomb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986,12 quel est le nomb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68,92 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136,087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9,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49,06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4T21:25:15Z</dcterms:modified>
  <cp:revision>18</cp:revision>
  <dc:subject/>
  <dc:title>Diapositive 1</dc:title>
</cp:coreProperties>
</file>