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5FDB-4F36-4614-93CC-F9426285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B66-AFDC-4C75-A5B2-60BD30A9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03E-272A-4E6F-9102-0480ED9B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340-4E6A-4C00-A9A0-2B942EC4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701-25FB-4479-B4B8-CB1AF58A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C6C-9225-4579-8E4B-2B01D7AC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6BC-DFF1-4583-8C70-CCAA36B9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3EE-D287-4580-AAE4-DA63BF4C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6F2-5425-4FE3-B2BE-3D216A50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41F-6726-4B12-BE82-E9B85EBD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ACE-7FF0-477A-BA90-B8DD67D6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D02-5361-4529-816A-319B63B1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8312-AD49-4578-9938-BEB12059E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8560" y="1596960"/>
            <a:ext cx="784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uis en symboles mathématiqu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280" y="3613320"/>
            <a:ext cx="584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droites (d1) et (d2) s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pendiculai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8560" y="1596960"/>
            <a:ext cx="784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uis en symboles mathématiqu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6000" y="3324240"/>
            <a:ext cx="787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droite (QS) est parallèle à la dro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G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610240" cy="466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5800" y="6060960"/>
            <a:ext cx="843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droites (AB) et (CD) son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arallè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486400" cy="4415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1440" y="5892840"/>
            <a:ext cx="86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droites (AT) et (AP) so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perpendicula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627280" y="5969160"/>
          <a:ext cx="41403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5969160"/>
                    <a:ext cx="4140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124000" y="1413000"/>
            <a:ext cx="4927680" cy="449568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11280" y="5969160"/>
          <a:ext cx="406404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5969160"/>
                    <a:ext cx="40640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124000" y="1413000"/>
            <a:ext cx="4927680" cy="449568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927680" cy="44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556000" y="5969160"/>
          <a:ext cx="4140000" cy="88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5969160"/>
                    <a:ext cx="41400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21411"/>
          <a:stretch/>
        </p:blipFill>
        <p:spPr>
          <a:xfrm>
            <a:off x="2411280" y="1341360"/>
            <a:ext cx="4129200" cy="3963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2920" y="5484960"/>
            <a:ext cx="866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droite (d)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médiatri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u seg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AB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2189160"/>
            <a:ext cx="5610240" cy="466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9440" y="1379520"/>
            <a:ext cx="84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nt sont les droites (AB) et (C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070240" cy="4322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00" y="5546880"/>
            <a:ext cx="799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’est la droit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erpendiculaire à (AB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assant par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340320" cy="4654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88920" y="5845320"/>
            <a:ext cx="829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édiatrice du segment [TS]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(d2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21440" y="1628640"/>
            <a:ext cx="584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droites (d1) et (d2) s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pendiculai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4076640"/>
          <a:ext cx="358128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4076640"/>
                    <a:ext cx="35812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0880" y="1844640"/>
            <a:ext cx="787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droite (QS) est parallèle à la dro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G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411280" y="3933720"/>
          <a:ext cx="39625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933720"/>
                    <a:ext cx="39625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486400" cy="441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5800" y="1236600"/>
            <a:ext cx="83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nt sont les droites (AT) et (AP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2362320"/>
            <a:ext cx="492768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720" y="141300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813200" y="1413000"/>
          <a:ext cx="4330800" cy="88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13200" y="1413000"/>
                    <a:ext cx="43308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24000" y="2362320"/>
            <a:ext cx="4927680" cy="4495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720" y="141300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859280" y="1341360"/>
          <a:ext cx="406404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341360"/>
                    <a:ext cx="40640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95640" y="2362320"/>
            <a:ext cx="4927320" cy="449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720" y="141300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6600" y="1341360"/>
          <a:ext cx="412740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16600" y="1341360"/>
                    <a:ext cx="41274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21411"/>
          <a:stretch/>
        </p:blipFill>
        <p:spPr>
          <a:xfrm>
            <a:off x="2843280" y="2637000"/>
            <a:ext cx="4129200" cy="3963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2160" y="1341360"/>
            <a:ext cx="744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 représente la droite (d) pour 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gment [AB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1959120"/>
            <a:ext cx="5746680" cy="4898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2920" y="1452600"/>
            <a:ext cx="77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cris la droite rouge de cette figu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2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03280" y="2203560"/>
            <a:ext cx="6340680" cy="465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4000" y="1379520"/>
            <a:ext cx="87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médiatrice du segment [TS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30T19:51:00Z</dcterms:modified>
  <cp:revision>20</cp:revision>
  <dc:subject/>
  <dc:title>Diapositive 1</dc:title>
</cp:coreProperties>
</file>