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172C-A4C9-4AD8-9595-682D9225DF8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108B-13B3-46A4-AA70-5C357775E6F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018E-8B1B-491D-8B51-80C825B451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DBE5-027E-4F74-BB48-73683B1FA02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5B9E-A9F8-4AA4-969C-1E77B2CF5C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BA24-C6F6-4565-8A3D-D7BF455E869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68CA-D2F1-414B-AD93-6506611E99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65E1-BAED-433B-94B9-A5F27CB301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E2B4-0FDC-4F18-9E1D-0C96DB0771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027D-633D-4A5F-AD51-4A6F063A46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48DE-ED13-4F97-BD24-DC464679FB1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DF16-C321-48A9-9022-9681032BEB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F527-EB42-4864-BAC2-98CB4458E27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E45B-DB97-49FF-AE80-87F567D7EF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23F3-77F2-43E5-A897-072C530E1E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495F-663E-4EE1-824F-DAC84A75F7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0952-A5C9-483E-942D-0CD006AA0A6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68B0-0672-4128-A0ED-F5938846E0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CE77-4807-445E-BF7B-0EF374787E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B483-ECBE-4E0C-A52A-210D6D2E0A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1520-4E5E-48DD-9E13-65E0C0870B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8BBF-ACB6-455C-A9F4-962907DFD0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DE6A-5AF6-4BBE-803F-508AE515A5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7038-45FB-4D62-9ECA-9D3A4B3E6B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8167-9A7F-447E-AC6F-D2B54A05B0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6ACC-F44D-4519-B9CF-ABFC9EC6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7D24-0845-4435-9BC7-2C356B30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26E5-6CAB-4F34-A4F4-31C84A03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AA88-D079-4F70-A85B-BC3CCAB7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5CAE-0BCC-4884-97E8-25D4B2F7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86E8-8C74-44CC-B0DD-1C83A9FA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9524-DD42-4661-9CA5-4149BDF7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EA83-52E7-4D2C-BF07-BBAD678E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0B44-445B-412A-B507-4703115C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C843-F29F-418B-A438-EA9A0BE5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1AD1-7E98-4F89-BBE3-DE3D5C63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E6CF-20CD-44E0-A91F-8E201ABD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E0EE-D83B-48AE-9E97-0F94D0A0A3B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2240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9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269040" cy="5002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9" descr=""/>
          <p:cNvPicPr/>
          <p:nvPr/>
        </p:nvPicPr>
        <p:blipFill>
          <a:blip r:embed="rId1"/>
          <a:stretch/>
        </p:blipFill>
        <p:spPr>
          <a:xfrm>
            <a:off x="60480" y="1413000"/>
            <a:ext cx="9083520" cy="4294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6" descr=""/>
          <p:cNvPicPr/>
          <p:nvPr/>
        </p:nvPicPr>
        <p:blipFill>
          <a:blip r:embed="rId1"/>
          <a:stretch/>
        </p:blipFill>
        <p:spPr>
          <a:xfrm>
            <a:off x="0" y="1268280"/>
            <a:ext cx="9163080" cy="5040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7"/>
          <p:cNvSpPr/>
          <p:nvPr/>
        </p:nvSpPr>
        <p:spPr>
          <a:xfrm>
            <a:off x="3709080" y="6156360"/>
            <a:ext cx="10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aig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6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5776920" cy="5031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7"/>
          <p:cNvSpPr/>
          <p:nvPr/>
        </p:nvSpPr>
        <p:spPr>
          <a:xfrm>
            <a:off x="3112920" y="6132600"/>
            <a:ext cx="139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Ob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6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77120" cy="46944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7"/>
          <p:cNvSpPr/>
          <p:nvPr/>
        </p:nvSpPr>
        <p:spPr>
          <a:xfrm>
            <a:off x="3328920" y="5987880"/>
            <a:ext cx="139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Ob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6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331120" cy="4309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7"/>
          <p:cNvSpPr/>
          <p:nvPr/>
        </p:nvSpPr>
        <p:spPr>
          <a:xfrm>
            <a:off x="3257280" y="577224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Pl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7" descr=""/>
          <p:cNvPicPr/>
          <p:nvPr/>
        </p:nvPicPr>
        <p:blipFill>
          <a:blip r:embed="rId1"/>
          <a:stretch/>
        </p:blipFill>
        <p:spPr>
          <a:xfrm>
            <a:off x="0" y="1413000"/>
            <a:ext cx="9012240" cy="39909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8"/>
          <p:cNvSpPr/>
          <p:nvPr/>
        </p:nvSpPr>
        <p:spPr>
          <a:xfrm>
            <a:off x="3473280" y="5845320"/>
            <a:ext cx="139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Ob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5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4973400" cy="50371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6"/>
          <p:cNvSpPr/>
          <p:nvPr/>
        </p:nvSpPr>
        <p:spPr>
          <a:xfrm>
            <a:off x="3257280" y="598788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Aig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3" descr=""/>
          <p:cNvPicPr/>
          <p:nvPr/>
        </p:nvPicPr>
        <p:blipFill>
          <a:blip r:embed="rId1"/>
          <a:stretch/>
        </p:blipFill>
        <p:spPr>
          <a:xfrm>
            <a:off x="0" y="1268280"/>
            <a:ext cx="9163080" cy="504036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6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556080" cy="4869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7"/>
          <p:cNvSpPr/>
          <p:nvPr/>
        </p:nvSpPr>
        <p:spPr>
          <a:xfrm>
            <a:off x="3186000" y="591660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Aig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6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929040" cy="4915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7"/>
          <p:cNvSpPr/>
          <p:nvPr/>
        </p:nvSpPr>
        <p:spPr>
          <a:xfrm>
            <a:off x="3257280" y="598788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Aig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6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269040" cy="50022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27"/>
          <p:cNvSpPr/>
          <p:nvPr/>
        </p:nvSpPr>
        <p:spPr>
          <a:xfrm>
            <a:off x="3112920" y="606096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Aig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6" descr=""/>
          <p:cNvPicPr/>
          <p:nvPr/>
        </p:nvPicPr>
        <p:blipFill>
          <a:blip r:embed="rId1"/>
          <a:stretch/>
        </p:blipFill>
        <p:spPr>
          <a:xfrm>
            <a:off x="60480" y="1413000"/>
            <a:ext cx="9083520" cy="42940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7"/>
          <p:cNvSpPr/>
          <p:nvPr/>
        </p:nvSpPr>
        <p:spPr>
          <a:xfrm>
            <a:off x="3257640" y="5772240"/>
            <a:ext cx="125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Dro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9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5776920" cy="5031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7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77120" cy="4694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7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331120" cy="4309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2"/>
          <p:cNvSpPr/>
          <p:nvPr/>
        </p:nvSpPr>
        <p:spPr>
          <a:xfrm>
            <a:off x="0" y="6165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9" descr=""/>
          <p:cNvPicPr/>
          <p:nvPr/>
        </p:nvPicPr>
        <p:blipFill>
          <a:blip r:embed="rId1"/>
          <a:stretch/>
        </p:blipFill>
        <p:spPr>
          <a:xfrm>
            <a:off x="0" y="1413000"/>
            <a:ext cx="9012240" cy="39909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9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4973400" cy="5037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9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556080" cy="4869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0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929040" cy="4915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11-18T20:12:44Z</dcterms:modified>
  <cp:revision>19</cp:revision>
  <dc:subject/>
  <dc:title>Diapositive 1</dc:title>
</cp:coreProperties>
</file>