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646-3EEB-42CE-B73D-BED71792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FF3-AF2E-4E2A-8027-BF4F0AF7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802-4365-4F11-8B25-BE475803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03E-CB8D-4819-AC83-8B9ADCD0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A09-B0DA-47A3-A4F1-2044D248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60A-0FD6-478C-B2D9-6E588C68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7FB-F9A1-440A-ABA8-0E2ACE3F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F7F-D7A3-45A4-8F97-40A6D5F6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405-943A-4142-994E-F3E44E0E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AD5-C368-4E6C-9C75-C3B3F11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235-D131-4E01-A3FF-E90DB0F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1C1-84BC-449A-8D3D-4CC489B6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556F-CE93-4238-B6E5-FC49D744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732720" y="1628640"/>
          <a:ext cx="147312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628640"/>
                    <a:ext cx="1473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04000" y="3645000"/>
          <a:ext cx="11430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3645000"/>
                    <a:ext cx="1143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00720" y="198900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98900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4149720"/>
          <a:ext cx="137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00720" y="2060640"/>
          <a:ext cx="1320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20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0" y="407664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7664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348000" y="1557360"/>
          <a:ext cx="393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393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3573360"/>
          <a:ext cx="40640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73360"/>
                    <a:ext cx="40640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2436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4800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492360" y="4149720"/>
          <a:ext cx="3632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60640"/>
          <a:ext cx="3962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419640" y="4149720"/>
          <a:ext cx="3606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60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48000" y="1989000"/>
          <a:ext cx="387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7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03640" y="4076640"/>
          <a:ext cx="41907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190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&lt;12&lt;34&lt;5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2&gt;34&gt;6&gt;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7&gt;12&gt;9&gt;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&lt;56&lt;78&lt;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484280"/>
          <a:ext cx="38862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8862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92360" y="3645000"/>
          <a:ext cx="32259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645000"/>
                    <a:ext cx="3225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9564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95640" y="4221000"/>
          <a:ext cx="2882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882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51280" y="2133720"/>
          <a:ext cx="2730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5128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45,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618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3280" y="206064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4036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211640" y="4076640"/>
          <a:ext cx="212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212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40360" y="2060640"/>
          <a:ext cx="2463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463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4036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92360" y="2565360"/>
          <a:ext cx="3886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3886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03640" y="4581360"/>
          <a:ext cx="4228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81360"/>
                    <a:ext cx="4228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12; 56; 34; 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 s l’ordre décroissant 6; 34; 72;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4;67;9;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56;78;92;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4:51Z</dcterms:modified>
  <cp:revision>19</cp:revision>
  <dc:subject/>
  <dc:title>Diapositive 1</dc:title>
</cp:coreProperties>
</file>