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E01-B91F-4205-BEB8-5EDB892E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B88-5A25-4549-8315-11E48F1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656-2E2E-454E-B239-504E163E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5E6-A584-428D-8772-D8AAA193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572-E51D-4DDF-B2AA-13BA258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1B0-DD68-4C9C-A909-E6BA080A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D2A-AA01-446B-BE69-432F967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17B-8BC0-40E0-BFE6-0671E4D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1BE-7973-4123-81A7-5A4BCCE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5B3-7A48-4347-B548-02FD92F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B07-7DAA-484D-84EE-802C0EF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F59-DEC2-4360-8DDB-F25DB02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A7F-5296-4D11-A92F-6A58B069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1397160"/>
          <a:ext cx="6361200" cy="4572000"/>
        </p:xfrm>
        <a:graphic>
          <a:graphicData uri="http://schemas.openxmlformats.org/drawingml/2006/table">
            <a:tbl>
              <a:tblPr/>
              <a:tblGrid>
                <a:gridCol w="1608120"/>
                <a:gridCol w="475308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213372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32360" y="4437000"/>
          <a:ext cx="29196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37000"/>
                    <a:ext cx="291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76720" y="2708280"/>
          <a:ext cx="4216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08280"/>
                    <a:ext cx="42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59280" y="4941720"/>
          <a:ext cx="4635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4941720"/>
                    <a:ext cx="4635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40,7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1,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1023,0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0340,09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24360" y="206064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6484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0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48000" y="2133720"/>
          <a:ext cx="4686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468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19640" y="4149720"/>
          <a:ext cx="396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1484280"/>
          <a:ext cx="40132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573360"/>
          <a:ext cx="40258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40258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1557360"/>
          <a:ext cx="33019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557360"/>
                    <a:ext cx="33019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48000" y="3645000"/>
          <a:ext cx="4013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64500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35280" y="1989000"/>
          <a:ext cx="31496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149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4149720"/>
          <a:ext cx="3517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3517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989000"/>
          <a:ext cx="3746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3746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03640" y="4076640"/>
          <a:ext cx="4254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25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557360"/>
          <a:ext cx="4838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557360"/>
                    <a:ext cx="4838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51280" y="3573360"/>
          <a:ext cx="38354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3835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133720"/>
          <a:ext cx="5981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981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24000" y="4005360"/>
          <a:ext cx="6540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005360"/>
                    <a:ext cx="654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98900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198900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6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9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34,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78,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1397160"/>
          <a:ext cx="70088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4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1628640"/>
          <a:ext cx="11811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1628640"/>
                    <a:ext cx="1181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32720" y="3573360"/>
          <a:ext cx="1536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573360"/>
                    <a:ext cx="1536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8,905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8,094 quel est le chiff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59640" y="220500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32720" y="4292640"/>
          <a:ext cx="2919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29264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67280" y="2637000"/>
          <a:ext cx="2158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637000"/>
                    <a:ext cx="215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067280" y="4797360"/>
          <a:ext cx="2361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7973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7T19:04:35Z</dcterms:modified>
  <cp:revision>18</cp:revision>
  <dc:subject/>
  <dc:title>Diapositive 1</dc:title>
</cp:coreProperties>
</file>