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F6B-0D11-41F7-8E62-FF636972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AD9-A769-4EEC-9924-B96CA83F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06A-BDB2-484D-A601-4ABE7147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278-167A-4222-8B77-E2A12EFF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9B2-4B0C-4A72-BDB0-B2638CB4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B48-4ADD-46B2-A952-43BD6D56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6F1-7CD6-4313-B679-5D663AA8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4AD-CC2C-4A95-A791-F29F483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C55-D14A-418E-A3D1-E3AD041B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E9A-5209-46B9-95C6-DEF4C03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88E-E278-44E1-9D02-EC51B45B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910-FED1-45FA-B2E7-8622BC13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890B-EEC9-40A4-BA07-A402EE83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411280" y="2529000"/>
            <a:ext cx="4467240" cy="43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3080" y="1355760"/>
            <a:ext cx="778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gment [CI] 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" y="1355760"/>
            <a:ext cx="89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points H et P sont symétriques par rapport 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d), comment appelle-t-on encore c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xe de symétr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5064480" cy="38019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134136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4320" y="5877000"/>
            <a:ext cx="74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1116000" y="1268280"/>
            <a:ext cx="7329600" cy="456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4680" y="5877000"/>
            <a:ext cx="75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H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3800" cy="469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1400" y="5950080"/>
            <a:ext cx="88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symétrique du segment [CD] est le segmen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[FH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2050920" y="1268280"/>
            <a:ext cx="5276880" cy="422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7120" y="5460840"/>
            <a:ext cx="90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GP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d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DE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132160" cy="433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0960" y="5583240"/>
            <a:ext cx="34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’est l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ercle bl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9240" y="567684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B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06064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8880" y="5676840"/>
            <a:ext cx="88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F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8880" y="5676840"/>
            <a:ext cx="89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195640" y="1268280"/>
            <a:ext cx="4467240" cy="432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00" y="5667480"/>
            <a:ext cx="88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IC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JO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FK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064120" cy="38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720" y="5268960"/>
            <a:ext cx="79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 [HP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29068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1843200"/>
            <a:ext cx="6815160" cy="50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520" y="1284120"/>
            <a:ext cx="87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CD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1979640" y="26370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3800" y="1284120"/>
            <a:ext cx="89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GP] par rapport à la droite (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2521080"/>
            <a:ext cx="5132520" cy="433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4160" y="1284120"/>
            <a:ext cx="84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cer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ge par rapport à la droite (AB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2520" y="1284120"/>
            <a:ext cx="86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160" y="1284120"/>
            <a:ext cx="85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2160" y="1284120"/>
            <a:ext cx="86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09T02:21:26Z</dcterms:modified>
  <cp:revision>20</cp:revision>
  <dc:subject/>
  <dc:title>Diapositive 1</dc:title>
</cp:coreProperties>
</file>