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3CA-37D9-4A52-8098-D0CBDA8B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1F34-4488-4019-9C4C-E6A6B70C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3FE-7E69-4E71-9A1B-5284AF69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EC8-AE1F-498D-AB33-580ADA86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0A80-0AB2-4F6F-8248-76E3A679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100-4D4F-43F9-9CAC-1516AD13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24B-2B3B-49BC-8996-4B16E3F0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C385-A03D-4F91-B788-1E8EA1C1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B1E6-14D6-4D58-BFA3-E44C23C9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2613-7C02-4C6F-90F8-1727607D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90F-0D0A-4098-8AE1-4E0BD080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DD9-A35A-4122-B26B-800F1EB5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622E-2880-4046-BC4C-AA8623553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9280" y="1523880"/>
            <a:ext cx="8212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groupe de 3 filles et de 4 garçons 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ndent au cinéma et rejoignent leurs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mis là-b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combien de personnes est compos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 grou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2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9840" y="1884240"/>
            <a:ext cx="839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ui est ravie. Son frère vient de lu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heter 3 timbres qu’elle va ajouter à 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lection de 1546 timb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en de timbres possède-t-el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inten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2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340000" y="2708280"/>
          <a:ext cx="4775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708280"/>
                    <a:ext cx="4775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2637000"/>
          <a:ext cx="48387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637000"/>
                    <a:ext cx="4838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627280" y="2708280"/>
          <a:ext cx="3835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708280"/>
                    <a:ext cx="3835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700360" y="2708280"/>
          <a:ext cx="3898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708280"/>
                    <a:ext cx="389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55640" y="2781360"/>
          <a:ext cx="75182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781360"/>
                    <a:ext cx="7518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68360" y="2708280"/>
          <a:ext cx="52452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708280"/>
                    <a:ext cx="5245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720" y="1844640"/>
            <a:ext cx="874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eva a 250F en poche. Son père lui don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100F de plus. Combien Teva possède t-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ainten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2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79640" y="2708280"/>
          <a:ext cx="5181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708280"/>
                    <a:ext cx="5181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76360" y="2708280"/>
          <a:ext cx="6184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08280"/>
                    <a:ext cx="6184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700360" y="2708280"/>
          <a:ext cx="3594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708280"/>
                    <a:ext cx="3594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340000" y="2708280"/>
          <a:ext cx="4660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708280"/>
                    <a:ext cx="4660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440" y="1773360"/>
            <a:ext cx="916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nia se rend au magasin avec 500F p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heter un paquet de biscuit qui coûte 280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en lui-reste-t-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2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1739880"/>
            <a:ext cx="9023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ui possède 6 billes bleus, 3 billes rou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2 billes jaunes. Combien de bi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sède-t-il en t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2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6720" y="1812960"/>
            <a:ext cx="8253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Hereiti aime les fleurs. Dans son jardi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lle compte 6 roses, 7 tulipes et 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rchidées. Combien de fleurs y’a-t-i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ans  son jard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2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720" y="1668600"/>
            <a:ext cx="8774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oana fait du « va’a ». Il rame depuis l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inte venus jusqu’à Arue où il fait demi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our. Sachant qu’il met 20 minutes p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rriver à Arue, et 27 minutes pour reven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e temps total de sa cou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2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42920" y="3933720"/>
            <a:ext cx="6675480" cy="257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0720" y="1379520"/>
            <a:ext cx="877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=5cm et PB=2cm. Quelle est le me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u segment [AB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2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7931160" cy="2282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9280" y="1379520"/>
            <a:ext cx="738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M=3cm et BC=9cm. Quelle est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sure du segment [MC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2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3840" y="1379520"/>
            <a:ext cx="749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jardinier doit clôturer un terra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iangulai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32000" y="2060640"/>
            <a:ext cx="4357800" cy="3611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3120" y="5629320"/>
            <a:ext cx="791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en de mètres de grillage doit-i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évo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2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7-13T19:44:10Z</dcterms:modified>
  <cp:revision>17</cp:revision>
  <dc:subject/>
  <dc:title>Diapositive 1</dc:title>
</cp:coreProperties>
</file>