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BF1F-B32A-46D3-B2C0-5FBA54EEB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73DB-AE17-4573-BB65-17C786389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30C2-8266-4DBA-B096-9DD652C60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7321-9AF5-4C91-A66B-85462EDD1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927B-3230-42A2-9407-DBD6A3AAD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664B-8D93-4EA8-82F0-6DC486514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B362-6062-4CC0-B0A3-9A139BEA0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C3BE-F9B8-4C47-A6B2-FE8C87E7F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260F-D9B0-4A90-87CB-9C77CD2EB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D923-2D33-42C7-8AE6-99626ABA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524F-4DE3-4E4D-8882-2EABEAA3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5F68-4CC5-4AD9-A1F1-B886DC23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386BD-1249-42D7-8E33-76C7B898586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ctivités mentales 6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995640" y="1989000"/>
          <a:ext cx="21589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1989000"/>
                    <a:ext cx="21589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4067280" y="4149720"/>
          <a:ext cx="215892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7280" y="4149720"/>
                    <a:ext cx="21589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1" dur="10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995640" y="2060640"/>
          <a:ext cx="20574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2060640"/>
                    <a:ext cx="20574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3851280" y="4149720"/>
          <a:ext cx="205740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4149720"/>
                    <a:ext cx="20574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8" dur="10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356000" y="2060640"/>
          <a:ext cx="13590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2060640"/>
                    <a:ext cx="13590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4284720" y="4221000"/>
          <a:ext cx="130788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4221000"/>
                    <a:ext cx="130788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5" dur="10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1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155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155" fill="hold"/>
                                        <p:tgtEl>
                                          <p:spTgt spid="1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115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115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635280" y="1989000"/>
          <a:ext cx="28321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1989000"/>
                    <a:ext cx="28321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3708360" y="4221000"/>
          <a:ext cx="287028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4221000"/>
                    <a:ext cx="287028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0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708360" y="2060640"/>
          <a:ext cx="31370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2060640"/>
                    <a:ext cx="31370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3564000" y="4221000"/>
          <a:ext cx="320040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4221000"/>
                    <a:ext cx="320040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7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635280" y="2060640"/>
          <a:ext cx="32893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2060640"/>
                    <a:ext cx="32893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3708360" y="4149720"/>
          <a:ext cx="328932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4149720"/>
                    <a:ext cx="32893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4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3708360" y="1989000"/>
          <a:ext cx="32767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1989000"/>
                    <a:ext cx="32767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3780000" y="4221000"/>
          <a:ext cx="328896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4221000"/>
                    <a:ext cx="328896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1" dur="5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419640" y="2133720"/>
          <a:ext cx="38606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2133720"/>
                    <a:ext cx="38606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3276720" y="4149720"/>
          <a:ext cx="405108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4149720"/>
                    <a:ext cx="40510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8" dur="5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476360" y="981000"/>
          <a:ext cx="6095880" cy="1224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haut: SUJET 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1403280" y="3716280"/>
          <a:ext cx="6096240" cy="1368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bas: SUJET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492360" y="2060640"/>
          <a:ext cx="35308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2060640"/>
                    <a:ext cx="35308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3203640" y="4292640"/>
          <a:ext cx="398772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4292640"/>
                    <a:ext cx="39877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5" dur="5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276720" y="2060640"/>
          <a:ext cx="36576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060640"/>
                    <a:ext cx="36576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348000" y="4221000"/>
          <a:ext cx="392436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4221000"/>
                    <a:ext cx="392436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2" dur="5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276720" y="2060640"/>
          <a:ext cx="40510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060640"/>
                    <a:ext cx="40510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3276720" y="4292640"/>
          <a:ext cx="403848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4292640"/>
                    <a:ext cx="40384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5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492360" y="2060640"/>
          <a:ext cx="35308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2060640"/>
                    <a:ext cx="35308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3419640" y="4292640"/>
          <a:ext cx="347976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19640" y="4292640"/>
                    <a:ext cx="34797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6" dur="5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708360" y="2060640"/>
          <a:ext cx="28828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2060640"/>
                    <a:ext cx="28828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80000" y="4149720"/>
          <a:ext cx="280656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4149720"/>
                    <a:ext cx="28065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3" dur="5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643280" y="2060640"/>
          <a:ext cx="13971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2060640"/>
                    <a:ext cx="13971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4643280" y="4149720"/>
          <a:ext cx="143532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4149720"/>
                    <a:ext cx="14353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" dur="10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427640" y="1989000"/>
          <a:ext cx="17143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1989000"/>
                    <a:ext cx="17143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4500720" y="4149720"/>
          <a:ext cx="176508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0720" y="4149720"/>
                    <a:ext cx="17650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" dur="10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211640" y="2060640"/>
          <a:ext cx="17906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2060640"/>
                    <a:ext cx="17906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4211640" y="4149720"/>
          <a:ext cx="180324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4149720"/>
                    <a:ext cx="18032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" dur="10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211640" y="1989000"/>
          <a:ext cx="17654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1989000"/>
                    <a:ext cx="17654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4211640" y="4149720"/>
          <a:ext cx="176544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4149720"/>
                    <a:ext cx="17654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211640" y="2060640"/>
          <a:ext cx="20574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2060640"/>
                    <a:ext cx="20574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851280" y="4149720"/>
          <a:ext cx="2184480" cy="58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4149720"/>
                    <a:ext cx="21844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0" dur="10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851280" y="2133720"/>
          <a:ext cx="21081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133720"/>
                    <a:ext cx="21081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3635280" y="4149720"/>
          <a:ext cx="248940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35280" y="4149720"/>
                    <a:ext cx="24894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7" dur="10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067280" y="2060640"/>
          <a:ext cx="21841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2060640"/>
                    <a:ext cx="21841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3780000" y="4149720"/>
          <a:ext cx="210816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4149720"/>
                    <a:ext cx="21081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" dur="10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7-12T19:08:12Z</dcterms:modified>
  <cp:revision>14</cp:revision>
  <dc:subject/>
  <dc:title>Diapositive 1</dc:title>
</cp:coreProperties>
</file>