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8071-B273-45AB-85C2-FC8C330DB62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0540-CD8D-4D5F-8102-D86C742AFF0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2A31-19EA-4E83-8F0B-8AA13A20DF4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912D-8ECE-4622-8360-F9602B1794F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D107-3C6A-42DD-9363-7C28FE70A55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C985-B3AD-454D-8F78-E6F6F9785C6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8DBF-93DF-4106-BC2F-7562165B477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C46C-2339-4BB1-8A98-399709A98F9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FA5A-6120-444A-ADCA-310A1543763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2971-CAC1-4915-BD48-95E2284320E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E977-F103-4785-BD72-46E3EF0EA42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4EC9-896D-4EBA-85AC-8E03BA5078C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96E9-6C58-4410-9B7D-1701C54F666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AFA3-9FF2-4ACF-96DE-81C90A54F4E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85CE-1669-40FC-ABFA-46A5F65C45E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2E6F-C65C-4F6F-A85A-D236DB0BFED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8DB5-C33F-45C5-916B-D0E877AF070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1EC6-9DBA-4F8A-9077-6F2B6CE7508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45A2-BB24-4D19-83A5-DD7EAF50CC8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9A3D-D912-4281-877A-6FE36275A48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768B-1AF5-475A-81D5-82879E54E92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6AE8-B058-4BE2-A731-71EBD22786D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9D7D-35DB-4CFC-8E11-874E28ED890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4E6A-EE29-443C-9801-F07A1CA6606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4D47-5554-4FE0-9660-090354EC64E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12C7-7D45-4C01-BCE0-6846001CC3B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E686-A262-4FB6-91AE-5356ACE4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A4DD-38AE-4670-9434-5C21DFBC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7C21-AE62-4819-B77B-E75DAD06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2180-41F7-441F-AA1B-A9DC5ECF7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8BBE-BDA5-4A9D-BFCD-F3D7DB88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F902-66F0-42A6-AB7C-5E4F9FF3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10EC-4181-4E0D-A3EE-CEC48A1E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479F-964D-4221-ABF8-F9F7D6A5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4645-0FF3-446B-8400-72DF93DC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5129-8D6A-4E10-97D7-E04187E6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F5B6-7E48-4E23-98A3-813CF4ED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5397-D254-4521-87B0-A9637DE7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D6A6-6071-4DA2-9885-7E589B35A0C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  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79280" y="1397160"/>
          <a:ext cx="8856720" cy="4063680"/>
        </p:xfrm>
        <a:graphic>
          <a:graphicData uri="http://schemas.openxmlformats.org/drawingml/2006/table">
            <a:tbl>
              <a:tblPr/>
              <a:tblGrid>
                <a:gridCol w="1656000"/>
                <a:gridCol w="72007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re l’abscisse du point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re l’abscisse du point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1" descr=""/>
          <p:cNvPicPr/>
          <p:nvPr/>
        </p:nvPicPr>
        <p:blipFill>
          <a:blip r:embed="rId1"/>
          <a:stretch/>
        </p:blipFill>
        <p:spPr>
          <a:xfrm>
            <a:off x="2195640" y="2205000"/>
            <a:ext cx="6262560" cy="1087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2" descr=""/>
          <p:cNvPicPr/>
          <p:nvPr/>
        </p:nvPicPr>
        <p:blipFill>
          <a:blip r:embed="rId2"/>
          <a:stretch/>
        </p:blipFill>
        <p:spPr>
          <a:xfrm>
            <a:off x="2124000" y="4292640"/>
            <a:ext cx="6175440" cy="86688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20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79280" y="1397160"/>
          <a:ext cx="8785440" cy="4063680"/>
        </p:xfrm>
        <a:graphic>
          <a:graphicData uri="http://schemas.openxmlformats.org/drawingml/2006/table">
            <a:tbl>
              <a:tblPr/>
              <a:tblGrid>
                <a:gridCol w="1728720"/>
                <a:gridCol w="70567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re l’abscisse du point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re l’abscisse du point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3" descr=""/>
          <p:cNvPicPr/>
          <p:nvPr/>
        </p:nvPicPr>
        <p:blipFill>
          <a:blip r:embed="rId1"/>
          <a:stretch/>
        </p:blipFill>
        <p:spPr>
          <a:xfrm>
            <a:off x="2195640" y="2276640"/>
            <a:ext cx="6046560" cy="917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4" descr=""/>
          <p:cNvPicPr/>
          <p:nvPr/>
        </p:nvPicPr>
        <p:blipFill>
          <a:blip r:embed="rId2"/>
          <a:stretch/>
        </p:blipFill>
        <p:spPr>
          <a:xfrm>
            <a:off x="2124000" y="4292640"/>
            <a:ext cx="6305760" cy="87156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20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79280" y="1397160"/>
          <a:ext cx="8856720" cy="4063680"/>
        </p:xfrm>
        <a:graphic>
          <a:graphicData uri="http://schemas.openxmlformats.org/drawingml/2006/table">
            <a:tbl>
              <a:tblPr/>
              <a:tblGrid>
                <a:gridCol w="1728720"/>
                <a:gridCol w="712800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re l’abscisse du point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re l’abscisse du point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1" descr=""/>
          <p:cNvPicPr/>
          <p:nvPr/>
        </p:nvPicPr>
        <p:blipFill>
          <a:blip r:embed="rId1"/>
          <a:stretch/>
        </p:blipFill>
        <p:spPr>
          <a:xfrm>
            <a:off x="2268360" y="2276640"/>
            <a:ext cx="6110640" cy="895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2" descr=""/>
          <p:cNvPicPr/>
          <p:nvPr/>
        </p:nvPicPr>
        <p:blipFill>
          <a:blip r:embed="rId2"/>
          <a:stretch/>
        </p:blipFill>
        <p:spPr>
          <a:xfrm>
            <a:off x="2124000" y="4221000"/>
            <a:ext cx="6089760" cy="102240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20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Object 15"/>
          <p:cNvGraphicFramePr/>
          <p:nvPr/>
        </p:nvGraphicFramePr>
        <p:xfrm>
          <a:off x="3419640" y="1557360"/>
          <a:ext cx="383508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557360"/>
                    <a:ext cx="383508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6"/>
          <p:cNvGraphicFramePr/>
          <p:nvPr/>
        </p:nvGraphicFramePr>
        <p:xfrm>
          <a:off x="3419640" y="3573360"/>
          <a:ext cx="388620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3573360"/>
                    <a:ext cx="388620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397160"/>
          <a:ext cx="8642160" cy="4063680"/>
        </p:xfrm>
        <a:graphic>
          <a:graphicData uri="http://schemas.openxmlformats.org/drawingml/2006/table">
            <a:tbl>
              <a:tblPr/>
              <a:tblGrid>
                <a:gridCol w="1728720"/>
                <a:gridCol w="69134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Object 15"/>
          <p:cNvGraphicFramePr/>
          <p:nvPr/>
        </p:nvGraphicFramePr>
        <p:xfrm>
          <a:off x="2411280" y="1989000"/>
          <a:ext cx="62485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989000"/>
                    <a:ext cx="6248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19"/>
          <p:cNvGraphicFramePr/>
          <p:nvPr/>
        </p:nvGraphicFramePr>
        <p:xfrm>
          <a:off x="2287440" y="4221000"/>
          <a:ext cx="628668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7440" y="4221000"/>
                    <a:ext cx="628668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1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15"/>
          <p:cNvGraphicFramePr/>
          <p:nvPr/>
        </p:nvGraphicFramePr>
        <p:xfrm>
          <a:off x="3182760" y="2133720"/>
          <a:ext cx="39751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2760" y="2133720"/>
                    <a:ext cx="39751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16"/>
          <p:cNvGraphicFramePr/>
          <p:nvPr/>
        </p:nvGraphicFramePr>
        <p:xfrm>
          <a:off x="3708360" y="4221000"/>
          <a:ext cx="312408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221000"/>
                    <a:ext cx="312408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15"/>
          <p:cNvGraphicFramePr/>
          <p:nvPr/>
        </p:nvGraphicFramePr>
        <p:xfrm>
          <a:off x="3851280" y="2060640"/>
          <a:ext cx="28828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060640"/>
                    <a:ext cx="2882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6"/>
          <p:cNvGraphicFramePr/>
          <p:nvPr/>
        </p:nvGraphicFramePr>
        <p:xfrm>
          <a:off x="3924360" y="4149720"/>
          <a:ext cx="28195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149720"/>
                    <a:ext cx="2819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15"/>
          <p:cNvGraphicFramePr/>
          <p:nvPr/>
        </p:nvGraphicFramePr>
        <p:xfrm>
          <a:off x="3564000" y="2060640"/>
          <a:ext cx="31878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2060640"/>
                    <a:ext cx="31878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16"/>
          <p:cNvGraphicFramePr/>
          <p:nvPr/>
        </p:nvGraphicFramePr>
        <p:xfrm>
          <a:off x="3348000" y="4149720"/>
          <a:ext cx="39495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149720"/>
                    <a:ext cx="39495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A(4)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B(-3)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A(6)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B(1)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A(-5)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B(2)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A(-1)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B(1)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A(-2,5)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B(3,5)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r la fraction décimale de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r la fraction décimale de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Object 30"/>
          <p:cNvGraphicFramePr/>
          <p:nvPr/>
        </p:nvGraphicFramePr>
        <p:xfrm>
          <a:off x="5724360" y="1989000"/>
          <a:ext cx="16131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1989000"/>
                    <a:ext cx="16131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31"/>
          <p:cNvGraphicFramePr/>
          <p:nvPr/>
        </p:nvGraphicFramePr>
        <p:xfrm>
          <a:off x="5580000" y="4149720"/>
          <a:ext cx="1650960" cy="7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4149720"/>
                    <a:ext cx="16509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7340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4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ge les nombres suivants dans l’ordre décroissant: 34,61,78,41, 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ge les nombres suivants dans l’ordre croissant: 63, 93, 60, 32, 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2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15"/>
          <p:cNvGraphicFramePr/>
          <p:nvPr/>
        </p:nvGraphicFramePr>
        <p:xfrm>
          <a:off x="4211640" y="2060640"/>
          <a:ext cx="21844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2060640"/>
                    <a:ext cx="21844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16"/>
          <p:cNvGraphicFramePr/>
          <p:nvPr/>
        </p:nvGraphicFramePr>
        <p:xfrm>
          <a:off x="4427640" y="4221000"/>
          <a:ext cx="161280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4221000"/>
                    <a:ext cx="161280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Object 15"/>
          <p:cNvGraphicFramePr/>
          <p:nvPr/>
        </p:nvGraphicFramePr>
        <p:xfrm>
          <a:off x="4067280" y="2060640"/>
          <a:ext cx="17650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060640"/>
                    <a:ext cx="17650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16"/>
          <p:cNvGraphicFramePr/>
          <p:nvPr/>
        </p:nvGraphicFramePr>
        <p:xfrm>
          <a:off x="4140360" y="4149720"/>
          <a:ext cx="16891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4149720"/>
                    <a:ext cx="16891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Object 17"/>
          <p:cNvGraphicFramePr/>
          <p:nvPr/>
        </p:nvGraphicFramePr>
        <p:xfrm>
          <a:off x="4356000" y="2060640"/>
          <a:ext cx="167652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2060640"/>
                    <a:ext cx="16765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8"/>
          <p:cNvGraphicFramePr/>
          <p:nvPr/>
        </p:nvGraphicFramePr>
        <p:xfrm>
          <a:off x="4140360" y="4149720"/>
          <a:ext cx="21463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4149720"/>
                    <a:ext cx="21463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79280" y="1397160"/>
          <a:ext cx="8713800" cy="4063680"/>
        </p:xfrm>
        <a:graphic>
          <a:graphicData uri="http://schemas.openxmlformats.org/drawingml/2006/table">
            <a:tbl>
              <a:tblPr/>
              <a:tblGrid>
                <a:gridCol w="1800360"/>
                <a:gridCol w="69134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re l’abscisse du point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re l’abscisse du point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22" descr=""/>
          <p:cNvPicPr/>
          <p:nvPr/>
        </p:nvPicPr>
        <p:blipFill>
          <a:blip r:embed="rId1"/>
          <a:stretch/>
        </p:blipFill>
        <p:spPr>
          <a:xfrm>
            <a:off x="2050920" y="2276640"/>
            <a:ext cx="6640560" cy="718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3" descr=""/>
          <p:cNvPicPr/>
          <p:nvPr/>
        </p:nvPicPr>
        <p:blipFill>
          <a:blip r:embed="rId2"/>
          <a:stretch/>
        </p:blipFill>
        <p:spPr>
          <a:xfrm>
            <a:off x="2124000" y="4292640"/>
            <a:ext cx="6297840" cy="60804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20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1397160"/>
          <a:ext cx="8713800" cy="4063680"/>
        </p:xfrm>
        <a:graphic>
          <a:graphicData uri="http://schemas.openxmlformats.org/drawingml/2006/table">
            <a:tbl>
              <a:tblPr/>
              <a:tblGrid>
                <a:gridCol w="1728720"/>
                <a:gridCol w="698508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re l’abscisse du point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re l’abscisse du point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4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5783400" cy="946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5" descr=""/>
          <p:cNvPicPr/>
          <p:nvPr/>
        </p:nvPicPr>
        <p:blipFill>
          <a:blip r:embed="rId2"/>
          <a:stretch/>
        </p:blipFill>
        <p:spPr>
          <a:xfrm>
            <a:off x="2340000" y="4292640"/>
            <a:ext cx="6237360" cy="86688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20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0-10-26T19:44:59Z</dcterms:modified>
  <cp:revision>26</cp:revision>
  <dc:subject/>
  <dc:title>Diapositive 1</dc:title>
</cp:coreProperties>
</file>