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46DC-46B5-490D-A61F-9F46CA0BA3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34A9-A20A-4052-93B7-0229184EE9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C260-FE9A-44B0-8060-CE0B4A8AF8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5938-7D24-41D1-9416-DCD3B59E68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E31B-68D0-493E-8421-34637CC2B8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19BB-4A31-4FE6-93B2-FC9AA95DBE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97C9-00E1-4C3B-AC28-622E3A02F5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AB58-25D6-4197-A4E9-05EE734DF9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996C-1503-4B6F-BD06-628B3ED6B8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B116-7D67-4217-8691-351120BA15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2243-36F9-4471-AD09-2ACB0AAEFA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B00E-1396-46C6-A88A-2A9BD8FC12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7501-A822-4B19-B667-C2EAB8764A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109D-AD3A-4D03-9A28-221906B794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9CFF-F5FB-4953-88D5-5B8F8C985A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F4F-AF89-48EF-93DA-AE3A8A3345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CB4C-4DC5-418F-9FA9-10E2BE192F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09FE-5927-4064-8A68-BF047C5646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DBE3-9ABD-4E3B-A653-2F38185939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EC2A-37C9-4008-97D5-7E3CA011D6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333C-A0D0-4D3F-BDB6-AE48A0A9EB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FC4F-3794-4999-A91B-11BE557F9B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7DCD-56DD-4428-82F2-A61D034A0D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397E-A0DB-4B1A-8617-26AFF7B6D8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DE93-6CB3-4629-80E1-2B3D37ABD7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C1E0-9F6A-42CB-8C76-99D9C2EF25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0B4-9600-4526-BF65-8EF8E0FE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2C0-6514-4D82-BF05-6C8BFDCA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5E1-F913-4474-B874-DEB26D66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460-B2C7-4957-AB95-C2388855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EC6-E060-47C5-823C-312052A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7A0-131D-4E32-A686-EBB4A331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113-D238-415C-BC5A-D992FD64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4B0-44BF-47AB-ABDC-4465C155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E11-3AC7-40ED-946E-481780B3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24D-C6D8-4A46-8232-E90B7A29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77C-7530-4839-912B-A17E9DFC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E72-EC6D-4A67-A271-8C82302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8721-7C19-4F8E-AAEA-5F28646541E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9"/>
          <p:cNvGraphicFramePr/>
          <p:nvPr/>
        </p:nvGraphicFramePr>
        <p:xfrm>
          <a:off x="1619280" y="3429000"/>
          <a:ext cx="589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89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28"/>
          <p:cNvGraphicFramePr/>
          <p:nvPr/>
        </p:nvGraphicFramePr>
        <p:xfrm>
          <a:off x="1619280" y="3429000"/>
          <a:ext cx="55627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562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28"/>
          <p:cNvGraphicFramePr/>
          <p:nvPr/>
        </p:nvGraphicFramePr>
        <p:xfrm>
          <a:off x="1403280" y="3429000"/>
          <a:ext cx="594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429000"/>
                    <a:ext cx="594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26"/>
          <p:cNvGraphicFramePr/>
          <p:nvPr/>
        </p:nvGraphicFramePr>
        <p:xfrm>
          <a:off x="1473120" y="3067200"/>
          <a:ext cx="6197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3067200"/>
                    <a:ext cx="6197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27"/>
          <p:cNvGraphicFramePr/>
          <p:nvPr/>
        </p:nvGraphicFramePr>
        <p:xfrm>
          <a:off x="1204920" y="3429000"/>
          <a:ext cx="61214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3429000"/>
                    <a:ext cx="6121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26"/>
          <p:cNvGraphicFramePr/>
          <p:nvPr/>
        </p:nvGraphicFramePr>
        <p:xfrm>
          <a:off x="1168560" y="3067200"/>
          <a:ext cx="68068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3067200"/>
                    <a:ext cx="68068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216160" y="3067200"/>
          <a:ext cx="47116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3067200"/>
                    <a:ext cx="47116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37"/>
          <p:cNvGraphicFramePr/>
          <p:nvPr/>
        </p:nvGraphicFramePr>
        <p:xfrm>
          <a:off x="2692440" y="3067200"/>
          <a:ext cx="37591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3067200"/>
                    <a:ext cx="37591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32920" y="1308240"/>
            <a:ext cx="846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chaque multiplication, place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irgule correctement dans le chiffre éc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n rou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15"/>
          <p:cNvGraphicFramePr/>
          <p:nvPr/>
        </p:nvGraphicFramePr>
        <p:xfrm>
          <a:off x="2305080" y="3067200"/>
          <a:ext cx="45338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3067200"/>
                    <a:ext cx="4533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6"/>
          <p:cNvGraphicFramePr/>
          <p:nvPr/>
        </p:nvGraphicFramePr>
        <p:xfrm>
          <a:off x="1860480" y="3067200"/>
          <a:ext cx="54230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3067200"/>
                    <a:ext cx="54230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26"/>
          <p:cNvGraphicFramePr/>
          <p:nvPr/>
        </p:nvGraphicFramePr>
        <p:xfrm>
          <a:off x="1689120" y="3067200"/>
          <a:ext cx="5765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3067200"/>
                    <a:ext cx="5765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2"/>
          <p:cNvGraphicFramePr/>
          <p:nvPr/>
        </p:nvGraphicFramePr>
        <p:xfrm>
          <a:off x="1619280" y="3429000"/>
          <a:ext cx="5931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931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28"/>
          <p:cNvGraphicFramePr/>
          <p:nvPr/>
        </p:nvGraphicFramePr>
        <p:xfrm>
          <a:off x="1332000" y="3429000"/>
          <a:ext cx="586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429000"/>
                    <a:ext cx="586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26"/>
          <p:cNvGraphicFramePr/>
          <p:nvPr/>
        </p:nvGraphicFramePr>
        <p:xfrm>
          <a:off x="1258920" y="3429000"/>
          <a:ext cx="65660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429000"/>
                    <a:ext cx="6566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6"/>
          <p:cNvGraphicFramePr/>
          <p:nvPr/>
        </p:nvGraphicFramePr>
        <p:xfrm>
          <a:off x="2124000" y="3429000"/>
          <a:ext cx="4597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429000"/>
                    <a:ext cx="4597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28"/>
          <p:cNvGraphicFramePr/>
          <p:nvPr/>
        </p:nvGraphicFramePr>
        <p:xfrm>
          <a:off x="2268360" y="3357720"/>
          <a:ext cx="35053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5053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2050920" y="3429000"/>
          <a:ext cx="4368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429000"/>
                    <a:ext cx="4368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28"/>
          <p:cNvGraphicFramePr/>
          <p:nvPr/>
        </p:nvGraphicFramePr>
        <p:xfrm>
          <a:off x="1763640" y="3429000"/>
          <a:ext cx="5181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429000"/>
                    <a:ext cx="5181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1T18:19:34Z</dcterms:modified>
  <cp:revision>19</cp:revision>
  <dc:subject/>
  <dc:title>Diapositive 1</dc:title>
</cp:coreProperties>
</file>